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8.gif" ContentType="image/gif"/>
  <Override PartName="/ppt/media/image21.wmf" ContentType="image/x-wmf"/>
  <Override PartName="/ppt/media/image7.gif" ContentType="image/gif"/>
  <Override PartName="/ppt/media/image10.jpeg" ContentType="image/jpeg"/>
  <Override PartName="/ppt/media/image9.wmf" ContentType="image/x-wmf"/>
  <Override PartName="/ppt/media/image14.png" ContentType="image/png"/>
  <Override PartName="/ppt/media/image6.gif" ContentType="image/gif"/>
  <Override PartName="/ppt/media/image5.gif" ContentType="image/gif"/>
  <Override PartName="/ppt/media/image13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gif" ContentType="image/gif"/>
  <Override PartName="/ppt/media/image20.jpeg" ContentType="image/jpeg"/>
  <Override PartName="/ppt/media/image12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2D118D-9D0C-4EBD-B772-EF87B0F6EFD6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E7EF69-B4DE-4947-BEFE-11FE526644E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63B6E4-4493-47DC-A909-8B7CE67A853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5459-2383-4E06-8FFD-DB2D0A601E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18FE9-043C-4A32-82A3-3018844D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250A7-C54B-4405-B035-DC763CDE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E6BE-2E83-4073-AD2B-AEA56931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C96A-0097-4F3B-85FD-A07892D1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402840"/>
            <a:ext cx="7770960" cy="71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CB73A-24BE-4E65-B036-FC211880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36F3-319B-434E-99B2-3C1E4211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B3E05-B24A-4646-8F7C-5B0ADD17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53A3-73B3-49A3-A5D9-354BE450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23FA3-5081-43E1-B9CA-DF8EB6E1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0476-FA43-441E-ACBC-E8C3DB47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F187-DA41-4D99-A9F9-BC3B480131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402840"/>
            <a:ext cx="7770960" cy="71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76765e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76765e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76765e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76765e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02840"/>
            <a:ext cx="7770960" cy="15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6A43C28-734A-44A0-BA9F-3265D4A0675B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0;&#1084;&#1089;&#1082;&#1080;&#1077;_&#1094;&#1080;&#1092;&#1088;&#1099;" TargetMode="External"/><Relationship Id="rId2" Type="http://schemas.openxmlformats.org/officeDocument/2006/relationships/hyperlink" Target="http://ru.wikipedia.org/wiki/&#1056;&#1080;&#1084;&#1089;&#1082;&#1080;&#1077;_&#1094;&#1080;&#1092;&#1088;&#1099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42960" y="538200"/>
            <a:ext cx="77724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 Narrow"/>
              </a:rPr>
              <a:t>Министерство обороны Российской Федерации</a:t>
            </a:r>
            <a:br>
              <a:rPr sz="1600"/>
            </a:br>
            <a:r>
              <a:rPr b="1" lang="ru-RU" sz="1600" spc="-1" strike="noStrike">
                <a:solidFill>
                  <a:srgbClr val="333300"/>
                </a:solidFill>
                <a:latin typeface="Arial Narrow"/>
              </a:rPr>
              <a:t>Федеральное государственное общеобразовательное учреждение-</a:t>
            </a:r>
            <a:br>
              <a:rPr sz="1600"/>
            </a:br>
            <a:r>
              <a:rPr b="1" lang="ru-RU" sz="1600" spc="-1" strike="noStrike">
                <a:solidFill>
                  <a:srgbClr val="333300"/>
                </a:solidFill>
                <a:latin typeface="Arial Narrow"/>
              </a:rPr>
              <a:t>средняя общеобразовательная школа №151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14240" y="2214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6640" algn="ctr">
              <a:lnSpc>
                <a:spcPct val="100000"/>
              </a:lnSpc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ru-RU" sz="4800" spc="-1" strike="noStrike">
                <a:solidFill>
                  <a:srgbClr val="4a4800"/>
                </a:solidFill>
                <a:latin typeface="Monotype Corsiva"/>
              </a:rPr>
              <a:t>Римская система счисления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838080" indent="-836640" algn="ctr">
              <a:lnSpc>
                <a:spcPct val="100000"/>
              </a:lnSpc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ru-RU" sz="4800" spc="-1" strike="noStrike">
                <a:solidFill>
                  <a:srgbClr val="6161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362840" y="557208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2010 г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572080" y="4714920"/>
            <a:ext cx="27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Автор - Макаренко Анастас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85960" y="3500280"/>
            <a:ext cx="752400" cy="76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57760" y="3357720"/>
            <a:ext cx="895320" cy="838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715000" y="3429000"/>
            <a:ext cx="628560" cy="800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143160" y="4500720"/>
            <a:ext cx="857520" cy="780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7572240" y="3286080"/>
            <a:ext cx="1000440" cy="1071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643040" y="5000760"/>
            <a:ext cx="72396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71760" y="42876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42960" y="785880"/>
            <a:ext cx="7929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правило сложения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Если меньшая цифра стоит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Monotype Corsiva"/>
              </a:rPr>
              <a:t>после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большей, то к большей следует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Monotype Corsiva"/>
              </a:rPr>
              <a:t>прибавить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 меньшую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VIII = 5 + 3 = 8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XI = 10 + 1 = 1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XXXI = 10 + 10 + 10 + 1 = 3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42960" y="357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16100"/>
                </a:solidFill>
                <a:latin typeface="Arial Narrow"/>
              </a:rPr>
              <a:t>РИМСКИЕ ЧИСЛА  В РОСС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асы-куранты Спасской  башн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11360" y="1463760"/>
            <a:ext cx="4260960" cy="48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0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dur="indefinite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4240" y="2000160"/>
            <a:ext cx="807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37300"/>
                </a:solidFill>
                <a:latin typeface="Monotype Corsiva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4a4800"/>
                </a:solidFill>
                <a:latin typeface="Monotype Corsiva"/>
                <a:ea typeface="Times New Roman"/>
              </a:rPr>
              <a:t>Памятник  Петру  </a:t>
            </a:r>
            <a:r>
              <a:rPr b="1" lang="en-US" sz="4400" spc="-1" strike="noStrike">
                <a:solidFill>
                  <a:srgbClr val="4a4800"/>
                </a:solidFill>
                <a:latin typeface="Monotype Corsiva"/>
                <a:ea typeface="Times New Roman"/>
              </a:rPr>
              <a:t>I</a:t>
            </a:r>
            <a:r>
              <a:rPr b="1" lang="ru-RU" sz="4400" spc="-1" strike="noStrike">
                <a:solidFill>
                  <a:srgbClr val="4a4800"/>
                </a:solidFill>
                <a:latin typeface="Monotype Corsiva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a4800"/>
                </a:solidFill>
                <a:latin typeface="Monotype Corsiva"/>
                <a:ea typeface="Times New Roman"/>
              </a:rPr>
              <a:t>в Санкт - Петербурге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98520" y="517680"/>
            <a:ext cx="6540480" cy="58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dur="indefinite" fill="hold">
                      <p:stCondLst>
                        <p:cond delay="0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dur="indefinite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30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205560"/>
            <a:ext cx="84297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a4800"/>
                </a:solidFill>
                <a:latin typeface="Monotype Corsiva"/>
                <a:ea typeface="Times New Roman"/>
              </a:rPr>
              <a:t>На гранитном постаменте памятника есть число, записанное римскими цифрам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Academy Engraved LET"/>
                <a:ea typeface="Times New Roman"/>
              </a:rPr>
              <a:t>MDCCLXXXII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1000 + 500 + 100 + 100 + 50 + 3*10 + 2  =  1782 год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Это год открытия памятн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4240" y="1285920"/>
            <a:ext cx="2710080" cy="4857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00280" y="1214280"/>
            <a:ext cx="492948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Monotype Corsiva"/>
              </a:rPr>
              <a:t>Римская система нумерации, господствовавшая в Европе  в течение двух тысяч лет,   в настоящее время находит весьма ограниченное применение. В русском языке римские цифры используются в следующих случаях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714240" y="420840"/>
            <a:ext cx="7772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16100"/>
                </a:solidFill>
                <a:latin typeface="Arial Narrow"/>
              </a:rPr>
              <a:t>Применение римских цифр</a:t>
            </a:r>
            <a:r>
              <a:rPr b="0" lang="ru-RU" sz="4400" spc="-1" strike="noStrike">
                <a:solidFill>
                  <a:srgbClr val="6161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7120" y="500040"/>
            <a:ext cx="8786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омер века или тысячелетия: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XIX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ек,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ысячелетие до н. э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рядковый номер монарха: Карл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 V,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Екатерина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омер тома в многотомной книге (иногда — номера частей книги, разделов или глав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некоторых изданиях — номера листов с предисловием к книге, чтобы не исправлять ссылки внутри основного текста при изменении предислов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аркировка циферблатов часов «под старину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ные важные события или пункты списка, например: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V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постулат Евклида,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мировая война,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XXII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ъезд КПСС и т. п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dur="indefinite" fill="hold">
                      <p:stCondLst>
                        <p:cond delay="0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71680" y="217440"/>
            <a:ext cx="777240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333300"/>
                </a:solidFill>
                <a:latin typeface="Arial Narrow"/>
              </a:rPr>
              <a:t>Информационные ресурс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86080" y="4429080"/>
            <a:ext cx="1820880" cy="1500120"/>
            <a:chOff x="3286080" y="4429080"/>
            <a:chExt cx="1820880" cy="150012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3286080" y="4429080"/>
              <a:ext cx="182088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286080" y="4429080"/>
              <a:ext cx="182088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714240" y="1357200"/>
            <a:ext cx="771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. И. Глейзер, История математики в школе, 1964г.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http://goldlara.narod.ru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позиционные и непозиционные системы счисл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http:/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u.wikipedia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ртинки, использованные в презентации, с сайта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tt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//images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yandex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5327640" y="828720"/>
            <a:ext cx="2712960" cy="2255760"/>
            <a:chOff x="5327640" y="828720"/>
            <a:chExt cx="2712960" cy="225576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327640" y="828720"/>
              <a:ext cx="271296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327640" y="828720"/>
              <a:ext cx="2712960" cy="22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357800" y="4214880"/>
            <a:ext cx="41716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4a4800"/>
                </a:solidFill>
                <a:latin typeface="Monotype Corsiva"/>
              </a:rPr>
              <a:t>Руководитель   Полищук Ольга Владимировна, учитель математ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00040" y="785880"/>
            <a:ext cx="44290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4a4800"/>
                </a:solidFill>
                <a:latin typeface="Monotype Corsiva"/>
              </a:rPr>
              <a:t>Автор работы    Макаренко Анастасия, ученица 6 класса ФГОУ СОШ №15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725480" y="4108320"/>
            <a:ext cx="2187720" cy="1987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857760" y="3143160"/>
            <a:ext cx="761760" cy="7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42960" y="857160"/>
            <a:ext cx="77724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a4800"/>
                </a:solidFill>
                <a:latin typeface="Arial Narrow"/>
              </a:rPr>
              <a:t>Мы узнае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a4800"/>
                </a:solidFill>
                <a:latin typeface="Arial Narrow"/>
              </a:rPr>
              <a:t>1. КОГДА ПОЯВИЛИСЬ РИМСКИЕ ЦИФР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a4800"/>
                </a:solidFill>
                <a:latin typeface="Arial Narrow"/>
              </a:rPr>
              <a:t>2. КАК ВЫГЛЯДЯТ ЦИФР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a4800"/>
                </a:solidFill>
                <a:latin typeface="Arial Narrow"/>
              </a:rPr>
              <a:t>3. ГДЕ МОЖНО УВИДЕТЬ ЦИФРЫ В РОСС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a4800"/>
                </a:solidFill>
                <a:latin typeface="Arial Narrow"/>
              </a:rPr>
              <a:t>4. О ПРИМЕНЕНИИ РИМСКИХ ЦИФР В НАСТОЯЩЕЕ ВРЕМ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57760" y="5143680"/>
            <a:ext cx="1000080" cy="94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00040" y="-397800"/>
            <a:ext cx="8072640" cy="7407720"/>
          </a:xfrm>
          <a:prstGeom prst="rect">
            <a:avLst/>
          </a:prstGeom>
          <a:noFill/>
          <a:ln w="93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a4800"/>
                </a:solidFill>
                <a:latin typeface="Monotype Corsiva"/>
              </a:rPr>
              <a:t>Римская пятеричная </a:t>
            </a:r>
            <a:r>
              <a:rPr b="1" lang="ru-RU" sz="2800" spc="-1" strike="noStrike">
                <a:solidFill>
                  <a:srgbClr val="4a4800"/>
                </a:solidFill>
                <a:latin typeface="Monotype Corsiva"/>
                <a:ea typeface="Times New Roman"/>
              </a:rPr>
              <a:t> система счисления   самая известная система, после «арабской». Она возникла   более двух с половиной тысяч лет назад в Древнем Рим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a4800"/>
                </a:solidFill>
                <a:latin typeface="Monotype Corsiva"/>
              </a:rPr>
              <a:t>О происхождении римских цифр достоверных сведений нет. Эти цифры были заимствованы римлянами у другого народа (скорее всего этрусков). Такая нумерация преобладала в Италии до XIII века, а в других странах Западной Европы - до XVI ве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57240" y="4071960"/>
            <a:ext cx="557244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00080" y="405360"/>
            <a:ext cx="678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a4800"/>
                </a:solidFill>
                <a:latin typeface="Monotype Corsiva"/>
                <a:ea typeface="Times New Roman"/>
              </a:rPr>
              <a:t>Предполагаемое происхождение римских циф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5680" y="1847880"/>
            <a:ext cx="6450120" cy="4486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2017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42960" y="214200"/>
            <a:ext cx="7772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4a4800"/>
                </a:solidFill>
                <a:latin typeface="Monotype Corsiva"/>
              </a:rPr>
              <a:t>Написание римских цифр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43000" y="1285920"/>
          <a:ext cx="7072200" cy="4643280"/>
        </p:xfrm>
        <a:graphic>
          <a:graphicData uri="http://schemas.openxmlformats.org/drawingml/2006/table">
            <a:tbl>
              <a:tblPr/>
              <a:tblGrid>
                <a:gridCol w="3535200"/>
                <a:gridCol w="3537000"/>
              </a:tblGrid>
              <a:tr h="3985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cc"/>
                      </a:solidFill>
                    </a:lnL>
                    <a:lnR w="2880">
                      <a:solidFill>
                        <a:srgbClr val="ffffcc"/>
                      </a:solidFill>
                    </a:lnR>
                    <a:lnT w="288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solidFill>
                      <a:srgbClr val="e7ff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мский символ</a:t>
                      </a:r>
                      <a:r>
                        <a:rPr b="0" lang="ru-RU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cc"/>
                      </a:solidFill>
                    </a:lnL>
                    <a:lnR w="2880">
                      <a:solidFill>
                        <a:srgbClr val="ffffcc"/>
                      </a:solidFill>
                    </a:lnR>
                    <a:lnT w="2880">
                      <a:solidFill>
                        <a:srgbClr val="ffffcc"/>
                      </a:solidFill>
                    </a:lnT>
                    <a:lnB w="9360">
                      <a:solidFill>
                        <a:srgbClr val="ffffcc"/>
                      </a:solidFill>
                    </a:lnB>
                    <a:solidFill>
                      <a:srgbClr val="e7ffa3"/>
                    </a:solidFill>
                  </a:tcPr>
                </a:tc>
              </a:tr>
              <a:tr h="606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cc"/>
                      </a:solidFill>
                    </a:lnL>
                    <a:lnR w="288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28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cc"/>
                      </a:solidFill>
                    </a:lnL>
                    <a:lnR w="2880">
                      <a:solidFill>
                        <a:srgbClr val="ffffcc"/>
                      </a:solidFill>
                    </a:lnR>
                    <a:lnT w="9360">
                      <a:solidFill>
                        <a:srgbClr val="ffffcc"/>
                      </a:solidFill>
                    </a:lnT>
                    <a:lnB w="28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cc"/>
                      </a:solidFill>
                    </a:lnL>
                    <a:lnR w="2880">
                      <a:solidFill>
                        <a:srgbClr val="ffffcc"/>
                      </a:solidFill>
                    </a:lnR>
                    <a:lnT w="2880">
                      <a:solidFill>
                        <a:srgbClr val="ffffcc"/>
                      </a:solidFill>
                    </a:lnT>
                    <a:lnB w="28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cc"/>
                      </a:solidFill>
                    </a:lnL>
                    <a:lnR w="2880">
                      <a:solidFill>
                        <a:srgbClr val="ffffcc"/>
                      </a:solidFill>
                    </a:lnR>
                    <a:lnT w="2880">
                      <a:solidFill>
                        <a:srgbClr val="ffffcc"/>
                      </a:solidFill>
                    </a:lnT>
                    <a:lnB w="28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cc"/>
                      </a:solidFill>
                    </a:lnL>
                    <a:lnR w="2880">
                      <a:solidFill>
                        <a:srgbClr val="ffffcc"/>
                      </a:solidFill>
                    </a:lnR>
                    <a:lnT w="2880">
                      <a:solidFill>
                        <a:srgbClr val="ffffcc"/>
                      </a:solidFill>
                    </a:lnT>
                    <a:lnB w="28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cc"/>
                      </a:solidFill>
                    </a:lnL>
                    <a:lnR w="2880">
                      <a:solidFill>
                        <a:srgbClr val="ffffcc"/>
                      </a:solidFill>
                    </a:lnR>
                    <a:lnT w="2880">
                      <a:solidFill>
                        <a:srgbClr val="ffffcc"/>
                      </a:solidFill>
                    </a:lnT>
                    <a:lnB w="28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cc"/>
                      </a:solidFill>
                    </a:lnL>
                    <a:lnR w="2880">
                      <a:solidFill>
                        <a:srgbClr val="ffffcc"/>
                      </a:solidFill>
                    </a:lnR>
                    <a:lnT w="2880">
                      <a:solidFill>
                        <a:srgbClr val="ffffcc"/>
                      </a:solidFill>
                    </a:lnT>
                    <a:lnB w="28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cc"/>
                      </a:solidFill>
                    </a:lnL>
                    <a:lnR w="2880">
                      <a:solidFill>
                        <a:srgbClr val="ffffcc"/>
                      </a:solidFill>
                    </a:lnR>
                    <a:lnT w="2880">
                      <a:solidFill>
                        <a:srgbClr val="ffffcc"/>
                      </a:solidFill>
                    </a:lnT>
                    <a:lnB w="28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cc"/>
                      </a:solidFill>
                    </a:lnL>
                    <a:lnR w="2880">
                      <a:solidFill>
                        <a:srgbClr val="ffffcc"/>
                      </a:solidFill>
                    </a:lnR>
                    <a:lnT w="2880">
                      <a:solidFill>
                        <a:srgbClr val="ffffcc"/>
                      </a:solidFill>
                    </a:lnT>
                    <a:lnB w="28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cc"/>
                      </a:solidFill>
                    </a:lnL>
                    <a:lnR w="2880">
                      <a:solidFill>
                        <a:srgbClr val="ffffcc"/>
                      </a:solidFill>
                    </a:lnR>
                    <a:lnT w="2880">
                      <a:solidFill>
                        <a:srgbClr val="ffffcc"/>
                      </a:solidFill>
                    </a:lnT>
                    <a:lnB w="28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cc"/>
                      </a:solidFill>
                    </a:lnL>
                    <a:lnR w="2880">
                      <a:solidFill>
                        <a:srgbClr val="ffffcc"/>
                      </a:solidFill>
                    </a:lnR>
                    <a:lnT w="2880">
                      <a:solidFill>
                        <a:srgbClr val="ffffcc"/>
                      </a:solidFill>
                    </a:lnT>
                    <a:lnB w="28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cc"/>
                      </a:solidFill>
                    </a:lnL>
                    <a:lnR w="2880">
                      <a:solidFill>
                        <a:srgbClr val="ffffcc"/>
                      </a:solidFill>
                    </a:lnR>
                    <a:lnT w="2880">
                      <a:solidFill>
                        <a:srgbClr val="ffffcc"/>
                      </a:solidFill>
                    </a:lnT>
                    <a:lnB w="28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cc"/>
                      </a:solidFill>
                    </a:lnL>
                    <a:lnR w="2880">
                      <a:solidFill>
                        <a:srgbClr val="ffffcc"/>
                      </a:solidFill>
                    </a:lnR>
                    <a:lnT w="2880">
                      <a:solidFill>
                        <a:srgbClr val="ffffcc"/>
                      </a:solidFill>
                    </a:lnT>
                    <a:lnB w="28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cc"/>
                      </a:solidFill>
                    </a:lnL>
                    <a:lnR w="2880">
                      <a:solidFill>
                        <a:srgbClr val="ffffcc"/>
                      </a:solidFill>
                    </a:lnR>
                    <a:lnT w="2880">
                      <a:solidFill>
                        <a:srgbClr val="ffffcc"/>
                      </a:solidFill>
                    </a:lnT>
                    <a:lnB w="28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00040" y="121428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700"/>
            </a:br>
            <a:r>
              <a:rPr b="1" lang="ru-RU" sz="4800" spc="-1" strike="noStrike">
                <a:solidFill>
                  <a:srgbClr val="4a4800"/>
                </a:solidFill>
                <a:latin typeface="Monotype Corsiva"/>
              </a:rPr>
              <a:t>В русском языке для закрепления в памяти буквенных обозначений цифр в порядке убывания существует мнемоническое правило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786200" y="1214280"/>
            <a:ext cx="335772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0" lang="ru-RU" sz="3600" spc="-1" strike="noStrike">
                <a:solidFill>
                  <a:srgbClr val="4a4800"/>
                </a:solidFill>
                <a:latin typeface="Arial"/>
              </a:rPr>
              <a:t>ы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D</a:t>
            </a:r>
            <a:r>
              <a:rPr b="0" lang="ru-RU" sz="3600" spc="-1" strike="noStrike">
                <a:solidFill>
                  <a:srgbClr val="4a4800"/>
                </a:solidFill>
                <a:latin typeface="Arial"/>
              </a:rPr>
              <a:t>ари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0" lang="ru-RU" sz="3600" spc="-1" strike="noStrike">
                <a:solidFill>
                  <a:srgbClr val="4a4800"/>
                </a:solidFill>
                <a:latin typeface="Arial"/>
              </a:rPr>
              <a:t>очные</a:t>
            </a:r>
            <a:r>
              <a:rPr b="0" lang="ru-RU" sz="3600" spc="-1" strike="noStrike">
                <a:solidFill>
                  <a:srgbClr val="737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L</a:t>
            </a:r>
            <a:r>
              <a:rPr b="0" lang="ru-RU" sz="3600" spc="-1" strike="noStrike">
                <a:solidFill>
                  <a:srgbClr val="4a4800"/>
                </a:solidFill>
                <a:latin typeface="Arial"/>
              </a:rPr>
              <a:t>имоны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Х</a:t>
            </a:r>
            <a:r>
              <a:rPr b="0" lang="ru-RU" sz="3600" spc="-1" strike="noStrike">
                <a:solidFill>
                  <a:srgbClr val="4a4800"/>
                </a:solidFill>
                <a:latin typeface="Arial"/>
              </a:rPr>
              <a:t>ватит</a:t>
            </a:r>
            <a:r>
              <a:rPr b="0" lang="ru-RU" sz="3600" spc="-1" strike="noStrike">
                <a:solidFill>
                  <a:srgbClr val="737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V</a:t>
            </a:r>
            <a:r>
              <a:rPr b="0" lang="ru-RU" sz="3600" spc="-1" strike="noStrike">
                <a:solidFill>
                  <a:srgbClr val="4a4800"/>
                </a:solidFill>
                <a:latin typeface="Arial"/>
              </a:rPr>
              <a:t>сем</a:t>
            </a:r>
            <a:r>
              <a:rPr b="0" lang="ru-RU" sz="3600" spc="-1" strike="noStrike">
                <a:solidFill>
                  <a:srgbClr val="737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4a4800"/>
                </a:solidFill>
                <a:latin typeface="Arial"/>
              </a:rPr>
              <a:t>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14200" y="2571840"/>
            <a:ext cx="1714680" cy="128592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000160" y="3786120"/>
            <a:ext cx="1714680" cy="1214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rot="2460000">
            <a:off x="2336400" y="1387440"/>
            <a:ext cx="1371600" cy="109872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500120" y="2500200"/>
            <a:ext cx="1571760" cy="138456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 rot="1620000">
            <a:off x="2341080" y="2641680"/>
            <a:ext cx="1535400" cy="1228680"/>
          </a:xfrm>
          <a:prstGeom prst="pi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 rot="20700000">
            <a:off x="695160" y="3831840"/>
            <a:ext cx="1598760" cy="1174680"/>
          </a:xfrm>
          <a:prstGeom prst="pi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85880" y="565776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оответственно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4a4800"/>
                </a:solidFill>
                <a:latin typeface="Arial"/>
              </a:rPr>
              <a:t>M, D, C, L, X, V, 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 rot="2460000">
            <a:off x="732960" y="1395360"/>
            <a:ext cx="1371600" cy="1098720"/>
          </a:xfrm>
          <a:prstGeom prst="pi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0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14240" y="1500120"/>
            <a:ext cx="7500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4a4800"/>
                </a:solidFill>
                <a:latin typeface="Monotype Corsiva"/>
              </a:rPr>
              <a:t>Остальные числа записывались при  помощи этих символов с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4a48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4a4800"/>
                </a:solidFill>
                <a:latin typeface="Monotype Corsiva"/>
              </a:rPr>
              <a:t>применением  следующих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4a4800"/>
                </a:solidFill>
                <a:latin typeface="Monotype Corsiva"/>
              </a:rPr>
              <a:t>правил  записи чисел 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42960" y="1000080"/>
            <a:ext cx="77724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правило вычитани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   </a:t>
            </a: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Если меньшая цифра стоит </a:t>
            </a:r>
            <a:r>
              <a:rPr b="1" lang="ru-RU" sz="3600" spc="-1" strike="noStrike" u="sng">
                <a:solidFill>
                  <a:srgbClr val="a50021"/>
                </a:solidFill>
                <a:uFillTx/>
                <a:latin typeface="Monotype Corsiva"/>
              </a:rPr>
              <a:t>перед </a:t>
            </a: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большей, то из большей следует </a:t>
            </a:r>
            <a:r>
              <a:rPr b="1" lang="ru-RU" sz="3600" spc="-1" strike="noStrike" u="sng">
                <a:solidFill>
                  <a:srgbClr val="a50021"/>
                </a:solidFill>
                <a:uFillTx/>
                <a:latin typeface="Monotype Corsiva"/>
              </a:rPr>
              <a:t>вычесть</a:t>
            </a: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 меньшую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IV =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5 – 1 =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4                     IX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= 10 - 1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= 9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XC =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100 – 10 =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90 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2:18:01Z</dcterms:created>
  <dc:creator>УЧИТЕЛЬ</dc:creator>
  <dc:description/>
  <dc:language>en-US</dc:language>
  <cp:lastModifiedBy>c</cp:lastModifiedBy>
  <dcterms:modified xsi:type="dcterms:W3CDTF">2011-01-07T07:26:30Z</dcterms:modified>
  <cp:revision>54</cp:revision>
  <dc:subject/>
  <dc:title>Римская система счисления </dc:title>
</cp:coreProperties>
</file>