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1F42-63E0-413E-A11E-6154C63AA3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34A5-F81F-4339-9DD8-23A3F96BA7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DDC6-FA3D-4C0D-8055-6723427EAC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EF94-F7D1-4193-814D-E8BA1C010F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A7F9-0D0F-44E2-8A2E-231614919B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C5ED-E223-4193-9B13-3DD7F424E4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0BB2-A83D-47C1-B333-E0C53803D4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C163-FB22-4FD1-8E3B-B32A16015B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8108-47A7-4DF4-AA15-781EEBFD7F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3139-5564-4AD6-8721-DD94A81F8F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6009-254F-4747-9C76-4A93B36E4D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60A8-B0EB-43B1-811A-1F1078F9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39F-585F-4964-871B-01D124A5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6B3F-A05F-4ADF-A76D-1D7986EA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BDE8-EF59-4EF6-B07A-A1E0773C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4240-B531-4AD8-8091-2EEDCC0A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015-3A0D-47DC-BCA7-61533CF5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1B5-6178-479A-A215-6A0D4CDE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51B2-846F-4F65-B28E-BD35A534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CDB-0BA4-4ADB-882D-A5E823A7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D49-18F7-4403-A2EE-BC269C16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E9B2-2733-4EF7-8E7A-C73747BD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1D25-A964-4F1E-95B5-BE682B17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79D9-7FAE-45CB-92FF-62C4137CC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4304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Как я давлю …На что? Или куда?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А, может, как на меня давят?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Короче, моя лабораторная.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29120"/>
            <a:ext cx="64008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Физик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Давление твердых тел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440" y="571320"/>
            <a:ext cx="5486400" cy="479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бота выполнена учащейся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У Верхнекольцовской оош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ацинского района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остовской области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АСКОВОЙ ЮЛИЕЙ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14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т покоя ни на час: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автра физика у нас!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C:\Documents and Settings\я\Мои документы\Мои рисунки\OLYMPUS Sample\Sample\P1010437.JPG"/>
          <p:cNvPicPr/>
          <p:nvPr/>
        </p:nvPicPr>
        <p:blipFill>
          <a:blip r:embed="rId1"/>
          <a:stretch/>
        </p:blipFill>
        <p:spPr>
          <a:xfrm>
            <a:off x="3071880" y="714240"/>
            <a:ext cx="3143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400560" cy="587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Для домашнего заданья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ачинаю испытанья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C:\Documents and Settings\я\Мои документы\Мои рисунки\OLYMPUS Sample\Sample\P1010432.JPG"/>
          <p:cNvPicPr/>
          <p:nvPr/>
        </p:nvPicPr>
        <p:blipFill>
          <a:blip r:embed="rId1"/>
          <a:stretch/>
        </p:blipFill>
        <p:spPr>
          <a:xfrm>
            <a:off x="4214880" y="642960"/>
            <a:ext cx="432576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змерю массу свою и стула…</a:t>
            </a:r>
            <a:br>
              <a:rPr sz="32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не такая уж я дура…)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х для формулы сложу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бщую массу получу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m (моя)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стула)= 48 кг+3 кг= 51 кг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C:\Documents and Settings\я\Мои документы\Мои рисунки\OLYMPUS Sample\Sample\P1010435.JPG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я\Мои документы\Мои рисунки\OLYMPUS Sample\Sample\P1010431.JPG"/>
          <p:cNvPicPr/>
          <p:nvPr/>
        </p:nvPicPr>
        <p:blipFill>
          <a:blip r:embed="rId2"/>
          <a:stretch/>
        </p:blipFill>
        <p:spPr>
          <a:xfrm>
            <a:off x="5214960" y="2571840"/>
            <a:ext cx="296388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4357800"/>
            <a:ext cx="654372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илу тяжести найду…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формулы, что ль, зря учу?)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F =9,8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9,8Н/кг·51кг=499Н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C:\Documents and Settings\я\Мои документы\Мои рисунки\OLYMPUS Sample\Sample\P1010434.JPG"/>
          <p:cNvPicPr/>
          <p:nvPr/>
        </p:nvPicPr>
        <p:blipFill>
          <a:blip r:embed="rId1"/>
          <a:stretch/>
        </p:blipFill>
        <p:spPr>
          <a:xfrm>
            <a:off x="3714840" y="285840"/>
            <a:ext cx="5111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00240"/>
            <a:ext cx="3257640" cy="31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А теперь без промедленья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ачинаю измеренья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0,0024 м² получаю…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C:\Documents and Settings\я\Мои документы\Мои рисунки\OLYMPUS Sample\Sample\P1010433.JPG"/>
          <p:cNvPicPr/>
          <p:nvPr/>
        </p:nvPicPr>
        <p:blipFill>
          <a:blip r:embed="rId1"/>
          <a:stretch/>
        </p:blipFill>
        <p:spPr>
          <a:xfrm>
            <a:off x="3935520" y="272880"/>
            <a:ext cx="43909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5960" y="5000400"/>
            <a:ext cx="678024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ычисленья продолжаю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→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499Н/0,0024м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207916П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C:\Documents and Settings\я\Мои документы\Мои рисунки\OLYMPUS Sample\Sample\P1010436.JPG"/>
          <p:cNvPicPr/>
          <p:nvPr/>
        </p:nvPicPr>
        <p:blipFill>
          <a:blip r:embed="rId1"/>
          <a:stretch/>
        </p:blipFill>
        <p:spPr>
          <a:xfrm>
            <a:off x="2095560" y="612720"/>
            <a:ext cx="51832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Есть ответ-то наконец!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=207916 Па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Ну разве я не молодец?)</a:t>
            </a:r>
            <a:br>
              <a:rPr sz="3200"/>
            </a:b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C:\Documents and Settings\я\Мои документы\Мои рисунки\OLYMPUS Sample\Sample\P1010438.JPG"/>
          <p:cNvPicPr/>
          <p:nvPr/>
        </p:nvPicPr>
        <p:blipFill>
          <a:blip r:embed="rId1"/>
          <a:stretch/>
        </p:blipFill>
        <p:spPr>
          <a:xfrm>
            <a:off x="1857240" y="24289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14240" y="785520"/>
            <a:ext cx="7772400" cy="535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 (стула) – 3 кг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 (моего тела) – 48 кг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S опоры ножек стула – 24 см²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 (стула со мной) - 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 (общая)=48 кг+3 кг=51 кг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→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F =9,8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=9,8Н/кг·51кг=499Н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→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=499Н/0,0024м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=207916Па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твет: Р=207916 Па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5:57:19Z</dcterms:created>
  <dc:creator>я</dc:creator>
  <dc:description/>
  <dc:language>en-US</dc:language>
  <cp:lastModifiedBy>ласкова</cp:lastModifiedBy>
  <dcterms:modified xsi:type="dcterms:W3CDTF">2011-01-14T17:48:32Z</dcterms:modified>
  <cp:revision>11</cp:revision>
  <dc:subject/>
  <dc:title>Как я давлю …На что? Или куда? А, может, как на меня давят? Короче, моя лабораторная.</dc:title>
</cp:coreProperties>
</file>