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795-75FC-48E4-9D88-AC1D5940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D64-D600-4B88-BCD7-4F898739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3F13-40FE-4F6E-8D1D-B9ED2DED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755-5DB8-412F-A80B-677F3936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82A5-2F01-43F8-BB7C-EAD4E351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DDE7-B0D0-4167-9DDD-D3383652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8F61-D147-4D4F-A147-8726B9BB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2692-BEC6-4249-AA92-57B33801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39BC-BDC2-4FEF-A833-A4173A94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-54000"/>
            <a:ext cx="9066240" cy="91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801C-62D5-4423-884A-F5F77E5E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E0C6-5809-484D-A20E-FE719187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26A-D2D7-47E1-AD63-26E489D8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D53F-7005-4D9D-9296-3042E28D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DDFE-FF2D-48F0-A8BF-B5975E8E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06FD-808B-4F61-BB00-BA7A8763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7029-AD25-422F-A6E0-FB9E9CA6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4E23-736B-451C-8EEB-961B9E54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FFC8F-0596-4B0D-BA60-D5F25DF6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231B4-2629-4029-AB57-0534234C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3A425-7B1B-4AC8-89E7-8BBB0EDD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7D34C-43B4-475A-B890-B0B1F746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61F1C-6EDF-4487-AE03-58B09F91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DF99-DFDA-4D23-80FD-19B131BF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3280" y="-54000"/>
            <a:ext cx="9066240" cy="91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7732D-40AF-4508-AE18-66FCCFA9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9B6A2-5A5D-46C0-AD2E-4C80093A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C11B6-ECFF-448A-B035-DE58E429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ECFCB-2A85-4EF0-9907-B9443DDE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BBA3A-F238-44EC-87EF-92F6B421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0EB48-0718-4215-8A2D-D95C7C60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EDF56-09B7-4E2F-938B-A2580617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4B90-3609-43A2-BF81-B7469E4F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893-117A-4ACF-9318-5F47F3AC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-54000"/>
            <a:ext cx="9066240" cy="91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805-18FF-4CD1-92B9-29700D26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935-0777-4C8E-8777-5403BD73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BA4-0711-471B-8DF5-E0BA8081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84C-612E-433B-9366-8E5909B0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52465-5BEB-4476-A5E5-0B7BF5B435C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0EAB9-654E-4487-940D-ED500626C3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10080720" cy="3780000"/>
          </a:xfrm>
          <a:prstGeom prst="roundRect">
            <a:avLst>
              <a:gd name="adj" fmla="val 42"/>
            </a:avLst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-54000"/>
            <a:ext cx="90662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0CD4F-B96A-40BC-B420-F4B412CCB6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itstream Vera Sans"/>
              </a:rPr>
              <a:t>Условный театр в России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02920" y="1902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5940360" cy="6816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2700360"/>
            <a:ext cx="5938560" cy="48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0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79280" y="1220400"/>
            <a:ext cx="399744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а Фёдо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иссаржев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55800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10080720" cy="7548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39280" y="5940360"/>
            <a:ext cx="90709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андринский театр в Санкт-Петербур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20360" y="-360"/>
            <a:ext cx="9070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й театр имени Мейерхоль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502920" y="1260000"/>
            <a:ext cx="453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ппа Го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08560" y="0"/>
            <a:ext cx="47721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68000" y="179280"/>
            <a:ext cx="90709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над спектаклем «Клоп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5979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780000" y="2519280"/>
            <a:ext cx="6300720" cy="5040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114880" y="411120"/>
            <a:ext cx="4425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 Ильинский — исполнитель главной роли в спектакле «Клоп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0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x+(cos(-2*pi*(1-$))*-#ppt_x-sin(-2*pi*(1-$))*(1-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x+(cos(-2*pi*(1-$))*-#ppt_x-sin(-2*pi*(1-$))*(1-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+(sin(-2*pi*(1-$))*-#ppt_x+cos(-2*pi*(1-$))*(1-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+(sin(-2*pi*(1-$))*-#ppt_x+cos(-2*pi*(1-$))*(1-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02920" y="1399680"/>
            <a:ext cx="435780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рий Любим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60-е год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40360" y="0"/>
            <a:ext cx="50403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646520" y="5758920"/>
            <a:ext cx="5254560" cy="15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атр на Тага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4140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80000" y="1979640"/>
            <a:ext cx="5400720" cy="3600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60360" y="2879640"/>
            <a:ext cx="37800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0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68000" y="6066000"/>
            <a:ext cx="9070920" cy="13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.С. Станиславский и Вл.И. Немирович-Данче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02920" y="1902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502920" y="1902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dur="indefinite" fill="hold">
                      <p:stCondLst>
                        <p:cond delay="0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25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02920" y="1902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0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7559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546520" y="1399680"/>
            <a:ext cx="41734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рий Любим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2000-е год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2920" y="1902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6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dur="indefinite" fill="hold">
                      <p:stCondLst>
                        <p:cond delay="0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502920" y="1902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60360" y="0"/>
            <a:ext cx="953928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0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39280" y="6381720"/>
            <a:ext cx="90709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сковский Художественный теа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614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68000" y="-120600"/>
            <a:ext cx="907092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ппа МХ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726160" y="860040"/>
            <a:ext cx="38131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вол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мильевич Мейерхоль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46576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040360" y="1440000"/>
            <a:ext cx="5051520" cy="6119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-11160" y="-27000"/>
            <a:ext cx="5051520" cy="6326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8920" y="6300720"/>
            <a:ext cx="44262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.С Станислав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9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475240" y="179280"/>
            <a:ext cx="44258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smincho"/>
              </a:rPr>
              <a:t>Вс.Э. Мейерхоль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smincho"/>
              </a:rPr>
              <a:t>(19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40360" y="0"/>
            <a:ext cx="5040360" cy="755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40360" cy="7559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000" y="239400"/>
            <a:ext cx="90709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атр Ка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0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20000" cy="5940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979280" y="58680"/>
            <a:ext cx="377964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ед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ь а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879640" y="2519280"/>
            <a:ext cx="717876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219640" y="1902960"/>
            <a:ext cx="43545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5219640" cy="7558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18:46:17Z</dcterms:created>
  <dc:creator>Taiga </dc:creator>
  <dc:description/>
  <dc:language>en-US</dc:language>
  <cp:lastModifiedBy/>
  <cp:revision>1</cp:revision>
  <dc:subject/>
  <dc:title/>
</cp:coreProperties>
</file>