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5207-5105-41C7-8F64-0777BC743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E717-1B5F-4C39-A0CE-C26CEAB5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4D1C-5F7C-44B5-9D11-042C9B85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E00D-6087-4BF8-8B23-6D88EDFAF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98D8-D2C4-4D06-B905-839DDB0E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C667-79AD-49D1-978C-244F9457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AE4C-6214-45D6-8E70-65A92E92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3EE0-D275-49D7-9235-AEA1BA05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B70D-844D-4898-BE24-E1E85467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6183-4CA9-409A-ACEB-9CF2DF5C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624E-FD80-4CAE-A227-60C8C519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C9EB-53DA-478F-B1DC-29D6B041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99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1EE2-2A70-480D-86D6-E340EC248D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05968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ачественный анализ кофеинсодержищих продуктов и их влияние на организм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860640"/>
            <a:ext cx="6400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втор работы: Галиулина В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ченица 11 класса «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ОУ О(С)ОШ №2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уководитель: Мусаева К.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осква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то такое кофеин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феин – это алкалоид. Принадлежит к группе метилксантинов. Химическое назва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, 3, 7-триметилксантин. Содержится в чае, плодах кофейного дерева и какао, орехах к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DSC02775"/>
          <p:cNvPicPr/>
          <p:nvPr/>
        </p:nvPicPr>
        <p:blipFill>
          <a:blip r:embed="rId1"/>
          <a:stretch/>
        </p:blipFill>
        <p:spPr>
          <a:xfrm>
            <a:off x="395280" y="1700280"/>
            <a:ext cx="417672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учение кофеина экспериментальным путё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ми использовался метод возгонки. В сухую выпаривательную чашку клали исследуемый объект; сверху накрывали её воронкой. После этого чашку нагревали над пламенем спирто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DSC02788"/>
          <p:cNvPicPr/>
          <p:nvPr/>
        </p:nvPicPr>
        <p:blipFill>
          <a:blip r:embed="rId1"/>
          <a:stretch/>
        </p:blipFill>
        <p:spPr>
          <a:xfrm>
            <a:off x="5292720" y="1484280"/>
            <a:ext cx="3166920" cy="2374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DSC02789"/>
          <p:cNvPicPr/>
          <p:nvPr/>
        </p:nvPicPr>
        <p:blipFill>
          <a:blip r:embed="rId2"/>
          <a:stretch/>
        </p:blipFill>
        <p:spPr>
          <a:xfrm>
            <a:off x="5292720" y="4005360"/>
            <a:ext cx="31669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DSC02791"/>
          <p:cNvPicPr/>
          <p:nvPr/>
        </p:nvPicPr>
        <p:blipFill>
          <a:blip r:embed="rId1"/>
          <a:stretch/>
        </p:blipFill>
        <p:spPr>
          <a:xfrm>
            <a:off x="179280" y="260280"/>
            <a:ext cx="4392720" cy="33847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179280" y="386064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исталлы кофеина; чай содержит приме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DSC02803"/>
          <p:cNvPicPr/>
          <p:nvPr/>
        </p:nvPicPr>
        <p:blipFill>
          <a:blip r:embed="rId2"/>
          <a:stretch/>
        </p:blipFill>
        <p:spPr>
          <a:xfrm>
            <a:off x="4716360" y="2924280"/>
            <a:ext cx="4219560" cy="36734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4643280" y="1916280"/>
            <a:ext cx="42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офе содержиние кофеина меньше; содержит приме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5" descr="522026"/>
          <p:cNvPicPr/>
          <p:nvPr/>
        </p:nvPicPr>
        <p:blipFill>
          <a:blip r:embed="rId1"/>
          <a:stretch/>
        </p:blipFill>
        <p:spPr>
          <a:xfrm>
            <a:off x="468360" y="1413000"/>
            <a:ext cx="3311640" cy="2276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34"/>
          <p:cNvPicPr/>
          <p:nvPr/>
        </p:nvPicPr>
        <p:blipFill>
          <a:blip r:embed="rId2"/>
          <a:stretch/>
        </p:blipFill>
        <p:spPr>
          <a:xfrm>
            <a:off x="468360" y="3868560"/>
            <a:ext cx="2663640" cy="2413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2920" y="1413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ксперименте участвовало 60 человек различных возрастов. Мы измеряли пульс, давление, физическую, умственную активность. После этого испытуемым предлагался кофе; в другой день – кока кола. Затем – ч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ез 15 минут снова снимали показ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зультаты исследов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3933360"/>
            <a:ext cx="822960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й улучшал самочувствие испытуемых. Но не оказывал влияния на даление и пуль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выпитого кофе у испытуемых отмечался прилив бодрости. Повышалась умственная актив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вот после приёма колы мы наблюдали её снижение. Зато физическая активность возрастала момента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ияние кофе и кока колы на сосудистую систему см. в табли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clip3807"/>
          <p:cNvPicPr/>
          <p:nvPr/>
        </p:nvPicPr>
        <p:blipFill>
          <a:blip r:embed="rId1"/>
          <a:stretch/>
        </p:blipFill>
        <p:spPr>
          <a:xfrm>
            <a:off x="1042920" y="1409760"/>
            <a:ext cx="2952720" cy="2362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image012"/>
          <p:cNvPicPr/>
          <p:nvPr/>
        </p:nvPicPr>
        <p:blipFill>
          <a:blip r:embed="rId2"/>
          <a:stretch/>
        </p:blipFill>
        <p:spPr>
          <a:xfrm>
            <a:off x="4932360" y="1390680"/>
            <a:ext cx="319104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39640" y="333360"/>
          <a:ext cx="8353440" cy="5608800"/>
        </p:xfrm>
        <a:graphic>
          <a:graphicData uri="http://schemas.openxmlformats.org/drawingml/2006/table">
            <a:tbl>
              <a:tblPr/>
              <a:tblGrid>
                <a:gridCol w="1440000"/>
                <a:gridCol w="1584360"/>
                <a:gridCol w="1512720"/>
                <a:gridCol w="1295640"/>
                <a:gridCol w="2520720"/>
              </a:tblGrid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ф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ка ко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ра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– 2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/7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/8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щественных изменений в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дечно – сосудистой системы не наблюдалос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25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/7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/8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- 35 л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/8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/8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– 4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/8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/9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– 5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/7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/9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лет и бол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/8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/9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Text Box 259"/>
          <p:cNvSpPr/>
          <p:nvPr/>
        </p:nvSpPr>
        <p:spPr>
          <a:xfrm>
            <a:off x="468360" y="6021360"/>
            <a:ext cx="46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ерхние цифры – артериальное давление, нижние - пуль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RTEmagicC_chocolat_043_jpg"/>
          <p:cNvPicPr/>
          <p:nvPr/>
        </p:nvPicPr>
        <p:blipFill>
          <a:blip r:embed="rId1"/>
          <a:stretch/>
        </p:blipFill>
        <p:spPr>
          <a:xfrm>
            <a:off x="2556000" y="404640"/>
            <a:ext cx="4286160" cy="40006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7"/>
          <p:cNvSpPr/>
          <p:nvPr/>
        </p:nvSpPr>
        <p:spPr>
          <a:xfrm>
            <a:off x="1042920" y="501336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20:26:26Z</dcterms:created>
  <dc:creator>Portable</dc:creator>
  <dc:description/>
  <dc:language>en-US</dc:language>
  <cp:lastModifiedBy>Nomura</cp:lastModifiedBy>
  <dcterms:modified xsi:type="dcterms:W3CDTF">2011-01-28T12:27:26Z</dcterms:modified>
  <cp:revision>74</cp:revision>
  <dc:subject/>
  <dc:title>Кофеин</dc:title>
</cp:coreProperties>
</file>