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27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29.jpeg" ContentType="image/jpeg"/>
  <Override PartName="/ppt/media/image8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C08-7959-4169-82A5-A7FFA3FE4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: Соловцов Макс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: Соловцова Ольга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городская обл., г.Губкин, МОУ «СОШ №17»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457C-1DE0-43C0-802D-BC3FB7DA8F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530-31F7-4B48-BFDA-CB656E4A9C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C50-C5BE-427D-968F-3F30E8C7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335-2715-4D3D-87D3-C4032FA2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AA65-F7F5-4BC9-8E25-15F55D3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EAFB9-CF34-45E7-9AFF-8BD0128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6CBD9-856C-4247-B5C4-3AB1823A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54C03-9D9A-40B8-BEDD-C528D15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A4185-65E5-4DD6-8B2F-4ADC157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EBD14-03A0-4262-BC23-7593EA3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9FA3F-DC43-4BAD-84F5-531AB103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492E-555C-43F4-BFC2-C1372BAC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CDD51-E3A7-4DFF-8A9F-3469FFEA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F78FC-3715-4CC0-84A8-767CE30A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D63-4112-4B82-AD44-C46E8350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AE0D-C847-470E-847A-730852B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ADF49-61DF-4A45-8E94-220CFEF8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C3B83-B26B-489B-838F-F7A2D88C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A68C-BB90-4551-86E3-4EBDD084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A4FE1-AA58-4CA9-927C-4AF9608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6D1C9-0490-4637-BD94-CFF1FB7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81230-04B2-4B18-9C05-D32EB2B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5EFD7-601D-4792-B4DB-FD175F9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8A1CC-D503-4331-941B-F9A829E0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9CFB9-FFC1-4713-B0FD-0498945A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6A0-65FE-48D3-AB9E-67B6476F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82226-8F58-4FDE-8B5B-CD5DE0E9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262-6CF5-4DD4-8321-450697BA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8972-7AD0-4296-A8F3-9308FE0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C9F7-A34C-40F9-9494-0475882C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98DA-D269-4667-ACA1-F6292F2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CA26-2A0B-48F5-8E9A-842D7CC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0BC6-885F-4322-B463-4F7147EF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37D0-FD30-4270-86C1-66D0DA5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41-A83C-4306-B0FB-B86053A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76E4-4F60-4296-8EE8-D6AE126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502E-EDF1-4F89-94D2-E3F26EB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879C-0105-4A63-ADAB-F8CC7FF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423-7B84-4167-A957-F279F1A9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B6B-642B-49AA-9C80-0353BC37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23A6-7117-4054-9E67-AF7B6072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3CCF-89C6-4306-9704-AAD9B48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CAD7-9935-4C31-8082-F37A864A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AEC7-61D2-4943-B8E1-C3F97AD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01F9-18EF-4A52-900F-3726C5D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E4B-73A8-44B3-8A16-DFE4CD6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1B57-D9DF-4E35-9AB6-6A08A236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BCC7-81E4-4758-9E0F-ED25C31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9295-7ED2-43D2-9643-ABAABF9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D060-91B7-4B0C-8729-E6A85ED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E870-8F34-4725-A982-DFF1806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C222-E048-47EB-9E21-B2AE5EE4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319B-D4C9-4D85-97EC-3B3088D6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4244-96BB-4F0E-9D5A-C896331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61B8-5D0C-4ED3-A99A-AEE8D2C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D30F5-2AEC-4136-BAD0-4446BB8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224-37C9-422E-8BF5-91BB33B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FC60-F4BD-4355-AC0C-AD193987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4E28-B3AC-4982-BABE-ECB077D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95D9-B89C-4A9B-AC39-940F6AA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A99D-1201-4CF7-BAEF-6ABE000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5DB1-950C-4DB7-BFA1-8D6FAAE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7141-110C-48C6-AECD-3E77F14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BAEC-501F-45AA-A214-7162252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3D3D-5902-4B5F-960E-701A5927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18CE-CFDA-47D4-B7BB-56332215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3E40-4495-4EE3-BEDF-FC17CFEE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BFE-CFD0-4DB0-B368-38B6CC18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374E-EDBD-4C51-B0A2-908EC02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ED81-6523-4B17-8C21-6FE1696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0EE0-483E-4195-B857-F1AF73AF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5FFB-C410-478F-A952-059F616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2B2E-2520-410A-8842-66AC15D5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9369-D946-4034-8FD3-50925A6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A3D6-57FA-46D7-B1CE-929F252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370A-5CF8-4322-9BC6-DF96E8C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B5E1-C9DA-4A73-967F-F112E318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1B84-9168-4439-AAE2-9AB0B650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132-95A2-4124-87ED-837BE80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2DF9-95E5-41C9-9852-7D934DAA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0E5A2-5A21-40EA-A417-6E67BE32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98CC6-5A89-4E02-AEBC-40A607A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6492-26BD-4659-B9C8-ED666A27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8767-5806-46BF-AF84-C20E0D59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B4D3-FD07-4CCB-9F9E-DDB5CEB5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C4DB-072E-4BB4-A0BB-C631239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6F017-2C34-46A0-A1D7-2593032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F62B-F5CF-4C59-8FC2-6883FCF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7B8E-9BD5-46A6-A4F7-6AC8191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BE6-0B50-4549-85A7-EDEA9CB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290B1-60CB-407B-9CBA-796A870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00D9-8722-4CE5-B2D8-8852630E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D374-1740-4205-B17C-D5B8D188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F2EF6-BF96-4807-849A-B2383E8C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739F-3931-4EAC-9190-0E03492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ACEC-ED38-4EC3-BB9D-2A40F233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B768-676F-4887-AC32-B8953DA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58DE-85BA-4B5A-ADA6-F2C1F2B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D3D7A-8F12-47B1-B6D7-62766D4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4026-D4E8-4150-B1BE-0FBDC3A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6FD-E80A-4ECD-A899-30B5DE2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6E9C2-08E6-417F-8210-A135239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4F4AE-BBB2-4241-9792-C02821F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EDD3C-7343-41D3-8FE3-A3746270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6E3A-4284-4615-B0EF-1FF68D04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3B6FF-C77F-4BAC-A16D-2EEDC6F6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DD0E-4181-4462-BD5C-30C587D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4FCA-FC52-469C-8571-3C6A64B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D761D-80F0-4CBC-B49C-24B93D6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C860-AFCF-4F89-BD18-D7CC2E07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9379-6E00-4A45-A7EC-5E9EDDD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ACF-77BA-4D9F-91E7-92C4421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2EAD5-CA4F-4234-9CC8-0230BA0B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3488-979D-46B2-94E6-39F881D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1CC9-7C8C-455B-8958-3E3EC10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D56D7-ED91-480C-A9E5-5E139FD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3E05-3814-4EBF-99FD-92AB4357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B01A-B508-4288-8E87-9829637B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68F3-96C2-43CC-A45E-3CA59FB1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9B276-481C-476B-BB62-EC886E13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BF31F-732D-4DE1-8C85-120F26D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319FE-35AE-4BA1-B468-28C93874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A45-682F-47BB-B84B-ED24ABE3A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1BC-F3EB-42F4-A8F7-9C174FDB35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835-FF74-4BF8-A447-9874671D4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7EBE-8418-4F37-A61B-760F45020C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C9A-F580-491B-87C7-1C51384CFD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7624-B1CD-46B5-A8CD-687D7C00C4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66A-1D68-402B-B916-BD57BB6687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289-A940-4974-AC9A-CCDE94E976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4AD-6E03-41B5-AEB4-86850D1163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9CDE-7FD8-4A0C-A55C-1D1348FB85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420840" y="633240"/>
            <a:ext cx="8150040" cy="28911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Bookman Old Style"/>
              </a:rPr>
              <a:t>Выполнил:</a:t>
            </a:r>
            <a:r>
              <a:rPr b="0" lang="en-US" sz="2800" spc="-1" strike="noStrike">
                <a:solidFill>
                  <a:srgbClr val="464646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464646"/>
                </a:solidFill>
                <a:latin typeface="Bookman Old Style"/>
              </a:rPr>
              <a:t>Соловцов Макси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4" descr=""/>
          <p:cNvPicPr/>
          <p:nvPr/>
        </p:nvPicPr>
        <p:blipFill>
          <a:blip r:embed="rId1"/>
          <a:stretch/>
        </p:blipFill>
        <p:spPr>
          <a:xfrm>
            <a:off x="133200" y="49320"/>
            <a:ext cx="8498160" cy="920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285840" y="4500360"/>
            <a:ext cx="40384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«Конус» - это латинская форма греческого слова «конос», означающего сосновую шишк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0" name="Picture 11" descr="конус"/>
          <p:cNvPicPr/>
          <p:nvPr/>
        </p:nvPicPr>
        <p:blipFill>
          <a:blip r:embed="rId2"/>
          <a:stretch/>
        </p:blipFill>
        <p:spPr>
          <a:xfrm>
            <a:off x="142920" y="1000080"/>
            <a:ext cx="4527360" cy="31622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2"/>
          <p:cNvSpPr/>
          <p:nvPr/>
        </p:nvSpPr>
        <p:spPr>
          <a:xfrm>
            <a:off x="4572000" y="4149720"/>
            <a:ext cx="4038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4572000" y="4076640"/>
            <a:ext cx="4038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4357800" y="442908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олное название - Кафедральный собор архиепископства Рио-де-Жанейро имени Св. Себастьяна, Собор был построен по проекту архитектора Эдгара Фонсеки и открыт в 1979 год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Здание собора представляет собой усеченный конус высотой 80 м, диаметр основания - 106 метров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Picture 15" descr="cat03"/>
          <p:cNvPicPr/>
          <p:nvPr/>
        </p:nvPicPr>
        <p:blipFill>
          <a:blip r:embed="rId3"/>
          <a:stretch/>
        </p:blipFill>
        <p:spPr>
          <a:xfrm>
            <a:off x="4643280" y="285840"/>
            <a:ext cx="3571920" cy="3949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4b9e8"/>
                </a:solidFill>
                <a:latin typeface="Arial"/>
              </a:rPr>
              <a:t>    </a:t>
            </a:r>
            <a:r>
              <a:rPr b="0" lang="en-US" sz="4100" spc="-1" strike="noStrike">
                <a:solidFill>
                  <a:srgbClr val="44b9e8"/>
                </a:solidFill>
                <a:latin typeface="Arial"/>
              </a:rPr>
              <a:t>Куб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9001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1600" spc="-1" strike="noStrike">
                <a:solidFill>
                  <a:srgbClr val="44b9e8"/>
                </a:solidFill>
                <a:latin typeface="Bookman Old Style"/>
              </a:rPr>
              <a:t>«куб»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т греческого слова в переводе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значающего –</a:t>
            </a:r>
            <a:r>
              <a:rPr b="0" lang="en-US" sz="1400" spc="-1" strike="noStrike">
                <a:solidFill>
                  <a:srgbClr val="44b9e8"/>
                </a:solidFill>
                <a:latin typeface="Bookman Old Style"/>
              </a:rPr>
              <a:t>"игральная кость"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на имела форму кубика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и название это перешло на любое тело той же формы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Этот термин впервые встречался у пифагорейцев (VI-IV вв. до н. э.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Bookman Old Style"/>
              </a:rPr>
              <a:t>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В Лондоне появится здание в виде стеклянного куба.                                                                                   В нем расположится посольство США. Как заверяют представители компании, при строительства куба будут использоваться экологически чистые материалы. В 12-этажном здании будет работать около 1 тыс. человек. Его площадь составит 45 тыс. кв. м.  Стеклянный куб будет располагаться на берегу реки Темза и будет готов в 2017 году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301840" cy="2563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530520" cy="3670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0" descr="shar"/>
          <p:cNvPicPr/>
          <p:nvPr/>
        </p:nvPicPr>
        <p:blipFill>
          <a:blip r:embed="rId1"/>
          <a:stretch/>
        </p:blipFill>
        <p:spPr>
          <a:xfrm>
            <a:off x="500040" y="1357200"/>
            <a:ext cx="3014640" cy="273996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4" descr=""/>
          <p:cNvPicPr/>
          <p:nvPr/>
        </p:nvPicPr>
        <p:blipFill>
          <a:blip r:embed="rId2"/>
          <a:stretch/>
        </p:blipFill>
        <p:spPr>
          <a:xfrm>
            <a:off x="195120" y="37800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4214520"/>
            <a:ext cx="4100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aecd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1faecd"/>
                </a:solidFill>
                <a:latin typeface="Bookman Old Style"/>
              </a:rPr>
              <a:t>Сфера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- от греческого слова "</a:t>
            </a:r>
            <a:r>
              <a:rPr b="0" lang="ru-RU" sz="1800" spc="-1" strike="noStrike">
                <a:solidFill>
                  <a:srgbClr val="1faecd"/>
                </a:solidFill>
                <a:latin typeface="Bookman Old Style"/>
              </a:rPr>
              <a:t>сфайр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" - "</a:t>
            </a:r>
            <a:r>
              <a:rPr b="0" lang="ru-RU" sz="1800" spc="-1" strike="noStrike">
                <a:solidFill>
                  <a:srgbClr val="1faecd"/>
                </a:solidFill>
                <a:latin typeface="Bookman Old Style"/>
              </a:rPr>
              <a:t>шар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", "</a:t>
            </a:r>
            <a:r>
              <a:rPr b="0" lang="ru-RU" sz="1800" spc="-1" strike="noStrike">
                <a:solidFill>
                  <a:srgbClr val="1faecd"/>
                </a:solidFill>
                <a:latin typeface="Bookman Old Style"/>
              </a:rPr>
              <a:t>мяч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". Термин этот встречается у древнегреческих математиков еще до Евкли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4643280" y="3716280"/>
            <a:ext cx="39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Дубае построят небоскрёб подобный сфере. Многофункциональный объект, в котором будут располагаться офисные и жилые площади, гостиницы и залы общего пользования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Здание будет расположено на территории дубайской экономической зоны TechnoPark, занимающей 21 кв.к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4" name="Picture 9" descr="Technosphere-2"/>
          <p:cNvPicPr/>
          <p:nvPr/>
        </p:nvPicPr>
        <p:blipFill>
          <a:blip r:embed="rId3"/>
          <a:stretch/>
        </p:blipFill>
        <p:spPr>
          <a:xfrm>
            <a:off x="4716360" y="549360"/>
            <a:ext cx="3915000" cy="2936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85480" y="357120"/>
            <a:ext cx="4429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В Спасской башне Московского кремля в основании можно увидеть прямой параллелепипед, переходящий в средней части в фигуру, приближающуюся к цилиндру, завершается же она пирамидой. При более детальном рассмотрении и изучении деталей можно увидеть: круги – циферблаты курантов; шар – основание для крепления рубиновой звезды; полукруги – арки одного из рядов бойниц на фасаде башни и т.д. Таким образом, можно говорить о пространственных геометрических фигурах, которые служат основой сооружения в целом или отдельных его частей, а также плоских фигурах, которые обнаруживаются на фасадах здани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Ни один из видов искусств так тесно не связан с геометрией как архитекту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Архитектурные произведения живут в пространстве, являются его частью, вписываясь в определенные геометрические формы. Кроме того, они состоят из отдельных деталей, каждая из которых также строится на базе определенного геометрического тела. Часто геометрические формы являются комбинациями различных геометрических те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рхитекту́ра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лат. architectura от др.-греч. αρχι — старший, главный и др.-греч. τέκτων — строитель, плотник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— искусство проектировать и строить здания и другие сооружения (также их комплексы), создающие материально организованную среду, необходимую людям для их жизни и деятельности, в соответствии с назначением, современными техническими возможностями и эстетическими воззрениями обществ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рхитектурой также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зывают облик зданий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оружен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оме того, сами зд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сооружения собирательно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зывают архитектуро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800px-Saint_Sophia_Cathedral_in_Novgorod"/>
          <p:cNvPicPr/>
          <p:nvPr/>
        </p:nvPicPr>
        <p:blipFill>
          <a:blip r:embed="rId2"/>
          <a:stretch/>
        </p:blipFill>
        <p:spPr>
          <a:xfrm>
            <a:off x="4643280" y="3403440"/>
            <a:ext cx="4259520" cy="2838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071960" y="6215040"/>
            <a:ext cx="507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Софийский собор на территории Новгородского детинца (1045—1050 гг.) — древнейший сохранившийся храм на территории России, построенный славяна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3" descr="mathematics.jpg"/>
          <p:cNvPicPr/>
          <p:nvPr/>
        </p:nvPicPr>
        <p:blipFill>
          <a:blip r:embed="rId1"/>
          <a:stretch/>
        </p:blipFill>
        <p:spPr>
          <a:xfrm>
            <a:off x="4280040" y="3052800"/>
            <a:ext cx="4741560" cy="3549600"/>
          </a:xfrm>
          <a:prstGeom prst="rect">
            <a:avLst/>
          </a:prstGeom>
          <a:ln w="0">
            <a:noFill/>
          </a:ln>
        </p:spPr>
      </p:pic>
      <p:pic>
        <p:nvPicPr>
          <p:cNvPr id="479" name="Rectangle 2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498160" cy="13824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85480" y="1500120"/>
            <a:ext cx="75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Ге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 означает 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Земл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, 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мет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 - это единица измерения длины (от греческого слова 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метре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 - «измеряю». Таким образом, получается, что геометрия в переводе с греческого означает 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измерение земл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 или «</a:t>
            </a:r>
            <a:r>
              <a:rPr b="0" lang="ru-RU" sz="2000" spc="-1" strike="noStrike">
                <a:solidFill>
                  <a:srgbClr val="1faecd"/>
                </a:solidFill>
                <a:latin typeface="Bookman Old Style"/>
              </a:rPr>
              <a:t>землемер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Тесная связь архитектуры и математик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известна давно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В Древней Греции – геометрия считалась одним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из разделов архитектуры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1"/>
          <p:cNvSpPr/>
          <p:nvPr/>
        </p:nvSpPr>
        <p:spPr>
          <a:xfrm>
            <a:off x="357120" y="21420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юди с древних времен, возводя свои жилища, думали, в первую очередь, об их прочности. Прочность связана и с долговечностью. На возведение зданий люди тратили огромные усилия, а значит, были заинтересованы в том, чтобы они простояли как можно дольш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стати, благодаря этому, до наших дней дошли и древнегреческий Парфенон(1), и древнеримский Колизей(2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очность сооружения обеспечивается не только материалом, из которого оно создано, но и конструкцией, с той геометрической формой, которая является для него базовой. Очень важна геометрическая форма (тело), в которое вписывается сооруж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Picture 4" descr="Копия History"/>
          <p:cNvPicPr/>
          <p:nvPr/>
        </p:nvPicPr>
        <p:blipFill>
          <a:blip r:embed="rId1"/>
          <a:stretch/>
        </p:blipFill>
        <p:spPr>
          <a:xfrm>
            <a:off x="4857840" y="3571920"/>
            <a:ext cx="3906720" cy="29289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парфенон"/>
          <p:cNvPicPr/>
          <p:nvPr/>
        </p:nvPicPr>
        <p:blipFill>
          <a:blip r:embed="rId2"/>
          <a:stretch/>
        </p:blipFill>
        <p:spPr>
          <a:xfrm>
            <a:off x="363600" y="3668760"/>
            <a:ext cx="3952800" cy="29034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4068720" y="6276960"/>
            <a:ext cx="709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572680" y="6286680"/>
            <a:ext cx="7095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4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8498160" cy="138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пирамида"/>
          <p:cNvPicPr/>
          <p:nvPr/>
        </p:nvPicPr>
        <p:blipFill>
          <a:blip r:embed="rId2"/>
          <a:stretch/>
        </p:blipFill>
        <p:spPr>
          <a:xfrm>
            <a:off x="142920" y="1071720"/>
            <a:ext cx="4038480" cy="282096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56760" y="3929040"/>
            <a:ext cx="403884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«Пирамида» - латинская форма греческого слова «пюрамис», которым греки называли египетские пирамиды; это слово происходит от древнеегипетского слова «пурама», которым эти пирамиды называли сами египтяне. Современные египтяне называют пирамиды словом «ахрам», которое также происходит от этого древнеегипетского слов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Picture 8" descr="33"/>
          <p:cNvPicPr/>
          <p:nvPr/>
        </p:nvPicPr>
        <p:blipFill>
          <a:blip r:embed="rId3"/>
          <a:stretch/>
        </p:blipFill>
        <p:spPr>
          <a:xfrm>
            <a:off x="4714920" y="357120"/>
            <a:ext cx="3786120" cy="3116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9"/>
          <p:cNvSpPr/>
          <p:nvPr/>
        </p:nvSpPr>
        <p:spPr>
          <a:xfrm>
            <a:off x="4643280" y="3750480"/>
            <a:ext cx="42148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ым прочным архитектурным сооружением с давних времен считаются египетские пирамиды. Как известно они имеют форму правильных четырехугольных пирами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нно эта геометрическая форма обеспечивает наибольшую устойчивость за счет большой площади осн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ирамида была построена в XXVI веке до нашей эры фараоном Хуфу (2590 - 2568 до н. э.), по-гречески его имя звучало как Хеопс. Она - одно из Семи чудес света, единственное, дошедшее до нас.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нструкция сложена из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2,3 миллиона каменных кубо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 Средний их вес - 2,5 тонны. Но есть и более крупные блоки - по  15 тон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571680" y="464292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араллелепипед от греческого  parallelos-параллельный и epipedon-поверхность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араллелепипед – четырехугольная толща с боками опостен (параллельными) друг друг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0023-046-Parallelepiped"/>
          <p:cNvPicPr/>
          <p:nvPr/>
        </p:nvPicPr>
        <p:blipFill>
          <a:blip r:embed="rId2"/>
          <a:stretch/>
        </p:blipFill>
        <p:spPr>
          <a:xfrm>
            <a:off x="1500120" y="1071720"/>
            <a:ext cx="1851120" cy="34844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4786200" y="4429080"/>
            <a:ext cx="4143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а смену пирамидам пришла стоечно-балочная система. С точки зрения геометрии она представляет собой многогранник, который получится, если мысленно на два вертикально стоящих прямоугольных параллелепипеда поставить еще один прямоугольный параллелепипед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MV Boli"/>
              </a:rPr>
              <a:t>Параллелепипед гостиницы Мариотт, г.Алма-Ата, Казахста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5" name="Picture 7" descr="f4d218c35ab3270a52867a3c5d0c511f"/>
          <p:cNvPicPr/>
          <p:nvPr/>
        </p:nvPicPr>
        <p:blipFill>
          <a:blip r:embed="rId3"/>
          <a:stretch/>
        </p:blipFill>
        <p:spPr>
          <a:xfrm>
            <a:off x="4857840" y="1071720"/>
            <a:ext cx="3897360" cy="3214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4" descr=""/>
          <p:cNvPicPr/>
          <p:nvPr/>
        </p:nvPicPr>
        <p:blipFill>
          <a:blip r:embed="rId1"/>
          <a:stretch/>
        </p:blipFill>
        <p:spPr>
          <a:xfrm>
            <a:off x="208080" y="182520"/>
            <a:ext cx="8497800" cy="13842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581000"/>
            <a:ext cx="403848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«Призма» - это латинская форма греческого слова «присма» - опиленная (имелось в виду опиленное бревно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Picture 9" descr="призма"/>
          <p:cNvPicPr/>
          <p:nvPr/>
        </p:nvPicPr>
        <p:blipFill>
          <a:blip r:embed="rId2"/>
          <a:srcRect l="27357" t="15700" r="30190" b="15926"/>
          <a:stretch/>
        </p:blipFill>
        <p:spPr>
          <a:xfrm>
            <a:off x="714240" y="1143000"/>
            <a:ext cx="3071880" cy="3456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286160" y="4653000"/>
            <a:ext cx="46436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грем Билдинг (англ. Seagram Building) — небоскрёб. Спроектированный немцем Мис ван дер Роэ и американцем Филиппом Джонсоном. Строительство здания было завершено в 1958 году. Оно составляет 157 метров в высоту и состоит из 38 этажей. Здание предназначалось под офи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1" descr="lookatphotos"/>
          <p:cNvPicPr/>
          <p:nvPr/>
        </p:nvPicPr>
        <p:blipFill>
          <a:blip r:embed="rId3"/>
          <a:stretch/>
        </p:blipFill>
        <p:spPr>
          <a:xfrm>
            <a:off x="5364000" y="907920"/>
            <a:ext cx="2894040" cy="360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384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цилиндр"/>
          <p:cNvPicPr/>
          <p:nvPr/>
        </p:nvPicPr>
        <p:blipFill>
          <a:blip r:embed="rId2"/>
          <a:stretch/>
        </p:blipFill>
        <p:spPr>
          <a:xfrm>
            <a:off x="122400" y="932040"/>
            <a:ext cx="4038480" cy="34970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50920" y="4437000"/>
            <a:ext cx="403848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«Цилиндр» происходит от латинского слова «цилиндрус», являющегося латинской формой греческого слова «колиндрус», означающего «валик», «каток».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500720" y="4581360"/>
            <a:ext cx="403848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4643280" y="4581360"/>
            <a:ext cx="403884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4572000" y="396540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 ХХI веке популярными стали многогранные и цилиндрические дома, похожие на средневековые замки, корабли и дворц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руглые дома обладают, несомненно, высокой прочностью. За счет цилиндрической формы возможна постройка высотных зданий без применения строительной арматур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одобные дома уже начали строиться в России. Несколько жилых зданий есть на Дальнем Востоке и в Москве. При этом стоит отметить, что это не только жилье премиум класса, но и бюджетные квартир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Picture 11" descr="140d82deecaa1a0a3da65d4cc644c1f3"/>
          <p:cNvPicPr/>
          <p:nvPr/>
        </p:nvPicPr>
        <p:blipFill>
          <a:blip r:embed="rId3"/>
          <a:srcRect l="0" t="0" r="22589" b="0"/>
          <a:stretch/>
        </p:blipFill>
        <p:spPr>
          <a:xfrm>
            <a:off x="4668840" y="720720"/>
            <a:ext cx="3884760" cy="3236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0:51:12Z</dcterms:created>
  <dc:creator>Соловцов Максим</dc:creator>
  <dc:description/>
  <dc:language>en-US</dc:language>
  <cp:lastModifiedBy>Admin</cp:lastModifiedBy>
  <dcterms:modified xsi:type="dcterms:W3CDTF">2011-01-21T19:54:58Z</dcterms:modified>
  <cp:revision>55</cp:revision>
  <dc:subject/>
  <dc:title>Геометрия и архитектура</dc:title>
</cp:coreProperties>
</file>