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2F0DD-2B9E-4C37-A00E-852EDB72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D00F9-A0DB-4E7C-85DC-86DAFE0C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552AA-78A6-4BE9-ACBB-D1606363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1C77C-446F-4520-92AB-C5D2A834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FB29-42EC-4E65-ADAC-57A22591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3EFE-4AB8-4348-AAB5-33DBD286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F652-1CB2-4B57-B1DF-2E6450FE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5B19-E519-4616-9896-59785024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4DB6-E271-436A-92FD-C583AFA7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2EE1-9328-4B15-9C59-4261003F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82AD-BF9E-452B-8033-762E0379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518B9-9BF3-450E-B63C-0E01CD69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B12E-D69A-41AC-90C1-CE9B9AAB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0685-2416-432A-B496-9ED0B6FF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15C1-F6E1-4278-A4EE-7A1BD2D5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EFDD-F667-4191-AC51-5F3148BE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F93D-9F95-45BD-B512-B9545927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5B83D-7EE6-41FB-A8B2-9F51266C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C0FC1-9193-4B91-8DDB-7218AC71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90108-2657-4C26-A53E-38516838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14DED-3CA3-4813-9D59-410C34EE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E177B-8AC6-433F-AF8D-C393CE92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8E0ED-0074-4B3C-B2EE-2C8D8D67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D9C54-E6C1-4E8A-85E1-F7593A80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3e3e3e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50000">
                  <a:srgbClr val="ac00ac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a00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50000">
                  <a:srgbClr val="c400c4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50000">
                  <a:srgbClr val="6699ff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50000">
                  <a:srgbClr val="c400c4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33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333333"/>
                </a:gs>
                <a:gs pos="50000">
                  <a:srgbClr val="393939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c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849A-E003-4D26-BADF-997D7212C997}" type="slidenum">
              <a:rPr b="0" lang="en-US" sz="1000" spc="-1" strike="noStrike">
                <a:solidFill>
                  <a:srgbClr val="0000cc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3e3e3e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50000">
                  <a:srgbClr val="ac00ac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a00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50000">
                  <a:srgbClr val="c400c4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50000">
                  <a:srgbClr val="6699ff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50000">
                  <a:srgbClr val="c400c4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33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333333"/>
                </a:gs>
                <a:gs pos="50000">
                  <a:srgbClr val="393939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c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0B8B-C15C-4ADD-9B52-D19B02F7FAB6}" type="slidenum">
              <a:rPr b="0" lang="en-US" sz="1000" spc="-1" strike="noStrike">
                <a:solidFill>
                  <a:srgbClr val="0000cc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55640" y="189000"/>
            <a:ext cx="7561440" cy="63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Georgia"/>
              </a:rPr>
              <a:t>«Теоремы Чевы и Менелая»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cc"/>
                </a:solidFill>
                <a:latin typeface="Georgia"/>
              </a:rPr>
              <a:t>Работа ученика 8 класса</a:t>
            </a:r>
            <a:br>
              <a:rPr sz="1600"/>
            </a:br>
            <a:r>
              <a:rPr b="1" i="1" lang="ru-RU" sz="1600" spc="-1" strike="noStrike">
                <a:solidFill>
                  <a:srgbClr val="ffffcc"/>
                </a:solidFill>
                <a:latin typeface="Georgia"/>
              </a:rPr>
              <a:t>Муниципального общеобразовательного учреждения</a:t>
            </a:r>
            <a:br>
              <a:rPr sz="1600"/>
            </a:br>
            <a:r>
              <a:rPr b="1" i="1" lang="ru-RU" sz="1600" spc="-1" strike="noStrike">
                <a:solidFill>
                  <a:srgbClr val="ffffcc"/>
                </a:solidFill>
                <a:latin typeface="Georgia"/>
              </a:rPr>
              <a:t>«Основная общеобразовательная школа №5»</a:t>
            </a:r>
            <a:br>
              <a:rPr sz="1600"/>
            </a:br>
            <a:r>
              <a:rPr b="1" i="1" lang="ru-RU" sz="2000" spc="-1" strike="noStrike">
                <a:solidFill>
                  <a:srgbClr val="ffffcc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ffffcc"/>
                </a:solidFill>
                <a:latin typeface="Georgia"/>
              </a:rPr>
              <a:t>Терехов Даниил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Georgia"/>
              </a:rPr>
              <a:t>Научный руководитель –  учитель математики</a:t>
            </a:r>
            <a:br>
              <a:rPr sz="1600"/>
            </a:br>
            <a:r>
              <a:rPr b="1" i="1" lang="ru-RU" sz="1600" spc="-1" strike="noStrike">
                <a:solidFill>
                  <a:srgbClr val="0000cc"/>
                </a:solidFill>
                <a:latin typeface="Georgia"/>
              </a:rPr>
              <a:t>МОУ СОШ №5  Терехова Надежда Анатольевна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2010  год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Georgia"/>
              </a:rPr>
              <a:t>Задача 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Palatino Linotype"/>
              </a:rPr>
              <a:t>Точки </a:t>
            </a:r>
            <a:r>
              <a:rPr b="1" lang="en-US" sz="2000" spc="-1" strike="noStrike">
                <a:solidFill>
                  <a:srgbClr val="ffffcc"/>
                </a:solidFill>
                <a:latin typeface="Palatino Linotype"/>
              </a:rPr>
              <a:t>D</a:t>
            </a:r>
            <a:r>
              <a:rPr b="1" lang="ru-RU" sz="2000" spc="-1" strike="noStrike">
                <a:solidFill>
                  <a:srgbClr val="ffffcc"/>
                </a:solidFill>
                <a:latin typeface="Palatino Linotype"/>
              </a:rPr>
              <a:t> и </a:t>
            </a:r>
            <a:r>
              <a:rPr b="1" lang="en-US" sz="2000" spc="-1" strike="noStrike">
                <a:solidFill>
                  <a:srgbClr val="ffffcc"/>
                </a:solidFill>
                <a:latin typeface="Palatino Linotype"/>
              </a:rPr>
              <a:t>F</a:t>
            </a:r>
            <a:r>
              <a:rPr b="1" lang="ru-RU" sz="2000" spc="-1" strike="noStrike">
                <a:solidFill>
                  <a:srgbClr val="ffffcc"/>
                </a:solidFill>
                <a:latin typeface="Palatino Linotype"/>
              </a:rPr>
              <a:t> лежат на сторонах АВ и ВС</a:t>
            </a:r>
            <a:endParaRPr b="0" lang="en-US" sz="2000" spc="-1" strike="noStrike">
              <a:solidFill>
                <a:srgbClr val="0000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Palatino Linotype"/>
              </a:rPr>
              <a:t> </a:t>
            </a:r>
            <a:r>
              <a:rPr b="1" lang="ru-RU" sz="2000" spc="-1" strike="noStrike">
                <a:solidFill>
                  <a:srgbClr val="ffffcc"/>
                </a:solidFill>
                <a:latin typeface="Palatino Linotype"/>
              </a:rPr>
              <a:t>треугольника АВС, при этом </a:t>
            </a:r>
            <a:r>
              <a:rPr b="1" lang="en-US" sz="2000" spc="-1" strike="noStrike">
                <a:solidFill>
                  <a:srgbClr val="ffffcc"/>
                </a:solidFill>
                <a:latin typeface="Palatino Linotype"/>
              </a:rPr>
              <a:t>AD</a:t>
            </a:r>
            <a:r>
              <a:rPr b="1" lang="ru-RU" sz="2000" spc="-1" strike="noStrike">
                <a:solidFill>
                  <a:srgbClr val="ffffcc"/>
                </a:solidFill>
                <a:latin typeface="Palatino Linotype"/>
              </a:rPr>
              <a:t>:</a:t>
            </a:r>
            <a:r>
              <a:rPr b="1" lang="en-US" sz="2000" spc="-1" strike="noStrike">
                <a:solidFill>
                  <a:srgbClr val="ffffcc"/>
                </a:solidFill>
                <a:latin typeface="Palatino Linotype"/>
              </a:rPr>
              <a:t>DBC</a:t>
            </a:r>
            <a:r>
              <a:rPr b="1" lang="ru-RU" sz="2000" spc="-1" strike="noStrike">
                <a:solidFill>
                  <a:srgbClr val="ffffcc"/>
                </a:solidFill>
                <a:latin typeface="Palatino Linotype"/>
              </a:rPr>
              <a:t>=1:2, при этом</a:t>
            </a:r>
            <a:endParaRPr b="0" lang="en-US" sz="2000" spc="-1" strike="noStrike">
              <a:solidFill>
                <a:srgbClr val="0000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Palatino Linotype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Palatino Linotype"/>
              </a:rPr>
              <a:t>BF</a:t>
            </a:r>
            <a:r>
              <a:rPr b="1" lang="ru-RU" sz="2000" spc="-1" strike="noStrike">
                <a:solidFill>
                  <a:srgbClr val="ffffcc"/>
                </a:solidFill>
                <a:latin typeface="Palatino Linotype"/>
              </a:rPr>
              <a:t>:</a:t>
            </a:r>
            <a:r>
              <a:rPr b="1" lang="en-US" sz="2000" spc="-1" strike="noStrike">
                <a:solidFill>
                  <a:srgbClr val="ffffcc"/>
                </a:solidFill>
                <a:latin typeface="Palatino Linotype"/>
              </a:rPr>
              <a:t>FC</a:t>
            </a:r>
            <a:r>
              <a:rPr b="1" lang="ru-RU" sz="2000" spc="-1" strike="noStrike">
                <a:solidFill>
                  <a:srgbClr val="ffffcc"/>
                </a:solidFill>
                <a:latin typeface="Palatino Linotype"/>
              </a:rPr>
              <a:t>=2:3. </a:t>
            </a:r>
            <a:endParaRPr b="0" lang="en-US" sz="2000" spc="-1" strike="noStrike">
              <a:solidFill>
                <a:srgbClr val="0000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Palatino Linotype"/>
              </a:rPr>
              <a:t>Прямая </a:t>
            </a:r>
            <a:r>
              <a:rPr b="1" lang="en-US" sz="2000" spc="-1" strike="noStrike">
                <a:solidFill>
                  <a:srgbClr val="ffffcc"/>
                </a:solidFill>
                <a:latin typeface="Palatino Linotype"/>
              </a:rPr>
              <a:t>DF</a:t>
            </a:r>
            <a:r>
              <a:rPr b="1" lang="ru-RU" sz="2000" spc="-1" strike="noStrike">
                <a:solidFill>
                  <a:srgbClr val="ffffcc"/>
                </a:solidFill>
                <a:latin typeface="Palatino Linotype"/>
              </a:rPr>
              <a:t> пересекает прямую АС в точке К.  </a:t>
            </a:r>
            <a:endParaRPr b="0" lang="en-US" sz="2000" spc="-1" strike="noStrike">
              <a:solidFill>
                <a:srgbClr val="0000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Palatino Linotype"/>
              </a:rPr>
              <a:t>Найти отношение АК:КС.</a:t>
            </a:r>
            <a:endParaRPr b="0" lang="en-US" sz="2000" spc="-1" strike="noStrike">
              <a:solidFill>
                <a:srgbClr val="0000cc"/>
              </a:solidFill>
              <a:latin typeface="Tahoma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040" y="2637000"/>
            <a:ext cx="4123080" cy="2629080"/>
            <a:chOff x="5040" y="2637000"/>
            <a:chExt cx="4123080" cy="2629080"/>
          </a:xfrm>
        </p:grpSpPr>
        <p:sp>
          <p:nvSpPr>
            <p:cNvPr id="236" name=""/>
            <p:cNvSpPr/>
            <p:nvPr/>
          </p:nvSpPr>
          <p:spPr>
            <a:xfrm flipV="1">
              <a:off x="828720" y="2852280"/>
              <a:ext cx="1008000" cy="20890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36720" y="2852640"/>
              <a:ext cx="2016000" cy="20890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8720" y="4940280"/>
              <a:ext cx="30240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080" y="4842000"/>
              <a:ext cx="35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25a"/>
                  </a:solidFill>
                  <a:latin typeface="Tahoma"/>
                </a:rPr>
                <a:t>А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79960" y="26370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25a"/>
                  </a:solidFill>
                  <a:latin typeface="Tahoma"/>
                </a:rPr>
                <a:t>В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85760" y="479736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25a"/>
                  </a:solidFill>
                  <a:latin typeface="Tahoma"/>
                </a:rPr>
                <a:t>С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40" y="48672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25a"/>
                  </a:solidFill>
                  <a:latin typeface="Tahoma"/>
                </a:rPr>
                <a:t>К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179280" y="3573000"/>
              <a:ext cx="2376720" cy="13669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61400" y="32846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25a"/>
                  </a:solidFill>
                  <a:latin typeface="Tahoma"/>
                </a:rPr>
                <a:t>F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9280" y="4938840"/>
              <a:ext cx="1800360" cy="144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8880" y="4076640"/>
              <a:ext cx="36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25a"/>
                  </a:solidFill>
                  <a:latin typeface="Tahoma"/>
                </a:rPr>
                <a:t>D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047600" y="2852640"/>
            <a:ext cx="2493360" cy="2054880"/>
            <a:chOff x="1047600" y="2852640"/>
            <a:chExt cx="2493360" cy="2054880"/>
          </a:xfrm>
        </p:grpSpPr>
        <p:sp>
          <p:nvSpPr>
            <p:cNvPr id="248" name=""/>
            <p:cNvSpPr/>
            <p:nvPr/>
          </p:nvSpPr>
          <p:spPr>
            <a:xfrm>
              <a:off x="1126800" y="3284640"/>
              <a:ext cx="47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25a"/>
                  </a:solidFill>
                  <a:latin typeface="Tahoma"/>
                </a:rPr>
                <a:t>2x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32280" y="2852640"/>
              <a:ext cx="47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25a"/>
                  </a:solidFill>
                  <a:latin typeface="Tahoma"/>
                </a:rPr>
                <a:t>2y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47600" y="450864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25a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69000" y="3860640"/>
              <a:ext cx="47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25a"/>
                  </a:solidFill>
                  <a:latin typeface="Tahoma"/>
                </a:rPr>
                <a:t>3y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199680" y="2539800"/>
            <a:ext cx="610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Arial"/>
                <a:ea typeface="Times New Roman"/>
              </a:rPr>
              <a:t>Рассмотрим треугольник </a:t>
            </a:r>
            <a:r>
              <a:rPr b="0" lang="en-US" sz="2400" spc="-1" strike="noStrike">
                <a:solidFill>
                  <a:srgbClr val="ebf25a"/>
                </a:solidFill>
                <a:latin typeface="Arial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ebf25a"/>
                </a:solidFill>
                <a:latin typeface="Arial"/>
                <a:ea typeface="Times New Roman"/>
              </a:rPr>
              <a:t>и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Arial"/>
                <a:ea typeface="Times New Roman"/>
              </a:rPr>
              <a:t>секущую </a:t>
            </a:r>
            <a:r>
              <a:rPr b="0" lang="en-US" sz="2400" spc="-1" strike="noStrike">
                <a:solidFill>
                  <a:srgbClr val="ebf25a"/>
                </a:solidFill>
                <a:latin typeface="Arial"/>
                <a:ea typeface="Times New Roman"/>
              </a:rPr>
              <a:t>KF</a:t>
            </a:r>
            <a:r>
              <a:rPr b="0" lang="ru-RU" sz="2400" spc="-1" strike="noStrike">
                <a:solidFill>
                  <a:srgbClr val="ebf25a"/>
                </a:solidFill>
                <a:latin typeface="Arial"/>
                <a:ea typeface="Times New Roman"/>
              </a:rPr>
              <a:t>. Тогда, по теореме Менелая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Arial"/>
                <a:ea typeface="Times New Roman"/>
              </a:rPr>
              <a:t>получим</a:t>
            </a:r>
            <a:r>
              <a:rPr b="0" lang="en-US" sz="2400" spc="-1" strike="noStrike">
                <a:solidFill>
                  <a:srgbClr val="ebf25a"/>
                </a:solidFill>
                <a:latin typeface="Arial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ebf25a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284720" y="3789360"/>
                <a:ext cx="2879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900000" y="5229360"/>
                <a:ext cx="568980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324000" y="6021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68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Georgia"/>
              </a:rPr>
              <a:t>Задача 3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Palatino Linotype"/>
              </a:rPr>
              <a:t>Доказать, что биссектрисы треугольника пересекаются 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Palatino Linotype"/>
              </a:rPr>
              <a:t>в одной точке.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95280" y="2276640"/>
            <a:ext cx="3024000" cy="3029400"/>
            <a:chOff x="395280" y="2276640"/>
            <a:chExt cx="3024000" cy="3029400"/>
          </a:xfrm>
        </p:grpSpPr>
        <p:sp>
          <p:nvSpPr>
            <p:cNvPr id="260" name=""/>
            <p:cNvSpPr/>
            <p:nvPr/>
          </p:nvSpPr>
          <p:spPr>
            <a:xfrm flipV="1">
              <a:off x="682560" y="3355560"/>
              <a:ext cx="1873080" cy="14475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619280" y="2708280"/>
              <a:ext cx="720720" cy="208728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635040" y="2717280"/>
              <a:ext cx="1672920" cy="2106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5040" y="4824360"/>
              <a:ext cx="240012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2307960" y="2644560"/>
              <a:ext cx="727200" cy="217944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5280" y="4838760"/>
              <a:ext cx="53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А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89000" y="4824360"/>
              <a:ext cx="53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В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24000" y="2276640"/>
              <a:ext cx="53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С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90560" y="3571920"/>
              <a:ext cx="1297080" cy="12236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74560" y="4795920"/>
              <a:ext cx="530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С</a:t>
              </a:r>
              <a:r>
                <a:rPr b="1" lang="en-US" sz="2400" spc="-1" strike="noStrike" baseline="-25000">
                  <a:solidFill>
                    <a:srgbClr val="ffffcc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5640" y="3139920"/>
              <a:ext cx="528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А</a:t>
              </a:r>
              <a:r>
                <a:rPr b="1" lang="en-US" sz="2400" spc="-1" strike="noStrike" baseline="-25000">
                  <a:solidFill>
                    <a:srgbClr val="ffffcc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42920" y="3211560"/>
              <a:ext cx="530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В</a:t>
              </a:r>
              <a:r>
                <a:rPr b="1" lang="en-US" sz="2400" spc="-1" strike="noStrike" baseline="-25000">
                  <a:solidFill>
                    <a:srgbClr val="ffffcc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3059280" y="2133720"/>
                <a:ext cx="57243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СВ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С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3050640" y="1699200"/>
            <a:ext cx="34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ahoma"/>
              </a:rPr>
              <a:t>по свойству биссектрисы: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62520" y="3269160"/>
            <a:ext cx="60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ahoma"/>
              </a:rPr>
              <a:t>Перемножив полученные равенства, получим</a:t>
            </a: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564000" y="3860640"/>
                <a:ext cx="48243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В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С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СВ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537480" y="5501520"/>
            <a:ext cx="83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Т.О. по теореме Чевы, биссектрисы пересекаются в одной точке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6021360"/>
            <a:ext cx="1008000" cy="36036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0381" h="21600">
                <a:moveTo>
                  <a:pt x="0" y="0"/>
                </a:moveTo>
                <a:lnTo>
                  <a:pt x="60381" y="0"/>
                </a:lnTo>
                <a:lnTo>
                  <a:pt x="60381" y="21600"/>
                </a:lnTo>
                <a:lnTo>
                  <a:pt x="0" y="21600"/>
                </a:lnTo>
                <a:close/>
              </a:path>
              <a:path fill="lightenLess" w="60381" h="21600">
                <a:moveTo>
                  <a:pt x="0" y="0"/>
                </a:moveTo>
                <a:lnTo>
                  <a:pt x="60381" y="0"/>
                </a:lnTo>
                <a:lnTo>
                  <a:pt x="58981" y="1400"/>
                </a:lnTo>
                <a:lnTo>
                  <a:pt x="1400" y="1400"/>
                </a:lnTo>
                <a:close/>
              </a:path>
              <a:path fill="darken" w="60381" h="21600">
                <a:moveTo>
                  <a:pt x="60381" y="0"/>
                </a:moveTo>
                <a:lnTo>
                  <a:pt x="60381" y="21600"/>
                </a:lnTo>
                <a:lnTo>
                  <a:pt x="58981" y="20200"/>
                </a:lnTo>
                <a:lnTo>
                  <a:pt x="58981" y="1400"/>
                </a:lnTo>
                <a:close/>
              </a:path>
              <a:path fill="darkenLess" w="60381" h="21600">
                <a:moveTo>
                  <a:pt x="60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81" y="20200"/>
                </a:lnTo>
                <a:close/>
              </a:path>
              <a:path fill="lighten" w="60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81" h="21600">
                <a:moveTo>
                  <a:pt x="23184" y="10800"/>
                </a:moveTo>
                <a:lnTo>
                  <a:pt x="37197" y="3794"/>
                </a:lnTo>
                <a:lnTo>
                  <a:pt x="37197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920"/>
                            </p:stCondLst>
                            <p:childTnLst>
                              <p:par>
                                <p:cTn id="3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Georgia"/>
              </a:rPr>
              <a:t>Задача 4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Доказать, что прямые, проходящие через вершины 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треугольника и точки касания вписанной окружности, 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пересекаются в одной точке, называемой точкой 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Жергона. 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(</a:t>
            </a:r>
            <a:r>
              <a:rPr b="0" i="1" lang="ru-RU" sz="2000" spc="-1" strike="noStrike">
                <a:solidFill>
                  <a:srgbClr val="66ff33"/>
                </a:solidFill>
                <a:latin typeface="Tahoma"/>
              </a:rPr>
              <a:t>французский математик Жозеф Диаз Жергон, 1776 – 1831 г.г</a:t>
            </a: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cc"/>
              </a:solidFill>
              <a:latin typeface="Tahoma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15880" y="2924280"/>
            <a:ext cx="3019320" cy="3003840"/>
            <a:chOff x="515880" y="2924280"/>
            <a:chExt cx="3019320" cy="3003840"/>
          </a:xfrm>
        </p:grpSpPr>
        <p:sp>
          <p:nvSpPr>
            <p:cNvPr id="283" name=""/>
            <p:cNvSpPr/>
            <p:nvPr/>
          </p:nvSpPr>
          <p:spPr>
            <a:xfrm flipV="1">
              <a:off x="755640" y="4508280"/>
              <a:ext cx="2016000" cy="942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124000" y="3357720"/>
              <a:ext cx="287280" cy="208728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55640" y="3357360"/>
              <a:ext cx="1673280" cy="2106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5640" y="5445000"/>
              <a:ext cx="24004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2428920" y="3284640"/>
              <a:ext cx="727200" cy="217944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5880" y="5459400"/>
              <a:ext cx="53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А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05280" y="5445000"/>
              <a:ext cx="52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В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44600" y="2924280"/>
              <a:ext cx="53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С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19280" y="4292640"/>
              <a:ext cx="1441440" cy="115092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55880" y="5418000"/>
              <a:ext cx="530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С</a:t>
              </a:r>
              <a:r>
                <a:rPr b="1" lang="en-US" sz="2400" spc="-1" strike="noStrike" baseline="-25000">
                  <a:solidFill>
                    <a:srgbClr val="ffffcc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89280" y="4149720"/>
              <a:ext cx="52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А</a:t>
              </a:r>
              <a:r>
                <a:rPr b="1" lang="en-US" sz="2400" spc="-1" strike="noStrike" baseline="-25000">
                  <a:solidFill>
                    <a:srgbClr val="ffffcc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46240" y="3859200"/>
              <a:ext cx="530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В</a:t>
              </a:r>
              <a:r>
                <a:rPr b="1" lang="en-US" sz="2400" spc="-1" strike="noStrike" baseline="-25000">
                  <a:solidFill>
                    <a:srgbClr val="ffffcc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76360" y="4076640"/>
              <a:ext cx="1366920" cy="1368360"/>
            </a:xfrm>
            <a:prstGeom prst="ellipse">
              <a:avLst/>
            </a:prstGeom>
            <a:noFill/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2957400" y="321192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о свойству касательных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635280" y="3694680"/>
            <a:ext cx="432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ahoma"/>
              </a:rPr>
              <a:t>АВ</a:t>
            </a:r>
            <a:r>
              <a:rPr b="1" lang="en-US" sz="2000" spc="-1" strike="noStrike" baseline="-25000">
                <a:solidFill>
                  <a:srgbClr val="333333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333333"/>
                </a:solidFill>
                <a:latin typeface="Tahoma"/>
              </a:rPr>
              <a:t> =АС</a:t>
            </a:r>
            <a:r>
              <a:rPr b="1" lang="en-US" sz="2000" spc="-1" strike="noStrike" baseline="-25000">
                <a:solidFill>
                  <a:srgbClr val="333333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333333"/>
                </a:solidFill>
                <a:latin typeface="Tahoma"/>
              </a:rPr>
              <a:t>, ВС</a:t>
            </a:r>
            <a:r>
              <a:rPr b="1" lang="en-US" sz="2000" spc="-1" strike="noStrike" baseline="-25000">
                <a:solidFill>
                  <a:srgbClr val="333333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333333"/>
                </a:solidFill>
                <a:latin typeface="Tahoma"/>
              </a:rPr>
              <a:t> = ВА</a:t>
            </a:r>
            <a:r>
              <a:rPr b="1" lang="en-US" sz="2000" spc="-1" strike="noStrike" baseline="-25000">
                <a:solidFill>
                  <a:srgbClr val="333333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333333"/>
                </a:solidFill>
                <a:latin typeface="Tahoma"/>
              </a:rPr>
              <a:t>, СА</a:t>
            </a:r>
            <a:r>
              <a:rPr b="1" lang="en-US" sz="2000" spc="-1" strike="noStrike" baseline="-25000">
                <a:solidFill>
                  <a:srgbClr val="333333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333333"/>
                </a:solidFill>
                <a:latin typeface="Tahoma"/>
              </a:rPr>
              <a:t>= СВ</a:t>
            </a:r>
            <a:r>
              <a:rPr b="1" lang="en-US" sz="2000" spc="-1" strike="noStrike" baseline="-25000">
                <a:solidFill>
                  <a:srgbClr val="333333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333333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751200" y="4651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Тогда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859280" y="4292640"/>
                <a:ext cx="29527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В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С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3165120" y="5443920"/>
            <a:ext cx="589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Следовательно, по теореме Чевы,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данные прямые пересекаются в одной точке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5280" y="602136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10800"/>
                </a:moveTo>
                <a:lnTo>
                  <a:pt x="39385" y="3794"/>
                </a:lnTo>
                <a:lnTo>
                  <a:pt x="39385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84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Georgia"/>
              </a:rPr>
              <a:t>Задача 5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Palatino Linotype"/>
              </a:rPr>
              <a:t>Докажите, что прямые, проходящие через вершины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ebf25a"/>
                </a:solidFill>
                <a:latin typeface="Palatino Linotype"/>
              </a:rPr>
              <a:t>треугольника  и точки касания вневписанных 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Palatino Linotype"/>
              </a:rPr>
              <a:t>окружностей, пересекаются в одной точке 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Palatino Linotype"/>
              </a:rPr>
              <a:t>(точке Нагеля).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539640" y="314028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Palatino Linotype"/>
              </a:rPr>
              <a:t>немецкий учёный Нагель Христиан Генрих фон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Palatino Linotype"/>
              </a:rPr>
              <a:t>(1803-1882 г.г)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8360" y="5589720"/>
            <a:ext cx="1150920" cy="287280"/>
          </a:xfrm>
          <a:custGeom>
            <a:avLst/>
            <a:gdLst>
              <a:gd name="textAreaLeft" fmla="*/ 18360 w 1150920"/>
              <a:gd name="textAreaRight" fmla="*/ 1132560 w 1150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86454" h="21600">
                <a:moveTo>
                  <a:pt x="0" y="0"/>
                </a:moveTo>
                <a:lnTo>
                  <a:pt x="86454" y="0"/>
                </a:lnTo>
                <a:lnTo>
                  <a:pt x="86454" y="21600"/>
                </a:lnTo>
                <a:lnTo>
                  <a:pt x="0" y="21600"/>
                </a:lnTo>
                <a:close/>
              </a:path>
              <a:path fill="lightenLess" w="86454" h="21600">
                <a:moveTo>
                  <a:pt x="0" y="0"/>
                </a:moveTo>
                <a:lnTo>
                  <a:pt x="86454" y="0"/>
                </a:lnTo>
                <a:lnTo>
                  <a:pt x="85054" y="1400"/>
                </a:lnTo>
                <a:lnTo>
                  <a:pt x="1400" y="1400"/>
                </a:lnTo>
                <a:close/>
              </a:path>
              <a:path fill="darken" w="86454" h="21600">
                <a:moveTo>
                  <a:pt x="86454" y="0"/>
                </a:moveTo>
                <a:lnTo>
                  <a:pt x="86454" y="21600"/>
                </a:lnTo>
                <a:lnTo>
                  <a:pt x="85054" y="20200"/>
                </a:lnTo>
                <a:lnTo>
                  <a:pt x="85054" y="1400"/>
                </a:lnTo>
                <a:close/>
              </a:path>
              <a:path fill="darkenLess" w="86454" h="21600">
                <a:moveTo>
                  <a:pt x="86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54" y="20200"/>
                </a:lnTo>
                <a:close/>
              </a:path>
              <a:path fill="lighten" w="86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54" h="21600">
                <a:moveTo>
                  <a:pt x="36221" y="3794"/>
                </a:moveTo>
                <a:lnTo>
                  <a:pt x="50234" y="10800"/>
                </a:lnTo>
                <a:lnTo>
                  <a:pt x="36221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680"/>
                            </p:stCondLst>
                            <p:childTnLst>
                              <p:par>
                                <p:cTn id="5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971640" y="1125360"/>
            <a:ext cx="5223240" cy="4824360"/>
            <a:chOff x="971640" y="1125360"/>
            <a:chExt cx="5223240" cy="4824360"/>
          </a:xfrm>
        </p:grpSpPr>
        <p:sp>
          <p:nvSpPr>
            <p:cNvPr id="308" name=""/>
            <p:cNvSpPr/>
            <p:nvPr/>
          </p:nvSpPr>
          <p:spPr>
            <a:xfrm flipV="1">
              <a:off x="2789280" y="1534320"/>
              <a:ext cx="2194560" cy="2493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23800" y="2580840"/>
              <a:ext cx="500760" cy="7639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140640" y="2990520"/>
              <a:ext cx="3054240" cy="6282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687000">
              <a:off x="4278240" y="1987200"/>
              <a:ext cx="1277640" cy="12240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06600" y="3706560"/>
              <a:ext cx="5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Tahoma"/>
                </a:rPr>
                <a:t>В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031640" y="2030040"/>
              <a:ext cx="35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16360" y="3286080"/>
              <a:ext cx="57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1175760" y="3573360"/>
              <a:ext cx="2231640" cy="50472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1679040" y="3646440"/>
              <a:ext cx="1441080" cy="16556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55640" y="3501720"/>
              <a:ext cx="2736720" cy="24480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60840" y="3286080"/>
              <a:ext cx="1223640" cy="18716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71640" y="1125360"/>
              <a:ext cx="2844720" cy="266364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3404520" y="1485360"/>
              <a:ext cx="720360" cy="10796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3697200" y="2493720"/>
              <a:ext cx="431280" cy="1008000"/>
            </a:xfrm>
            <a:prstGeom prst="line">
              <a:avLst/>
            </a:prstGeom>
            <a:ln w="28440">
              <a:solidFill>
                <a:srgbClr val="ebf2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flipV="1">
              <a:off x="3552480" y="3212640"/>
              <a:ext cx="1007640" cy="73080"/>
            </a:xfrm>
            <a:prstGeom prst="line">
              <a:avLst/>
            </a:prstGeom>
            <a:ln w="28440">
              <a:solidFill>
                <a:srgbClr val="ebf2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120840" y="2925720"/>
              <a:ext cx="1223640" cy="720720"/>
            </a:xfrm>
            <a:prstGeom prst="line">
              <a:avLst/>
            </a:prstGeom>
            <a:ln w="28440">
              <a:solidFill>
                <a:srgbClr val="ebf2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324" name="">
            <a:hlinkClick r:id="" action="ppaction://hlinkshowjump?jump=firstslide"/>
          </p:cNvPr>
          <p:cNvSpPr/>
          <p:nvPr/>
        </p:nvSpPr>
        <p:spPr>
          <a:xfrm>
            <a:off x="539640" y="5805360"/>
            <a:ext cx="1079640" cy="287640"/>
          </a:xfrm>
          <a:custGeom>
            <a:avLst/>
            <a:gdLst>
              <a:gd name="textAreaLeft" fmla="*/ 18360 w 1079640"/>
              <a:gd name="textAreaRight" fmla="*/ 1061280 w 1079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81000" h="21600">
                <a:moveTo>
                  <a:pt x="0" y="0"/>
                </a:moveTo>
                <a:lnTo>
                  <a:pt x="81000" y="0"/>
                </a:lnTo>
                <a:lnTo>
                  <a:pt x="81000" y="21600"/>
                </a:lnTo>
                <a:lnTo>
                  <a:pt x="0" y="21600"/>
                </a:lnTo>
                <a:close/>
              </a:path>
              <a:path fill="lightenLess" w="81000" h="21600">
                <a:moveTo>
                  <a:pt x="0" y="0"/>
                </a:moveTo>
                <a:lnTo>
                  <a:pt x="81000" y="0"/>
                </a:lnTo>
                <a:lnTo>
                  <a:pt x="79600" y="1400"/>
                </a:lnTo>
                <a:lnTo>
                  <a:pt x="1400" y="1400"/>
                </a:lnTo>
                <a:close/>
              </a:path>
              <a:path fill="darken" w="81000" h="21600">
                <a:moveTo>
                  <a:pt x="81000" y="0"/>
                </a:moveTo>
                <a:lnTo>
                  <a:pt x="81000" y="21600"/>
                </a:lnTo>
                <a:lnTo>
                  <a:pt x="79600" y="20200"/>
                </a:lnTo>
                <a:lnTo>
                  <a:pt x="79600" y="1400"/>
                </a:lnTo>
                <a:close/>
              </a:path>
              <a:path fill="darkenLess" w="81000" h="21600">
                <a:moveTo>
                  <a:pt x="81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600" y="20200"/>
                </a:lnTo>
                <a:close/>
              </a:path>
              <a:path fill="lighten" w="81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000" h="21600">
                <a:moveTo>
                  <a:pt x="33494" y="10800"/>
                </a:moveTo>
                <a:lnTo>
                  <a:pt x="47506" y="3794"/>
                </a:lnTo>
                <a:lnTo>
                  <a:pt x="47506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340000" y="2492280"/>
            <a:ext cx="2592360" cy="2232000"/>
            <a:chOff x="2340000" y="2492280"/>
            <a:chExt cx="2592360" cy="2232000"/>
          </a:xfrm>
        </p:grpSpPr>
        <p:sp>
          <p:nvSpPr>
            <p:cNvPr id="326" name=""/>
            <p:cNvSpPr/>
            <p:nvPr/>
          </p:nvSpPr>
          <p:spPr>
            <a:xfrm>
              <a:off x="2340000" y="2492280"/>
              <a:ext cx="1726920" cy="0"/>
            </a:xfrm>
            <a:prstGeom prst="line">
              <a:avLst/>
            </a:prstGeom>
            <a:ln w="28440">
              <a:solidFill>
                <a:srgbClr val="f2aa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40000" y="2492280"/>
              <a:ext cx="792000" cy="1081080"/>
            </a:xfrm>
            <a:prstGeom prst="line">
              <a:avLst/>
            </a:prstGeom>
            <a:ln w="28440">
              <a:solidFill>
                <a:srgbClr val="f2aa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40000" y="2492280"/>
              <a:ext cx="1224000" cy="720720"/>
            </a:xfrm>
            <a:prstGeom prst="line">
              <a:avLst/>
            </a:prstGeom>
            <a:ln w="28440">
              <a:solidFill>
                <a:srgbClr val="f2aa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40000" y="2492280"/>
              <a:ext cx="792360" cy="73080"/>
            </a:xfrm>
            <a:prstGeom prst="line">
              <a:avLst/>
            </a:prstGeom>
            <a:ln w="28440">
              <a:solidFill>
                <a:srgbClr val="f2aa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4571640" y="2565360"/>
              <a:ext cx="360360" cy="790560"/>
            </a:xfrm>
            <a:prstGeom prst="line">
              <a:avLst/>
            </a:prstGeom>
            <a:ln w="28440">
              <a:solidFill>
                <a:srgbClr val="f2aa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4355640" y="2565360"/>
              <a:ext cx="576360" cy="358560"/>
            </a:xfrm>
            <a:prstGeom prst="line">
              <a:avLst/>
            </a:prstGeom>
            <a:ln w="28440">
              <a:solidFill>
                <a:srgbClr val="f2aa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32000" y="3644640"/>
              <a:ext cx="647640" cy="1079640"/>
            </a:xfrm>
            <a:prstGeom prst="line">
              <a:avLst/>
            </a:prstGeom>
            <a:ln w="28440">
              <a:solidFill>
                <a:srgbClr val="f2aa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779640" y="3355560"/>
              <a:ext cx="792360" cy="1368360"/>
            </a:xfrm>
            <a:prstGeom prst="line">
              <a:avLst/>
            </a:prstGeom>
            <a:ln w="28440">
              <a:solidFill>
                <a:srgbClr val="f2aa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flipV="1">
              <a:off x="3708360" y="3500280"/>
              <a:ext cx="71280" cy="1224000"/>
            </a:xfrm>
            <a:prstGeom prst="line">
              <a:avLst/>
            </a:prstGeom>
            <a:ln w="28440">
              <a:solidFill>
                <a:srgbClr val="f2aa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979640" y="2205000"/>
            <a:ext cx="3457440" cy="2743920"/>
            <a:chOff x="1979640" y="2205000"/>
            <a:chExt cx="3457440" cy="2743920"/>
          </a:xfrm>
        </p:grpSpPr>
        <p:sp>
          <p:nvSpPr>
            <p:cNvPr id="336" name=""/>
            <p:cNvSpPr/>
            <p:nvPr/>
          </p:nvSpPr>
          <p:spPr>
            <a:xfrm>
              <a:off x="4140360" y="2636640"/>
              <a:ext cx="560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Tahoma"/>
                </a:rPr>
                <a:t>В</a:t>
              </a:r>
              <a:r>
                <a:rPr b="1" lang="en-US" sz="2000" spc="-1" strike="noStrike" baseline="-25000">
                  <a:solidFill>
                    <a:srgbClr val="66ff33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92720" y="3355920"/>
              <a:ext cx="560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Tahoma"/>
                </a:rPr>
                <a:t>А</a:t>
              </a:r>
              <a:r>
                <a:rPr b="1" lang="en-US" sz="2000" spc="-1" strike="noStrike" baseline="-25000">
                  <a:solidFill>
                    <a:srgbClr val="66ff33"/>
                  </a:solidFill>
                  <a:latin typeface="Tahoma"/>
                </a:rPr>
                <a:t>1</a:t>
              </a:r>
              <a:r>
                <a:rPr b="1" lang="en-US" sz="2000" spc="-1" strike="noStrike">
                  <a:solidFill>
                    <a:srgbClr val="66ff33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03640" y="2923920"/>
              <a:ext cx="647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Tahoma"/>
                </a:rPr>
                <a:t>С</a:t>
              </a:r>
              <a:r>
                <a:rPr b="1" lang="en-US" sz="2000" spc="-1" strike="noStrike" baseline="-25000">
                  <a:solidFill>
                    <a:srgbClr val="66ff33"/>
                  </a:solidFill>
                  <a:latin typeface="Tahoma"/>
                </a:rPr>
                <a:t> 1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64000" y="4508280"/>
              <a:ext cx="560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Tahoma"/>
                </a:rPr>
                <a:t>О</a:t>
              </a:r>
              <a:r>
                <a:rPr b="1" lang="en-US" sz="2000" spc="-1" strike="noStrike" baseline="-25000">
                  <a:solidFill>
                    <a:srgbClr val="66ff33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 rot="10800000">
              <a:off x="4716360" y="2347920"/>
              <a:ext cx="720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Tahoma"/>
                </a:rPr>
                <a:t>О</a:t>
              </a:r>
              <a:r>
                <a:rPr b="1" lang="en-US" sz="2000" spc="-1" strike="noStrike" baseline="-25000">
                  <a:solidFill>
                    <a:srgbClr val="66ff33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979640" y="2205000"/>
              <a:ext cx="56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Tahoma"/>
                </a:rPr>
                <a:t>О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476360" y="189000"/>
                <a:ext cx="604836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В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С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tgA</m:t>
                        </m:r>
                      </m:num>
                      <m:den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tg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tgB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tgC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tgC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tg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 advTm="30000">
    <p:comb dir="horz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cc"/>
                </a:solidFill>
                <a:latin typeface="Palatino Linotype"/>
              </a:rPr>
              <a:t>Цель исследования: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cc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cc"/>
                </a:solidFill>
                <a:latin typeface="Rage Italic"/>
              </a:rPr>
              <a:t>обобщение и систематизация теоретического и практического материалов по данной теме.</a:t>
            </a:r>
            <a:endParaRPr b="0" lang="en-US" sz="40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cc"/>
                </a:solidFill>
                <a:latin typeface="Rockwell Condensed"/>
              </a:rPr>
              <a:t>Гипотеза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cc"/>
                </a:solidFill>
                <a:latin typeface="Rage Italic"/>
              </a:rPr>
              <a:t>   </a:t>
            </a:r>
            <a:r>
              <a:rPr b="0" i="1" lang="en-US" sz="4000" spc="-1" strike="noStrike">
                <a:solidFill>
                  <a:srgbClr val="0000cc"/>
                </a:solidFill>
                <a:latin typeface="Rage Italic"/>
              </a:rPr>
              <a:t>желание изучать и применять неизвестные  теоремы при решении задач, может способствовать развитию интереса к геометрии, как науке.</a:t>
            </a:r>
            <a:endParaRPr b="0" lang="en-US" sz="40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Rockwell Condensed"/>
              </a:rPr>
              <a:t>Замечательные точки треугольни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cc"/>
                </a:solidFill>
                <a:latin typeface="Rage Italic"/>
              </a:rPr>
              <a:t>точка пересечения биссектрис; </a:t>
            </a:r>
            <a:endParaRPr b="0" lang="en-US" sz="4000" spc="-1" strike="noStrike">
              <a:solidFill>
                <a:srgbClr val="0000c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Rage Italic"/>
              </a:rPr>
              <a:t> </a:t>
            </a:r>
            <a:r>
              <a:rPr b="0" lang="ru-RU" sz="4000" spc="-1" strike="noStrike">
                <a:solidFill>
                  <a:srgbClr val="0000cc"/>
                </a:solidFill>
                <a:latin typeface="Rage Italic"/>
              </a:rPr>
              <a:t>точка пересечения серединных </a:t>
            </a:r>
            <a:endParaRPr b="0" lang="en-US" sz="4000" spc="-1" strike="noStrike">
              <a:solidFill>
                <a:srgbClr val="0000c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Rage Italic"/>
              </a:rPr>
              <a:t>    </a:t>
            </a:r>
            <a:r>
              <a:rPr b="0" lang="ru-RU" sz="4000" spc="-1" strike="noStrike">
                <a:solidFill>
                  <a:srgbClr val="0000cc"/>
                </a:solidFill>
                <a:latin typeface="Rage Italic"/>
              </a:rPr>
              <a:t>перпендикуляров;</a:t>
            </a:r>
            <a:endParaRPr b="0" lang="en-US" sz="4000" spc="-1" strike="noStrike">
              <a:solidFill>
                <a:srgbClr val="0000c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Rage Italic"/>
              </a:rPr>
              <a:t> </a:t>
            </a:r>
            <a:r>
              <a:rPr b="0" lang="ru-RU" sz="4000" spc="-1" strike="noStrike">
                <a:solidFill>
                  <a:srgbClr val="0000cc"/>
                </a:solidFill>
                <a:latin typeface="Rage Italic"/>
              </a:rPr>
              <a:t>точка пересечения высот (ортоцентр);</a:t>
            </a:r>
            <a:endParaRPr b="0" lang="en-US" sz="4000" spc="-1" strike="noStrike">
              <a:solidFill>
                <a:srgbClr val="0000c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Rage Italic"/>
              </a:rPr>
              <a:t> </a:t>
            </a:r>
            <a:r>
              <a:rPr b="0" lang="ru-RU" sz="4000" spc="-1" strike="noStrike">
                <a:solidFill>
                  <a:srgbClr val="0000cc"/>
                </a:solidFill>
                <a:latin typeface="Rage Italic"/>
              </a:rPr>
              <a:t>точка пересечения медиан (центроид).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12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20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88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24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Теорема Менела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66560" y="2365200"/>
            <a:ext cx="3013200" cy="2922120"/>
            <a:chOff x="466560" y="2365200"/>
            <a:chExt cx="3013200" cy="2922120"/>
          </a:xfrm>
        </p:grpSpPr>
        <p:sp>
          <p:nvSpPr>
            <p:cNvPr id="135" name=""/>
            <p:cNvSpPr/>
            <p:nvPr/>
          </p:nvSpPr>
          <p:spPr>
            <a:xfrm flipV="1">
              <a:off x="684360" y="2723760"/>
              <a:ext cx="1655640" cy="208764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3440" y="4830840"/>
              <a:ext cx="237636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2340000" y="2636640"/>
              <a:ext cx="720720" cy="216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6560" y="4827600"/>
              <a:ext cx="52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ahoma"/>
                </a:rPr>
                <a:t>А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55960" y="4813200"/>
              <a:ext cx="52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ahoma"/>
                </a:rPr>
                <a:t>В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03640" y="2365200"/>
              <a:ext cx="52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ahoma"/>
                </a:rPr>
                <a:t>С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124000" y="1989000"/>
            <a:ext cx="649440" cy="2808360"/>
            <a:chOff x="2124000" y="1989000"/>
            <a:chExt cx="649440" cy="2808360"/>
          </a:xfrm>
        </p:grpSpPr>
        <p:sp>
          <p:nvSpPr>
            <p:cNvPr id="142" name=""/>
            <p:cNvSpPr/>
            <p:nvPr/>
          </p:nvSpPr>
          <p:spPr>
            <a:xfrm flipV="1">
              <a:off x="2320920" y="1989000"/>
              <a:ext cx="431640" cy="72072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124000" y="1989000"/>
              <a:ext cx="649440" cy="2808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88000" y="2565360"/>
                <a:ext cx="1224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211640" y="4149720"/>
                <a:ext cx="305928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В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С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28560" y="4079880"/>
            <a:ext cx="228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1081800"/>
            <a:ext cx="56880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Rage Italic"/>
              </a:rPr>
              <a:t>Пусть на сторонах АВ, ВС и продолжении стороны АС треугольника АВС взяты соответственно точки</a:t>
            </a:r>
            <a:r>
              <a:rPr b="1" lang="en-US" sz="2400" spc="-1" strike="noStrike">
                <a:solidFill>
                  <a:srgbClr val="0000cc"/>
                </a:solidFill>
                <a:latin typeface="Rage Italic"/>
              </a:rPr>
              <a:t>                         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Rage Italic"/>
              </a:rPr>
              <a:t>Точки лежат на одной прямой тогда и только тогда, когда выполняется равенство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10920" y="1916280"/>
            <a:ext cx="2521080" cy="3025440"/>
            <a:chOff x="610920" y="1916280"/>
            <a:chExt cx="2521080" cy="3025440"/>
          </a:xfrm>
        </p:grpSpPr>
        <p:sp>
          <p:nvSpPr>
            <p:cNvPr id="150" name=""/>
            <p:cNvSpPr/>
            <p:nvPr/>
          </p:nvSpPr>
          <p:spPr>
            <a:xfrm>
              <a:off x="755640" y="4941720"/>
              <a:ext cx="115236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68360" y="4941720"/>
              <a:ext cx="64800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2843280" y="3789360"/>
              <a:ext cx="288720" cy="7192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411280" y="2707920"/>
              <a:ext cx="144720" cy="36036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268360" y="2060280"/>
              <a:ext cx="358920" cy="4316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610920" y="1916280"/>
              <a:ext cx="1871640" cy="24476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0" y="1268280"/>
            <a:ext cx="9144000" cy="4039200"/>
            <a:chOff x="0" y="1268280"/>
            <a:chExt cx="9144000" cy="4039200"/>
          </a:xfrm>
        </p:grpSpPr>
        <p:sp>
          <p:nvSpPr>
            <p:cNvPr id="157" name=""/>
            <p:cNvSpPr/>
            <p:nvPr/>
          </p:nvSpPr>
          <p:spPr>
            <a:xfrm>
              <a:off x="2771640" y="1700280"/>
              <a:ext cx="524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ahoma"/>
                </a:rPr>
                <a:t>В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30240" y="4797360"/>
              <a:ext cx="524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ahoma"/>
                </a:rPr>
                <a:t>С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54400" y="3141720"/>
              <a:ext cx="52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ahoma"/>
                </a:rPr>
                <a:t>А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19890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45000" y="4076640"/>
              <a:ext cx="384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66ff33"/>
                  </a:solidFill>
                  <a:latin typeface="Tahoma"/>
                </a:rPr>
                <a:t>.</a:t>
              </a:r>
              <a:endParaRPr b="0" lang="en-US" sz="6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82760" y="2421000"/>
              <a:ext cx="21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66ff33"/>
                  </a:solidFill>
                  <a:latin typeface="Tahoma"/>
                </a:rPr>
                <a:t>.</a:t>
              </a:r>
              <a:endParaRPr b="0" lang="en-US" sz="6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13520" y="1268280"/>
              <a:ext cx="384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66ff33"/>
                  </a:solidFill>
                  <a:latin typeface="Tahoma"/>
                </a:rPr>
                <a:t>.</a:t>
              </a:r>
              <a:endParaRPr b="0" lang="en-US" sz="60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Теорема Чев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280" y="2276640"/>
                <a:ext cx="1368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971640" y="4221000"/>
                <a:ext cx="32274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В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С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39640" y="1384200"/>
            <a:ext cx="583272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Palatino Linotype"/>
                <a:ea typeface="Times New Roman"/>
              </a:rPr>
              <a:t>Пусть на сторонах АВ, ВС и АС треугольника АВС взяты точки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Прямые АА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Palatino Linotype"/>
              </a:rPr>
              <a:t>1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, ВВ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Palatino Linotype"/>
              </a:rPr>
              <a:t>1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, СС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Palatino Linotype"/>
              </a:rPr>
              <a:t>1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 пересекаются в одной точке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тогда и только тогда, когда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47120" y="39135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448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148360" y="2349360"/>
            <a:ext cx="3024000" cy="3029760"/>
            <a:chOff x="5148360" y="2349360"/>
            <a:chExt cx="3024000" cy="3029760"/>
          </a:xfrm>
        </p:grpSpPr>
        <p:sp>
          <p:nvSpPr>
            <p:cNvPr id="170" name=""/>
            <p:cNvSpPr/>
            <p:nvPr/>
          </p:nvSpPr>
          <p:spPr>
            <a:xfrm flipV="1">
              <a:off x="5435640" y="3429000"/>
              <a:ext cx="1873080" cy="144792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6372360" y="2781360"/>
              <a:ext cx="720720" cy="20876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388120" y="2790720"/>
              <a:ext cx="1672920" cy="2106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88120" y="4897440"/>
              <a:ext cx="240012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7061040" y="2717280"/>
              <a:ext cx="727200" cy="21798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48360" y="4911840"/>
              <a:ext cx="53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А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42080" y="4897440"/>
              <a:ext cx="53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В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77080" y="2349360"/>
              <a:ext cx="53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С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43640" y="3645000"/>
              <a:ext cx="1297080" cy="12240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27640" y="4869000"/>
              <a:ext cx="530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С</a:t>
              </a:r>
              <a:r>
                <a:rPr b="1" lang="en-US" sz="2400" spc="-1" strike="noStrike" baseline="-25000">
                  <a:solidFill>
                    <a:srgbClr val="ffffcc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08720" y="3213000"/>
              <a:ext cx="528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А</a:t>
              </a:r>
              <a:r>
                <a:rPr b="1" lang="en-US" sz="2400" spc="-1" strike="noStrike" baseline="-25000">
                  <a:solidFill>
                    <a:srgbClr val="ffffcc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6000" y="3284640"/>
              <a:ext cx="530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В</a:t>
              </a:r>
              <a:r>
                <a:rPr b="1" lang="en-US" sz="2400" spc="-1" strike="noStrike" baseline="-25000">
                  <a:solidFill>
                    <a:srgbClr val="ffffcc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рактическая часть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f25a"/>
                </a:solidFill>
                <a:uFillTx/>
                <a:latin typeface="Palatino Linotype"/>
                <a:hlinkClick r:id="rId1" action="ppaction://hlinksldjump"/>
              </a:rPr>
              <a:t>Задача 1</a:t>
            </a: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alatino Linotype"/>
              </a:rPr>
              <a:t>Задача 2</a:t>
            </a: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alatino Linotype"/>
              </a:rPr>
              <a:t>Задача 3</a:t>
            </a: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alatino Linotype"/>
              </a:rPr>
              <a:t>Задача 4</a:t>
            </a: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alatino Linotype"/>
              </a:rPr>
              <a:t>Задача 5</a:t>
            </a: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Georgia"/>
              </a:rPr>
              <a:t>Задача 1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очка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лежит на стороне АС треугольника АВС, причём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N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NC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=2:3. Найти, в каком отношении медиана АМ 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делит отрезок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N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835280" y="4292640"/>
            <a:ext cx="1578960" cy="864720"/>
            <a:chOff x="1835280" y="4292640"/>
            <a:chExt cx="1578960" cy="864720"/>
          </a:xfrm>
        </p:grpSpPr>
        <p:sp>
          <p:nvSpPr>
            <p:cNvPr id="187" name=""/>
            <p:cNvSpPr/>
            <p:nvPr/>
          </p:nvSpPr>
          <p:spPr>
            <a:xfrm flipV="1">
              <a:off x="1835280" y="4508280"/>
              <a:ext cx="1296720" cy="6490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64320" y="42926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25a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076720" y="2205000"/>
                <a:ext cx="20876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1" name=""/>
          <p:cNvGrpSpPr/>
          <p:nvPr/>
        </p:nvGrpSpPr>
        <p:grpSpPr>
          <a:xfrm>
            <a:off x="396720" y="2852640"/>
            <a:ext cx="3586680" cy="2630880"/>
            <a:chOff x="396720" y="2852640"/>
            <a:chExt cx="3586680" cy="2630880"/>
          </a:xfrm>
        </p:grpSpPr>
        <p:sp>
          <p:nvSpPr>
            <p:cNvPr id="192" name=""/>
            <p:cNvSpPr/>
            <p:nvPr/>
          </p:nvSpPr>
          <p:spPr>
            <a:xfrm flipV="1">
              <a:off x="684360" y="3068280"/>
              <a:ext cx="1008000" cy="20890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2360" y="3068640"/>
              <a:ext cx="2016000" cy="20890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4360" y="5157720"/>
              <a:ext cx="30240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6720" y="5059440"/>
              <a:ext cx="35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25a"/>
                  </a:solidFill>
                  <a:latin typeface="Tahoma"/>
                </a:rPr>
                <a:t>А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35600" y="28526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25a"/>
                  </a:solidFill>
                  <a:latin typeface="Tahoma"/>
                </a:rPr>
                <a:t>В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41040" y="501336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25a"/>
                  </a:solidFill>
                  <a:latin typeface="Tahoma"/>
                </a:rPr>
                <a:t>С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14960" y="5084640"/>
              <a:ext cx="38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25a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4360" y="4149720"/>
              <a:ext cx="2016000" cy="10080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96040" y="3933720"/>
              <a:ext cx="42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25a"/>
                  </a:solidFill>
                  <a:latin typeface="Tahoma"/>
                </a:rPr>
                <a:t>M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92360" y="3068640"/>
              <a:ext cx="142920" cy="20890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8640" y="5075280"/>
              <a:ext cx="46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ahoma"/>
                </a:rPr>
                <a:t>2x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04800" y="5084640"/>
              <a:ext cx="46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ahoma"/>
                </a:rPr>
                <a:t>3x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076720" y="3211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КС = 3у, МС = 5у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76720" y="3788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ВМ = МС = 5у.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49640" y="228924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33"/>
                </a:solidFill>
                <a:uFillTx/>
                <a:latin typeface="Tahoma"/>
              </a:rPr>
              <a:t>1 </a:t>
            </a:r>
            <a:r>
              <a:rPr b="0" lang="ru-RU" sz="2400" spc="-1" strike="noStrike" u="sng">
                <a:solidFill>
                  <a:srgbClr val="333333"/>
                </a:solidFill>
                <a:uFillTx/>
                <a:latin typeface="Tahoma"/>
              </a:rPr>
              <a:t>способ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076720" y="4292640"/>
                <a:ext cx="216072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М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К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О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4055400" y="537372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33"/>
                </a:solidFill>
                <a:uFillTx/>
                <a:latin typeface="Tahoma"/>
              </a:rPr>
              <a:t>Ответ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364000" y="5229360"/>
                <a:ext cx="11527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О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324000" y="573408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8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30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33"/>
                </a:solidFill>
                <a:uFillTx/>
                <a:latin typeface="Tahoma"/>
              </a:rPr>
              <a:t>2 способ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96720" y="1413000"/>
            <a:ext cx="3586680" cy="2630520"/>
            <a:chOff x="396720" y="1413000"/>
            <a:chExt cx="3586680" cy="2630520"/>
          </a:xfrm>
        </p:grpSpPr>
        <p:sp>
          <p:nvSpPr>
            <p:cNvPr id="215" name=""/>
            <p:cNvSpPr/>
            <p:nvPr/>
          </p:nvSpPr>
          <p:spPr>
            <a:xfrm flipV="1">
              <a:off x="684360" y="1628640"/>
              <a:ext cx="1008000" cy="2088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2360" y="1628640"/>
              <a:ext cx="2016000" cy="2088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4360" y="3717720"/>
              <a:ext cx="30240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6720" y="3619440"/>
              <a:ext cx="35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25a"/>
                  </a:solidFill>
                  <a:latin typeface="Tahoma"/>
                </a:rPr>
                <a:t>А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35600" y="14130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25a"/>
                  </a:solidFill>
                  <a:latin typeface="Tahoma"/>
                </a:rPr>
                <a:t>В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040" y="357336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25a"/>
                  </a:solidFill>
                  <a:latin typeface="Tahoma"/>
                </a:rPr>
                <a:t>С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14960" y="3644640"/>
              <a:ext cx="38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25a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84360" y="2709360"/>
              <a:ext cx="2016000" cy="100764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6040" y="2493720"/>
              <a:ext cx="42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25a"/>
                  </a:solidFill>
                  <a:latin typeface="Tahoma"/>
                </a:rPr>
                <a:t>M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92360" y="1628640"/>
              <a:ext cx="142920" cy="2088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88640" y="3635280"/>
              <a:ext cx="46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ahoma"/>
                </a:rPr>
                <a:t>2x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04800" y="3644640"/>
              <a:ext cx="46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ahoma"/>
                </a:rPr>
                <a:t>3x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348000" y="1700280"/>
            <a:ext cx="5543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Palatino Linotype"/>
              </a:rPr>
              <a:t>Рассмотрим треугольник </a:t>
            </a: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CBN</a:t>
            </a:r>
            <a:r>
              <a:rPr b="0" lang="ru-RU" sz="2400" spc="-1" strike="noStrike">
                <a:solidFill>
                  <a:srgbClr val="ffffcc"/>
                </a:solidFill>
                <a:latin typeface="Palatino Linotype"/>
              </a:rPr>
              <a:t> и секущую АМ. Тогда по теореме Менелая получим: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95280" y="4292640"/>
                <a:ext cx="56880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М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6227640" y="4292640"/>
                <a:ext cx="12240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О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250920" y="5805360"/>
            <a:ext cx="720720" cy="28764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54081" h="21600">
                <a:moveTo>
                  <a:pt x="0" y="0"/>
                </a:moveTo>
                <a:lnTo>
                  <a:pt x="54081" y="0"/>
                </a:lnTo>
                <a:lnTo>
                  <a:pt x="54081" y="21600"/>
                </a:lnTo>
                <a:lnTo>
                  <a:pt x="0" y="21600"/>
                </a:lnTo>
                <a:close/>
              </a:path>
              <a:path fill="lightenLess" w="54081" h="21600">
                <a:moveTo>
                  <a:pt x="0" y="0"/>
                </a:moveTo>
                <a:lnTo>
                  <a:pt x="54081" y="0"/>
                </a:lnTo>
                <a:lnTo>
                  <a:pt x="52681" y="1400"/>
                </a:lnTo>
                <a:lnTo>
                  <a:pt x="1400" y="1400"/>
                </a:lnTo>
                <a:close/>
              </a:path>
              <a:path fill="darken" w="54081" h="21600">
                <a:moveTo>
                  <a:pt x="54081" y="0"/>
                </a:moveTo>
                <a:lnTo>
                  <a:pt x="54081" y="21600"/>
                </a:lnTo>
                <a:lnTo>
                  <a:pt x="52681" y="20200"/>
                </a:lnTo>
                <a:lnTo>
                  <a:pt x="52681" y="1400"/>
                </a:lnTo>
                <a:close/>
              </a:path>
              <a:path fill="darkenLess" w="54081" h="21600">
                <a:moveTo>
                  <a:pt x="5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81" y="20200"/>
                </a:lnTo>
                <a:close/>
              </a:path>
              <a:path fill="lighten" w="5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81" h="21600">
                <a:moveTo>
                  <a:pt x="20034" y="10800"/>
                </a:moveTo>
                <a:lnTo>
                  <a:pt x="34047" y="3794"/>
                </a:lnTo>
                <a:lnTo>
                  <a:pt x="34047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6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09:16:18Z</dcterms:created>
  <dc:creator>Надежда</dc:creator>
  <dc:description/>
  <dc:language>en-US</dc:language>
  <cp:lastModifiedBy>Customer</cp:lastModifiedBy>
  <dcterms:modified xsi:type="dcterms:W3CDTF">2010-12-10T14:36:42Z</dcterms:modified>
  <cp:revision>6</cp:revision>
  <dc:subject/>
  <dc:title>Слайд 1</dc:title>
</cp:coreProperties>
</file>