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22F-CD7B-451C-9486-E9186DA1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E86-AB8E-4C81-872F-239B020B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605-3B73-490A-AB9B-43150311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959-0BB3-4C29-BEF7-49C802EE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C98-34E5-4CDD-8F53-98D6CBD1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221-DF67-43BC-AE7A-6C61BF3C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9A8-CCF8-4B3B-9558-FC18585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9B5-37D4-450B-97EF-E18B7645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A43-69CF-4E5F-B2AA-350B34DB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55A-5A1C-44CA-AE99-BCDDFD09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7E1-4D16-4E48-98DD-4160D9A0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FFA-6C27-472E-882B-BC4A1D0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E6C-2A21-4A85-BE8F-4DFEF9325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Чем полезно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молок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но-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06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АРНОЕ МОЛ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амое полезное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ное молоко обладает бактерицидны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в те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4 ча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д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ом его надо обяз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пя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588000" y="2997360"/>
            <a:ext cx="23907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ЕДИЦИНА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о мол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яет 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ктерицидны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яет нервн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жает риск сердечно-сосудистых заболе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яет зубы, волосы,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494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чему ты пьёшь моло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Я хочу 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расивые зу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ежную к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линные вол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устые ресни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5568" b="0"/>
          <a:stretch/>
        </p:blipFill>
        <p:spPr>
          <a:xfrm>
            <a:off x="900000" y="1700280"/>
            <a:ext cx="31687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чему ты пьёшь моло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 я хочу им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репкие к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надёжные мыш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доровые зу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бодрое настро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5556" b="3704"/>
          <a:stretch/>
        </p:blipFill>
        <p:spPr>
          <a:xfrm>
            <a:off x="5292720" y="1557360"/>
            <a:ext cx="31161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А 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Хочешь выр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contrast="12000"/>
          </a:blip>
          <a:srcRect l="0" t="0" r="4553" b="0"/>
          <a:stretch/>
        </p:blipFill>
        <p:spPr>
          <a:xfrm>
            <a:off x="1763640" y="692280"/>
            <a:ext cx="4969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Эксперимент с одноклассн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15 ноября по 3 декаб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ли молоко 42%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20 декабря по 23 декаб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ли молоко 92% однокласс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я гипотеза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«Если я расскажу моим одноклассникам о пользе молока, то они все будут пить молоко с удовольствием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тверд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олоко – очень полезный и ценный пищевой продукт. Если вы хотите иметь правильную осанку, красивые зубы, волосы, ресницы, ногти, то пейте молоко каждый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132000" y="4221000"/>
            <a:ext cx="3240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астеризация мол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нагревание молока до 60 °С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нство витам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ется, но с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я пастеризова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ка значительно мень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темпп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0 до 6 градусов срок 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олее 5 суток. Пастеризованное молоко кипятить не рекомендуе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808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ОЗЬЕ МОЛ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ильное бактерицидное средство, приводит в порядок иммунную систему. При легочных заболеваниях, туберкулезе и бронхиальной аст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о просто незаменим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4384" b="0"/>
          <a:stretch/>
        </p:blipFill>
        <p:spPr>
          <a:xfrm>
            <a:off x="5508720" y="4005360"/>
            <a:ext cx="33130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Молочные прод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рог, сыр, йогурты, кефир, молочный шоколад, сметана, сгущёнка, простокваша, сливки, детские сме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87640" y="3429000"/>
            <a:ext cx="30970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Чем полезно моло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 узнать подробно о пользе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ровести опрос с целью выдвижения гипот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ривлечь одноклассников, учителей к обсуждению этого вопр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мотреть информацию о коровьем молоке с точки зрения его пользы для детского орган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сти эксперимент с однокласс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Собрать и обобщить интересный материал по теме «Чем полезно молок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Сделать выводы в ходе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956720" y="1341360"/>
            <a:ext cx="100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кетир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Любишь ли ты молок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ью с удовольств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ью иногда, когда хо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ью, если сильно заставл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Ни за что не буду п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Как ты думаешь, молоко полезно или 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Если полезно, то 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Какие продукты питания сделаны из мол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1939" t="0" r="29244" b="0"/>
          <a:stretch/>
        </p:blipFill>
        <p:spPr>
          <a:xfrm>
            <a:off x="6659640" y="1052640"/>
            <a:ext cx="18320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Если я расскажу моим одноклассникам о пользе мол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 они все будут пить молоко с удовольств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1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Индии корова считается священным живот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й пищей человека  является материнское молок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ревнем Египте, Греции, Риме молоко называли «источником здоровья», «соком жизни», «белой кровь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8565" t="0" r="14352" b="0"/>
          <a:stretch/>
        </p:blipFill>
        <p:spPr>
          <a:xfrm>
            <a:off x="6588000" y="4941720"/>
            <a:ext cx="219708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ременные врачи-диетологи считают молоко важнейшим продуктом 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компоненты молока идеально сбалансирован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ища, которая дана самой природ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400536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4005360"/>
            <a:ext cx="20671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9348" t="8893" r="7074" b="25860"/>
          <a:stretch/>
        </p:blipFill>
        <p:spPr>
          <a:xfrm>
            <a:off x="0" y="998640"/>
            <a:ext cx="9144000" cy="585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1184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8920" y="1581120"/>
            <a:ext cx="1027080" cy="223920"/>
          </a:xfrm>
          <a:custGeom>
            <a:avLst/>
            <a:gdLst/>
            <a:ahLst/>
            <a:rect l="l" t="t" r="r" b="b"/>
            <a:pathLst>
              <a:path w="2854" h="622">
                <a:moveTo>
                  <a:pt x="248" y="4415"/>
                </a:moveTo>
                <a:cubicBezTo>
                  <a:pt x="332" y="4415"/>
                  <a:pt x="401" y="4417"/>
                  <a:pt x="471" y="4440"/>
                </a:cubicBezTo>
                <a:cubicBezTo>
                  <a:pt x="476" y="4442"/>
                  <a:pt x="541" y="4455"/>
                  <a:pt x="571" y="4465"/>
                </a:cubicBezTo>
                <a:cubicBezTo>
                  <a:pt x="622" y="4482"/>
                  <a:pt x="630" y="4487"/>
                  <a:pt x="695" y="4490"/>
                </a:cubicBezTo>
                <a:cubicBezTo>
                  <a:pt x="743" y="4492"/>
                  <a:pt x="754" y="4501"/>
                  <a:pt x="794" y="4514"/>
                </a:cubicBezTo>
                <a:cubicBezTo>
                  <a:pt x="835" y="4527"/>
                  <a:pt x="878" y="4523"/>
                  <a:pt x="918" y="4539"/>
                </a:cubicBezTo>
                <a:cubicBezTo>
                  <a:pt x="959" y="4556"/>
                  <a:pt x="997" y="4551"/>
                  <a:pt x="1042" y="4564"/>
                </a:cubicBezTo>
                <a:cubicBezTo>
                  <a:pt x="1110" y="4584"/>
                  <a:pt x="1141" y="4611"/>
                  <a:pt x="1215" y="4614"/>
                </a:cubicBezTo>
                <a:cubicBezTo>
                  <a:pt x="1274" y="4616"/>
                  <a:pt x="1293" y="4619"/>
                  <a:pt x="1339" y="4638"/>
                </a:cubicBezTo>
                <a:cubicBezTo>
                  <a:pt x="1389" y="4659"/>
                  <a:pt x="1405" y="4650"/>
                  <a:pt x="1463" y="4663"/>
                </a:cubicBezTo>
                <a:cubicBezTo>
                  <a:pt x="1494" y="4670"/>
                  <a:pt x="1516" y="4675"/>
                  <a:pt x="1563" y="4688"/>
                </a:cubicBezTo>
                <a:cubicBezTo>
                  <a:pt x="1603" y="4699"/>
                  <a:pt x="1584" y="4708"/>
                  <a:pt x="1637" y="4713"/>
                </a:cubicBezTo>
                <a:cubicBezTo>
                  <a:pt x="1974" y="4747"/>
                  <a:pt x="2391" y="4635"/>
                  <a:pt x="2704" y="4738"/>
                </a:cubicBezTo>
                <a:cubicBezTo>
                  <a:pt x="2736" y="4749"/>
                  <a:pt x="2776" y="4742"/>
                  <a:pt x="2803" y="4762"/>
                </a:cubicBezTo>
                <a:cubicBezTo>
                  <a:pt x="2825" y="4778"/>
                  <a:pt x="2843" y="4795"/>
                  <a:pt x="2877" y="4812"/>
                </a:cubicBezTo>
                <a:cubicBezTo>
                  <a:pt x="2912" y="4830"/>
                  <a:pt x="2928" y="4813"/>
                  <a:pt x="2952" y="4837"/>
                </a:cubicBezTo>
                <a:cubicBezTo>
                  <a:pt x="2964" y="4849"/>
                  <a:pt x="2991" y="4875"/>
                  <a:pt x="3001" y="4887"/>
                </a:cubicBezTo>
                <a:cubicBezTo>
                  <a:pt x="3020" y="4911"/>
                  <a:pt x="3005" y="4941"/>
                  <a:pt x="3026" y="4961"/>
                </a:cubicBezTo>
                <a:cubicBezTo>
                  <a:pt x="3042" y="4976"/>
                  <a:pt x="3057" y="4973"/>
                  <a:pt x="3076" y="4986"/>
                </a:cubicBezTo>
                <a:cubicBezTo>
                  <a:pt x="3079" y="4949"/>
                  <a:pt x="3098" y="4912"/>
                  <a:pt x="3101" y="4887"/>
                </a:cubicBezTo>
                <a:cubicBezTo>
                  <a:pt x="3108" y="4835"/>
                  <a:pt x="3123" y="4588"/>
                  <a:pt x="3076" y="4564"/>
                </a:cubicBezTo>
                <a:cubicBezTo>
                  <a:pt x="3024" y="4538"/>
                  <a:pt x="2985" y="4546"/>
                  <a:pt x="2927" y="4539"/>
                </a:cubicBezTo>
                <a:cubicBezTo>
                  <a:pt x="2633" y="4503"/>
                  <a:pt x="2282" y="4604"/>
                  <a:pt x="2009" y="4514"/>
                </a:cubicBezTo>
                <a:cubicBezTo>
                  <a:pt x="1975" y="4503"/>
                  <a:pt x="1942" y="4505"/>
                  <a:pt x="1910" y="4490"/>
                </a:cubicBezTo>
                <a:cubicBezTo>
                  <a:pt x="1876" y="4474"/>
                  <a:pt x="1851" y="4471"/>
                  <a:pt x="1811" y="4465"/>
                </a:cubicBezTo>
                <a:cubicBezTo>
                  <a:pt x="1644" y="4440"/>
                  <a:pt x="1447" y="4460"/>
                  <a:pt x="1290" y="4440"/>
                </a:cubicBezTo>
                <a:cubicBezTo>
                  <a:pt x="1232" y="4433"/>
                  <a:pt x="1170" y="4422"/>
                  <a:pt x="1116" y="4415"/>
                </a:cubicBezTo>
                <a:cubicBezTo>
                  <a:pt x="1009" y="4402"/>
                  <a:pt x="841" y="4399"/>
                  <a:pt x="769" y="4390"/>
                </a:cubicBezTo>
                <a:cubicBezTo>
                  <a:pt x="664" y="4377"/>
                  <a:pt x="512" y="4387"/>
                  <a:pt x="446" y="4415"/>
                </a:cubicBezTo>
                <a:cubicBezTo>
                  <a:pt x="381" y="4443"/>
                  <a:pt x="431" y="4408"/>
                  <a:pt x="397" y="4465"/>
                </a:cubicBezTo>
                <a:cubicBezTo>
                  <a:pt x="376" y="4501"/>
                  <a:pt x="362" y="4526"/>
                  <a:pt x="347" y="4564"/>
                </a:cubicBezTo>
                <a:cubicBezTo>
                  <a:pt x="336" y="4591"/>
                  <a:pt x="325" y="4636"/>
                  <a:pt x="322" y="4663"/>
                </a:cubicBezTo>
                <a:cubicBezTo>
                  <a:pt x="314" y="4727"/>
                  <a:pt x="322" y="4797"/>
                  <a:pt x="322" y="4862"/>
                </a:cubicBezTo>
                <a:cubicBezTo>
                  <a:pt x="713" y="4862"/>
                  <a:pt x="1163" y="4843"/>
                  <a:pt x="1513" y="4887"/>
                </a:cubicBezTo>
                <a:cubicBezTo>
                  <a:pt x="1611" y="4899"/>
                  <a:pt x="1774" y="4905"/>
                  <a:pt x="1836" y="4911"/>
                </a:cubicBezTo>
                <a:cubicBezTo>
                  <a:pt x="1926" y="4920"/>
                  <a:pt x="2079" y="4930"/>
                  <a:pt x="2133" y="4936"/>
                </a:cubicBezTo>
                <a:cubicBezTo>
                  <a:pt x="2198" y="4943"/>
                  <a:pt x="2327" y="4957"/>
                  <a:pt x="2356" y="4961"/>
                </a:cubicBezTo>
                <a:cubicBezTo>
                  <a:pt x="2397" y="4966"/>
                  <a:pt x="2450" y="4982"/>
                  <a:pt x="2480" y="4986"/>
                </a:cubicBezTo>
                <a:cubicBezTo>
                  <a:pt x="2520" y="4991"/>
                  <a:pt x="2626" y="5011"/>
                  <a:pt x="2629" y="5011"/>
                </a:cubicBezTo>
                <a:cubicBezTo>
                  <a:pt x="2710" y="5020"/>
                  <a:pt x="2861" y="5024"/>
                  <a:pt x="2902" y="4986"/>
                </a:cubicBezTo>
                <a:cubicBezTo>
                  <a:pt x="2907" y="4982"/>
                  <a:pt x="2926" y="4914"/>
                  <a:pt x="2927" y="4911"/>
                </a:cubicBezTo>
                <a:cubicBezTo>
                  <a:pt x="2935" y="4867"/>
                  <a:pt x="2950" y="4772"/>
                  <a:pt x="2952" y="4762"/>
                </a:cubicBezTo>
                <a:cubicBezTo>
                  <a:pt x="2952" y="4738"/>
                  <a:pt x="2952" y="4729"/>
                  <a:pt x="2952" y="4713"/>
                </a:cubicBezTo>
                <a:cubicBezTo>
                  <a:pt x="2667" y="4713"/>
                  <a:pt x="2247" y="4768"/>
                  <a:pt x="2009" y="4688"/>
                </a:cubicBezTo>
                <a:cubicBezTo>
                  <a:pt x="1975" y="4677"/>
                  <a:pt x="1943" y="4673"/>
                  <a:pt x="1910" y="4663"/>
                </a:cubicBezTo>
                <a:cubicBezTo>
                  <a:pt x="1902" y="4663"/>
                  <a:pt x="1893" y="4663"/>
                  <a:pt x="1885" y="4663"/>
                </a:cubicBezTo>
                <a:cubicBezTo>
                  <a:pt x="2216" y="4663"/>
                  <a:pt x="2546" y="4663"/>
                  <a:pt x="2877" y="46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920" y="2473200"/>
            <a:ext cx="1081080" cy="285840"/>
          </a:xfrm>
          <a:custGeom>
            <a:avLst/>
            <a:gdLst/>
            <a:ahLst/>
            <a:rect l="l" t="t" r="r" b="b"/>
            <a:pathLst>
              <a:path w="3002" h="795">
                <a:moveTo>
                  <a:pt x="223" y="7069"/>
                </a:moveTo>
                <a:cubicBezTo>
                  <a:pt x="721" y="7069"/>
                  <a:pt x="1256" y="7103"/>
                  <a:pt x="1736" y="7045"/>
                </a:cubicBezTo>
                <a:cubicBezTo>
                  <a:pt x="1786" y="7039"/>
                  <a:pt x="1846" y="7025"/>
                  <a:pt x="1885" y="7020"/>
                </a:cubicBezTo>
                <a:cubicBezTo>
                  <a:pt x="1942" y="7013"/>
                  <a:pt x="2013" y="7001"/>
                  <a:pt x="2059" y="6995"/>
                </a:cubicBezTo>
                <a:cubicBezTo>
                  <a:pt x="2100" y="6990"/>
                  <a:pt x="2117" y="6977"/>
                  <a:pt x="2158" y="6970"/>
                </a:cubicBezTo>
                <a:cubicBezTo>
                  <a:pt x="2304" y="6945"/>
                  <a:pt x="2578" y="6953"/>
                  <a:pt x="2679" y="6995"/>
                </a:cubicBezTo>
                <a:cubicBezTo>
                  <a:pt x="2711" y="7008"/>
                  <a:pt x="2729" y="7016"/>
                  <a:pt x="2753" y="7020"/>
                </a:cubicBezTo>
                <a:cubicBezTo>
                  <a:pt x="2884" y="7043"/>
                  <a:pt x="3041" y="7020"/>
                  <a:pt x="3175" y="7020"/>
                </a:cubicBezTo>
                <a:cubicBezTo>
                  <a:pt x="3175" y="7152"/>
                  <a:pt x="3175" y="7285"/>
                  <a:pt x="3175" y="7417"/>
                </a:cubicBezTo>
                <a:cubicBezTo>
                  <a:pt x="2968" y="7417"/>
                  <a:pt x="2762" y="7417"/>
                  <a:pt x="2555" y="7417"/>
                </a:cubicBezTo>
                <a:cubicBezTo>
                  <a:pt x="2566" y="7426"/>
                  <a:pt x="2590" y="7479"/>
                  <a:pt x="2604" y="7491"/>
                </a:cubicBezTo>
                <a:cubicBezTo>
                  <a:pt x="2614" y="7500"/>
                  <a:pt x="2671" y="7514"/>
                  <a:pt x="2679" y="7516"/>
                </a:cubicBezTo>
                <a:cubicBezTo>
                  <a:pt x="2711" y="7523"/>
                  <a:pt x="2720" y="7535"/>
                  <a:pt x="2753" y="7541"/>
                </a:cubicBezTo>
                <a:cubicBezTo>
                  <a:pt x="2864" y="7560"/>
                  <a:pt x="2974" y="7532"/>
                  <a:pt x="3076" y="7565"/>
                </a:cubicBezTo>
                <a:cubicBezTo>
                  <a:pt x="3054" y="7572"/>
                  <a:pt x="3035" y="7588"/>
                  <a:pt x="2977" y="7590"/>
                </a:cubicBezTo>
                <a:cubicBezTo>
                  <a:pt x="2358" y="7615"/>
                  <a:pt x="1348" y="7380"/>
                  <a:pt x="794" y="7615"/>
                </a:cubicBezTo>
                <a:cubicBezTo>
                  <a:pt x="748" y="7634"/>
                  <a:pt x="721" y="7628"/>
                  <a:pt x="670" y="7640"/>
                </a:cubicBezTo>
                <a:cubicBezTo>
                  <a:pt x="627" y="7650"/>
                  <a:pt x="591" y="7660"/>
                  <a:pt x="546" y="7665"/>
                </a:cubicBezTo>
                <a:cubicBezTo>
                  <a:pt x="425" y="7677"/>
                  <a:pt x="296" y="7665"/>
                  <a:pt x="174" y="7665"/>
                </a:cubicBezTo>
                <a:cubicBezTo>
                  <a:pt x="174" y="7589"/>
                  <a:pt x="132" y="7226"/>
                  <a:pt x="198" y="7193"/>
                </a:cubicBezTo>
                <a:cubicBezTo>
                  <a:pt x="250" y="7167"/>
                  <a:pt x="290" y="7176"/>
                  <a:pt x="347" y="7169"/>
                </a:cubicBezTo>
                <a:cubicBezTo>
                  <a:pt x="728" y="7123"/>
                  <a:pt x="1230" y="7255"/>
                  <a:pt x="1563" y="7144"/>
                </a:cubicBezTo>
                <a:cubicBezTo>
                  <a:pt x="1525" y="7131"/>
                  <a:pt x="1540" y="7126"/>
                  <a:pt x="1488" y="7119"/>
                </a:cubicBezTo>
                <a:cubicBezTo>
                  <a:pt x="1449" y="7114"/>
                  <a:pt x="1392" y="7097"/>
                  <a:pt x="1364" y="7094"/>
                </a:cubicBezTo>
                <a:cubicBezTo>
                  <a:pt x="1331" y="7091"/>
                  <a:pt x="1298" y="7097"/>
                  <a:pt x="1265" y="7094"/>
                </a:cubicBezTo>
                <a:cubicBezTo>
                  <a:pt x="1306" y="7094"/>
                  <a:pt x="1298" y="7094"/>
                  <a:pt x="1339" y="7094"/>
                </a:cubicBezTo>
                <a:cubicBezTo>
                  <a:pt x="1377" y="7094"/>
                  <a:pt x="1438" y="7069"/>
                  <a:pt x="1439" y="7069"/>
                </a:cubicBezTo>
                <a:cubicBezTo>
                  <a:pt x="1483" y="7064"/>
                  <a:pt x="1504" y="7081"/>
                  <a:pt x="1538" y="7045"/>
                </a:cubicBezTo>
                <a:cubicBezTo>
                  <a:pt x="1557" y="7025"/>
                  <a:pt x="1544" y="7021"/>
                  <a:pt x="1563" y="6995"/>
                </a:cubicBezTo>
                <a:cubicBezTo>
                  <a:pt x="1544" y="6983"/>
                  <a:pt x="1507" y="6961"/>
                  <a:pt x="1463" y="6945"/>
                </a:cubicBezTo>
                <a:cubicBezTo>
                  <a:pt x="1454" y="6942"/>
                  <a:pt x="1393" y="6909"/>
                  <a:pt x="1364" y="6896"/>
                </a:cubicBezTo>
                <a:cubicBezTo>
                  <a:pt x="1329" y="6881"/>
                  <a:pt x="1306" y="6877"/>
                  <a:pt x="1265" y="6871"/>
                </a:cubicBezTo>
                <a:cubicBezTo>
                  <a:pt x="1149" y="6853"/>
                  <a:pt x="1018" y="6883"/>
                  <a:pt x="918" y="6896"/>
                </a:cubicBezTo>
                <a:cubicBezTo>
                  <a:pt x="791" y="6912"/>
                  <a:pt x="637" y="6910"/>
                  <a:pt x="521" y="6921"/>
                </a:cubicBezTo>
                <a:cubicBezTo>
                  <a:pt x="460" y="6927"/>
                  <a:pt x="433" y="6940"/>
                  <a:pt x="397" y="6945"/>
                </a:cubicBezTo>
                <a:cubicBezTo>
                  <a:pt x="326" y="6955"/>
                  <a:pt x="246" y="6945"/>
                  <a:pt x="174" y="6945"/>
                </a:cubicBezTo>
                <a:cubicBezTo>
                  <a:pt x="183" y="6994"/>
                  <a:pt x="171" y="7002"/>
                  <a:pt x="198" y="7045"/>
                </a:cubicBezTo>
                <a:cubicBezTo>
                  <a:pt x="206" y="7053"/>
                  <a:pt x="215" y="7061"/>
                  <a:pt x="223" y="706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000" y="2874960"/>
            <a:ext cx="1081080" cy="366840"/>
          </a:xfrm>
          <a:custGeom>
            <a:avLst/>
            <a:gdLst/>
            <a:ahLst/>
            <a:rect l="l" t="t" r="r" b="b"/>
            <a:pathLst>
              <a:path w="3003" h="1018">
                <a:moveTo>
                  <a:pt x="223" y="7987"/>
                </a:moveTo>
                <a:cubicBezTo>
                  <a:pt x="242" y="8043"/>
                  <a:pt x="230" y="8034"/>
                  <a:pt x="248" y="8086"/>
                </a:cubicBezTo>
                <a:cubicBezTo>
                  <a:pt x="260" y="8120"/>
                  <a:pt x="259" y="8153"/>
                  <a:pt x="273" y="8186"/>
                </a:cubicBezTo>
                <a:cubicBezTo>
                  <a:pt x="281" y="8204"/>
                  <a:pt x="294" y="8213"/>
                  <a:pt x="298" y="8260"/>
                </a:cubicBezTo>
                <a:cubicBezTo>
                  <a:pt x="313" y="8450"/>
                  <a:pt x="334" y="8787"/>
                  <a:pt x="273" y="8930"/>
                </a:cubicBezTo>
                <a:cubicBezTo>
                  <a:pt x="258" y="8965"/>
                  <a:pt x="252" y="8959"/>
                  <a:pt x="223" y="8979"/>
                </a:cubicBezTo>
                <a:cubicBezTo>
                  <a:pt x="449" y="8979"/>
                  <a:pt x="732" y="8981"/>
                  <a:pt x="918" y="9004"/>
                </a:cubicBezTo>
                <a:cubicBezTo>
                  <a:pt x="1255" y="9047"/>
                  <a:pt x="1664" y="9015"/>
                  <a:pt x="1984" y="8979"/>
                </a:cubicBezTo>
                <a:cubicBezTo>
                  <a:pt x="2157" y="8960"/>
                  <a:pt x="3108" y="9088"/>
                  <a:pt x="3175" y="8954"/>
                </a:cubicBezTo>
                <a:cubicBezTo>
                  <a:pt x="3242" y="8822"/>
                  <a:pt x="3184" y="8453"/>
                  <a:pt x="3200" y="8310"/>
                </a:cubicBezTo>
                <a:cubicBezTo>
                  <a:pt x="3204" y="8272"/>
                  <a:pt x="3220" y="8239"/>
                  <a:pt x="3225" y="8210"/>
                </a:cubicBezTo>
                <a:cubicBezTo>
                  <a:pt x="3232" y="8170"/>
                  <a:pt x="3222" y="8126"/>
                  <a:pt x="3225" y="8086"/>
                </a:cubicBezTo>
                <a:cubicBezTo>
                  <a:pt x="3174" y="8096"/>
                  <a:pt x="3153" y="8086"/>
                  <a:pt x="3125" y="8111"/>
                </a:cubicBezTo>
                <a:cubicBezTo>
                  <a:pt x="3094" y="8138"/>
                  <a:pt x="3122" y="8134"/>
                  <a:pt x="3076" y="8161"/>
                </a:cubicBezTo>
                <a:cubicBezTo>
                  <a:pt x="3051" y="8176"/>
                  <a:pt x="3029" y="8177"/>
                  <a:pt x="3001" y="8210"/>
                </a:cubicBezTo>
                <a:cubicBezTo>
                  <a:pt x="2980" y="8234"/>
                  <a:pt x="2977" y="8239"/>
                  <a:pt x="2952" y="8260"/>
                </a:cubicBezTo>
                <a:cubicBezTo>
                  <a:pt x="2939" y="8271"/>
                  <a:pt x="2886" y="8323"/>
                  <a:pt x="2877" y="8334"/>
                </a:cubicBezTo>
                <a:cubicBezTo>
                  <a:pt x="2862" y="8353"/>
                  <a:pt x="2838" y="8371"/>
                  <a:pt x="2828" y="8384"/>
                </a:cubicBezTo>
                <a:cubicBezTo>
                  <a:pt x="2806" y="8412"/>
                  <a:pt x="2816" y="8419"/>
                  <a:pt x="2778" y="8434"/>
                </a:cubicBezTo>
                <a:cubicBezTo>
                  <a:pt x="2750" y="8445"/>
                  <a:pt x="2707" y="8454"/>
                  <a:pt x="2679" y="8458"/>
                </a:cubicBezTo>
                <a:cubicBezTo>
                  <a:pt x="2490" y="8486"/>
                  <a:pt x="2235" y="8452"/>
                  <a:pt x="2084" y="8434"/>
                </a:cubicBezTo>
                <a:cubicBezTo>
                  <a:pt x="2026" y="8427"/>
                  <a:pt x="1956" y="8415"/>
                  <a:pt x="1910" y="8409"/>
                </a:cubicBezTo>
                <a:cubicBezTo>
                  <a:pt x="1851" y="8402"/>
                  <a:pt x="1812" y="8399"/>
                  <a:pt x="1761" y="8384"/>
                </a:cubicBezTo>
                <a:cubicBezTo>
                  <a:pt x="1710" y="8369"/>
                  <a:pt x="1663" y="8370"/>
                  <a:pt x="1612" y="8359"/>
                </a:cubicBezTo>
                <a:cubicBezTo>
                  <a:pt x="1580" y="8352"/>
                  <a:pt x="1525" y="8322"/>
                  <a:pt x="1488" y="8310"/>
                </a:cubicBezTo>
                <a:cubicBezTo>
                  <a:pt x="1456" y="8300"/>
                  <a:pt x="1420" y="8290"/>
                  <a:pt x="1389" y="8285"/>
                </a:cubicBezTo>
                <a:cubicBezTo>
                  <a:pt x="1324" y="8275"/>
                  <a:pt x="1272" y="8279"/>
                  <a:pt x="1215" y="8260"/>
                </a:cubicBezTo>
                <a:cubicBezTo>
                  <a:pt x="1183" y="8249"/>
                  <a:pt x="1147" y="8240"/>
                  <a:pt x="1116" y="8235"/>
                </a:cubicBezTo>
                <a:cubicBezTo>
                  <a:pt x="971" y="8211"/>
                  <a:pt x="675" y="8216"/>
                  <a:pt x="571" y="8260"/>
                </a:cubicBezTo>
                <a:cubicBezTo>
                  <a:pt x="521" y="8281"/>
                  <a:pt x="530" y="8253"/>
                  <a:pt x="496" y="8310"/>
                </a:cubicBezTo>
                <a:cubicBezTo>
                  <a:pt x="483" y="8331"/>
                  <a:pt x="453" y="8352"/>
                  <a:pt x="446" y="8384"/>
                </a:cubicBezTo>
                <a:cubicBezTo>
                  <a:pt x="434" y="8437"/>
                  <a:pt x="451" y="8487"/>
                  <a:pt x="471" y="8508"/>
                </a:cubicBezTo>
                <a:cubicBezTo>
                  <a:pt x="497" y="8536"/>
                  <a:pt x="557" y="8567"/>
                  <a:pt x="595" y="8582"/>
                </a:cubicBezTo>
                <a:cubicBezTo>
                  <a:pt x="654" y="8605"/>
                  <a:pt x="715" y="8615"/>
                  <a:pt x="769" y="8632"/>
                </a:cubicBezTo>
                <a:cubicBezTo>
                  <a:pt x="827" y="8651"/>
                  <a:pt x="873" y="8655"/>
                  <a:pt x="943" y="8657"/>
                </a:cubicBezTo>
                <a:cubicBezTo>
                  <a:pt x="996" y="8659"/>
                  <a:pt x="1023" y="8668"/>
                  <a:pt x="1067" y="8682"/>
                </a:cubicBezTo>
                <a:cubicBezTo>
                  <a:pt x="1152" y="8710"/>
                  <a:pt x="1226" y="8706"/>
                  <a:pt x="1315" y="8706"/>
                </a:cubicBezTo>
                <a:cubicBezTo>
                  <a:pt x="1430" y="8706"/>
                  <a:pt x="1585" y="8714"/>
                  <a:pt x="1662" y="8682"/>
                </a:cubicBezTo>
                <a:cubicBezTo>
                  <a:pt x="1704" y="8665"/>
                  <a:pt x="1777" y="8634"/>
                  <a:pt x="1811" y="8607"/>
                </a:cubicBezTo>
                <a:cubicBezTo>
                  <a:pt x="1844" y="8581"/>
                  <a:pt x="1840" y="8549"/>
                  <a:pt x="1860" y="8533"/>
                </a:cubicBezTo>
                <a:cubicBezTo>
                  <a:pt x="1896" y="8504"/>
                  <a:pt x="1923" y="8493"/>
                  <a:pt x="1960" y="8458"/>
                </a:cubicBezTo>
                <a:cubicBezTo>
                  <a:pt x="1990" y="8429"/>
                  <a:pt x="2033" y="8406"/>
                  <a:pt x="2059" y="8384"/>
                </a:cubicBezTo>
                <a:cubicBezTo>
                  <a:pt x="2101" y="8349"/>
                  <a:pt x="2131" y="8333"/>
                  <a:pt x="2158" y="8310"/>
                </a:cubicBezTo>
                <a:cubicBezTo>
                  <a:pt x="2173" y="8297"/>
                  <a:pt x="2205" y="8278"/>
                  <a:pt x="2232" y="8260"/>
                </a:cubicBezTo>
                <a:cubicBezTo>
                  <a:pt x="2250" y="8248"/>
                  <a:pt x="2269" y="8225"/>
                  <a:pt x="2307" y="8210"/>
                </a:cubicBezTo>
                <a:cubicBezTo>
                  <a:pt x="2365" y="8188"/>
                  <a:pt x="2397" y="8199"/>
                  <a:pt x="2456" y="8186"/>
                </a:cubicBezTo>
                <a:cubicBezTo>
                  <a:pt x="2491" y="8178"/>
                  <a:pt x="2509" y="8163"/>
                  <a:pt x="2555" y="8161"/>
                </a:cubicBezTo>
                <a:cubicBezTo>
                  <a:pt x="2652" y="8158"/>
                  <a:pt x="2850" y="8138"/>
                  <a:pt x="2902" y="8186"/>
                </a:cubicBezTo>
                <a:cubicBezTo>
                  <a:pt x="2920" y="8203"/>
                  <a:pt x="2938" y="8244"/>
                  <a:pt x="2952" y="8285"/>
                </a:cubicBezTo>
                <a:cubicBezTo>
                  <a:pt x="2965" y="8322"/>
                  <a:pt x="2971" y="8342"/>
                  <a:pt x="2977" y="8384"/>
                </a:cubicBezTo>
                <a:cubicBezTo>
                  <a:pt x="2983" y="8426"/>
                  <a:pt x="2996" y="8469"/>
                  <a:pt x="3001" y="8483"/>
                </a:cubicBezTo>
                <a:cubicBezTo>
                  <a:pt x="2996" y="8427"/>
                  <a:pt x="2993" y="8388"/>
                  <a:pt x="2977" y="8359"/>
                </a:cubicBezTo>
                <a:cubicBezTo>
                  <a:pt x="2925" y="8264"/>
                  <a:pt x="2841" y="8212"/>
                  <a:pt x="2753" y="8161"/>
                </a:cubicBezTo>
                <a:cubicBezTo>
                  <a:pt x="2645" y="8098"/>
                  <a:pt x="2569" y="8107"/>
                  <a:pt x="2456" y="8086"/>
                </a:cubicBezTo>
                <a:cubicBezTo>
                  <a:pt x="2373" y="8070"/>
                  <a:pt x="2289" y="8046"/>
                  <a:pt x="2208" y="8037"/>
                </a:cubicBezTo>
                <a:cubicBezTo>
                  <a:pt x="1870" y="7999"/>
                  <a:pt x="1506" y="8037"/>
                  <a:pt x="1166" y="803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0000" y="2054160"/>
            <a:ext cx="4527360" cy="285840"/>
          </a:xfrm>
          <a:custGeom>
            <a:avLst/>
            <a:gdLst/>
            <a:ahLst/>
            <a:rect l="l" t="t" r="r" b="b"/>
            <a:pathLst>
              <a:path w="12577" h="795">
                <a:moveTo>
                  <a:pt x="9748" y="5755"/>
                </a:moveTo>
                <a:cubicBezTo>
                  <a:pt x="10002" y="5755"/>
                  <a:pt x="10261" y="5788"/>
                  <a:pt x="10492" y="5804"/>
                </a:cubicBezTo>
                <a:cubicBezTo>
                  <a:pt x="11185" y="5851"/>
                  <a:pt x="11973" y="5804"/>
                  <a:pt x="12626" y="5779"/>
                </a:cubicBezTo>
                <a:cubicBezTo>
                  <a:pt x="13625" y="5740"/>
                  <a:pt x="14841" y="5641"/>
                  <a:pt x="15801" y="5829"/>
                </a:cubicBezTo>
                <a:cubicBezTo>
                  <a:pt x="15866" y="5842"/>
                  <a:pt x="15942" y="5869"/>
                  <a:pt x="15999" y="5879"/>
                </a:cubicBezTo>
                <a:cubicBezTo>
                  <a:pt x="16059" y="5889"/>
                  <a:pt x="16114" y="5898"/>
                  <a:pt x="16148" y="5904"/>
                </a:cubicBezTo>
                <a:cubicBezTo>
                  <a:pt x="16197" y="5913"/>
                  <a:pt x="16223" y="5923"/>
                  <a:pt x="16272" y="5928"/>
                </a:cubicBezTo>
                <a:cubicBezTo>
                  <a:pt x="16455" y="5945"/>
                  <a:pt x="16646" y="5943"/>
                  <a:pt x="16818" y="5953"/>
                </a:cubicBezTo>
                <a:cubicBezTo>
                  <a:pt x="16843" y="5954"/>
                  <a:pt x="16868" y="5951"/>
                  <a:pt x="16892" y="5953"/>
                </a:cubicBezTo>
                <a:cubicBezTo>
                  <a:pt x="16856" y="5908"/>
                  <a:pt x="16902" y="5836"/>
                  <a:pt x="16842" y="5804"/>
                </a:cubicBezTo>
                <a:cubicBezTo>
                  <a:pt x="16809" y="5786"/>
                  <a:pt x="16794" y="5793"/>
                  <a:pt x="16743" y="5779"/>
                </a:cubicBezTo>
                <a:cubicBezTo>
                  <a:pt x="16575" y="5731"/>
                  <a:pt x="16358" y="5755"/>
                  <a:pt x="16173" y="5755"/>
                </a:cubicBezTo>
                <a:cubicBezTo>
                  <a:pt x="16008" y="5755"/>
                  <a:pt x="15842" y="5755"/>
                  <a:pt x="15677" y="5755"/>
                </a:cubicBezTo>
                <a:cubicBezTo>
                  <a:pt x="15752" y="5772"/>
                  <a:pt x="15774" y="5792"/>
                  <a:pt x="15850" y="5804"/>
                </a:cubicBezTo>
                <a:cubicBezTo>
                  <a:pt x="15956" y="5821"/>
                  <a:pt x="16067" y="5810"/>
                  <a:pt x="16173" y="5829"/>
                </a:cubicBezTo>
                <a:cubicBezTo>
                  <a:pt x="16267" y="5845"/>
                  <a:pt x="16355" y="5872"/>
                  <a:pt x="16446" y="5879"/>
                </a:cubicBezTo>
                <a:cubicBezTo>
                  <a:pt x="16736" y="5902"/>
                  <a:pt x="17065" y="5884"/>
                  <a:pt x="17338" y="5854"/>
                </a:cubicBezTo>
                <a:cubicBezTo>
                  <a:pt x="17407" y="5846"/>
                  <a:pt x="17449" y="5848"/>
                  <a:pt x="17512" y="5829"/>
                </a:cubicBezTo>
                <a:cubicBezTo>
                  <a:pt x="17548" y="5818"/>
                  <a:pt x="17577" y="5817"/>
                  <a:pt x="17611" y="5804"/>
                </a:cubicBezTo>
                <a:cubicBezTo>
                  <a:pt x="17611" y="5796"/>
                  <a:pt x="17611" y="5787"/>
                  <a:pt x="17611" y="5779"/>
                </a:cubicBezTo>
                <a:cubicBezTo>
                  <a:pt x="17402" y="5761"/>
                  <a:pt x="17166" y="5755"/>
                  <a:pt x="16942" y="5755"/>
                </a:cubicBezTo>
                <a:cubicBezTo>
                  <a:pt x="16991" y="5759"/>
                  <a:pt x="17017" y="5778"/>
                  <a:pt x="17066" y="5779"/>
                </a:cubicBezTo>
                <a:cubicBezTo>
                  <a:pt x="18032" y="5796"/>
                  <a:pt x="19067" y="5789"/>
                  <a:pt x="19993" y="5755"/>
                </a:cubicBezTo>
                <a:cubicBezTo>
                  <a:pt x="20457" y="5738"/>
                  <a:pt x="20969" y="5726"/>
                  <a:pt x="21382" y="5705"/>
                </a:cubicBezTo>
                <a:cubicBezTo>
                  <a:pt x="21575" y="5695"/>
                  <a:pt x="22194" y="5637"/>
                  <a:pt x="22275" y="5755"/>
                </a:cubicBezTo>
                <a:cubicBezTo>
                  <a:pt x="22289" y="5776"/>
                  <a:pt x="22292" y="5810"/>
                  <a:pt x="22299" y="5829"/>
                </a:cubicBezTo>
                <a:cubicBezTo>
                  <a:pt x="22344" y="5958"/>
                  <a:pt x="22312" y="6220"/>
                  <a:pt x="22324" y="6350"/>
                </a:cubicBezTo>
                <a:cubicBezTo>
                  <a:pt x="22259" y="6344"/>
                  <a:pt x="22295" y="6329"/>
                  <a:pt x="22225" y="6325"/>
                </a:cubicBezTo>
                <a:cubicBezTo>
                  <a:pt x="21806" y="6301"/>
                  <a:pt x="21373" y="6355"/>
                  <a:pt x="20985" y="6375"/>
                </a:cubicBezTo>
                <a:cubicBezTo>
                  <a:pt x="20784" y="6386"/>
                  <a:pt x="20585" y="6393"/>
                  <a:pt x="20389" y="6400"/>
                </a:cubicBezTo>
                <a:cubicBezTo>
                  <a:pt x="19663" y="6426"/>
                  <a:pt x="18900" y="6384"/>
                  <a:pt x="18207" y="6350"/>
                </a:cubicBezTo>
                <a:cubicBezTo>
                  <a:pt x="17909" y="6335"/>
                  <a:pt x="17604" y="6372"/>
                  <a:pt x="17338" y="6325"/>
                </a:cubicBezTo>
                <a:cubicBezTo>
                  <a:pt x="17286" y="6316"/>
                  <a:pt x="17243" y="6307"/>
                  <a:pt x="17190" y="6300"/>
                </a:cubicBezTo>
                <a:cubicBezTo>
                  <a:pt x="17151" y="6295"/>
                  <a:pt x="17133" y="6280"/>
                  <a:pt x="17090" y="6276"/>
                </a:cubicBezTo>
                <a:cubicBezTo>
                  <a:pt x="16904" y="6260"/>
                  <a:pt x="16721" y="6270"/>
                  <a:pt x="16545" y="6251"/>
                </a:cubicBezTo>
                <a:cubicBezTo>
                  <a:pt x="16460" y="6242"/>
                  <a:pt x="16386" y="6231"/>
                  <a:pt x="16297" y="6226"/>
                </a:cubicBezTo>
                <a:cubicBezTo>
                  <a:pt x="16116" y="6217"/>
                  <a:pt x="15932" y="6226"/>
                  <a:pt x="15751" y="6226"/>
                </a:cubicBezTo>
                <a:cubicBezTo>
                  <a:pt x="15813" y="6240"/>
                  <a:pt x="15883" y="6265"/>
                  <a:pt x="15949" y="6276"/>
                </a:cubicBezTo>
                <a:cubicBezTo>
                  <a:pt x="16288" y="6334"/>
                  <a:pt x="16666" y="6300"/>
                  <a:pt x="17016" y="6300"/>
                </a:cubicBezTo>
                <a:cubicBezTo>
                  <a:pt x="16983" y="6300"/>
                  <a:pt x="16999" y="6300"/>
                  <a:pt x="16966" y="6300"/>
                </a:cubicBezTo>
                <a:cubicBezTo>
                  <a:pt x="16771" y="6300"/>
                  <a:pt x="16586" y="6283"/>
                  <a:pt x="16396" y="6276"/>
                </a:cubicBezTo>
                <a:cubicBezTo>
                  <a:pt x="15961" y="6261"/>
                  <a:pt x="15529" y="6285"/>
                  <a:pt x="15106" y="6251"/>
                </a:cubicBezTo>
                <a:cubicBezTo>
                  <a:pt x="15067" y="6248"/>
                  <a:pt x="15051" y="6228"/>
                  <a:pt x="15007" y="6226"/>
                </a:cubicBezTo>
                <a:cubicBezTo>
                  <a:pt x="14374" y="6193"/>
                  <a:pt x="13665" y="6229"/>
                  <a:pt x="13072" y="6251"/>
                </a:cubicBezTo>
                <a:cubicBezTo>
                  <a:pt x="12590" y="6269"/>
                  <a:pt x="12094" y="6277"/>
                  <a:pt x="11633" y="6300"/>
                </a:cubicBezTo>
                <a:cubicBezTo>
                  <a:pt x="11473" y="6308"/>
                  <a:pt x="11259" y="6312"/>
                  <a:pt x="11137" y="6325"/>
                </a:cubicBezTo>
                <a:cubicBezTo>
                  <a:pt x="11066" y="6333"/>
                  <a:pt x="11003" y="6347"/>
                  <a:pt x="10939" y="6350"/>
                </a:cubicBezTo>
                <a:cubicBezTo>
                  <a:pt x="10712" y="6362"/>
                  <a:pt x="10495" y="6329"/>
                  <a:pt x="10294" y="6300"/>
                </a:cubicBezTo>
                <a:cubicBezTo>
                  <a:pt x="10237" y="6292"/>
                  <a:pt x="10204" y="6285"/>
                  <a:pt x="10145" y="6276"/>
                </a:cubicBezTo>
                <a:cubicBezTo>
                  <a:pt x="10096" y="6268"/>
                  <a:pt x="10107" y="6255"/>
                  <a:pt x="10071" y="6251"/>
                </a:cubicBezTo>
                <a:cubicBezTo>
                  <a:pt x="9965" y="6240"/>
                  <a:pt x="9855" y="6254"/>
                  <a:pt x="9748" y="6251"/>
                </a:cubicBezTo>
                <a:cubicBezTo>
                  <a:pt x="9762" y="6256"/>
                  <a:pt x="9824" y="6320"/>
                  <a:pt x="9847" y="6325"/>
                </a:cubicBezTo>
                <a:cubicBezTo>
                  <a:pt x="9878" y="6332"/>
                  <a:pt x="9947" y="6350"/>
                  <a:pt x="9947" y="6350"/>
                </a:cubicBezTo>
                <a:cubicBezTo>
                  <a:pt x="10008" y="6364"/>
                  <a:pt x="10065" y="6361"/>
                  <a:pt x="10120" y="6375"/>
                </a:cubicBezTo>
                <a:cubicBezTo>
                  <a:pt x="10164" y="6387"/>
                  <a:pt x="10225" y="6393"/>
                  <a:pt x="10269" y="6400"/>
                </a:cubicBezTo>
                <a:cubicBezTo>
                  <a:pt x="10582" y="6452"/>
                  <a:pt x="10961" y="6458"/>
                  <a:pt x="11261" y="6474"/>
                </a:cubicBezTo>
                <a:cubicBezTo>
                  <a:pt x="11480" y="6485"/>
                  <a:pt x="11721" y="6489"/>
                  <a:pt x="11931" y="6449"/>
                </a:cubicBezTo>
                <a:cubicBezTo>
                  <a:pt x="11975" y="6441"/>
                  <a:pt x="11986" y="6408"/>
                  <a:pt x="12030" y="6400"/>
                </a:cubicBezTo>
                <a:cubicBezTo>
                  <a:pt x="12080" y="6391"/>
                  <a:pt x="12136" y="6379"/>
                  <a:pt x="12179" y="6375"/>
                </a:cubicBezTo>
                <a:cubicBezTo>
                  <a:pt x="13176" y="6272"/>
                  <a:pt x="14279" y="6375"/>
                  <a:pt x="15255" y="6424"/>
                </a:cubicBezTo>
                <a:cubicBezTo>
                  <a:pt x="15558" y="6439"/>
                  <a:pt x="15858" y="6411"/>
                  <a:pt x="16148" y="6400"/>
                </a:cubicBezTo>
                <a:cubicBezTo>
                  <a:pt x="16289" y="6395"/>
                  <a:pt x="16413" y="6411"/>
                  <a:pt x="16545" y="6424"/>
                </a:cubicBezTo>
                <a:cubicBezTo>
                  <a:pt x="16666" y="6436"/>
                  <a:pt x="16776" y="6444"/>
                  <a:pt x="16892" y="6449"/>
                </a:cubicBezTo>
                <a:cubicBezTo>
                  <a:pt x="17426" y="6470"/>
                  <a:pt x="17960" y="6435"/>
                  <a:pt x="18479" y="649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6000" y="2384280"/>
            <a:ext cx="1152360" cy="420840"/>
          </a:xfrm>
          <a:custGeom>
            <a:avLst/>
            <a:gdLst/>
            <a:ahLst/>
            <a:rect l="l" t="t" r="r" b="b"/>
            <a:pathLst>
              <a:path w="3201" h="1167">
                <a:moveTo>
                  <a:pt x="12973" y="6697"/>
                </a:moveTo>
                <a:cubicBezTo>
                  <a:pt x="12958" y="6754"/>
                  <a:pt x="12939" y="6815"/>
                  <a:pt x="12923" y="6871"/>
                </a:cubicBezTo>
                <a:cubicBezTo>
                  <a:pt x="12908" y="6925"/>
                  <a:pt x="12887" y="6970"/>
                  <a:pt x="12874" y="7020"/>
                </a:cubicBezTo>
                <a:cubicBezTo>
                  <a:pt x="12864" y="7059"/>
                  <a:pt x="12853" y="7105"/>
                  <a:pt x="12849" y="7144"/>
                </a:cubicBezTo>
                <a:cubicBezTo>
                  <a:pt x="12836" y="7263"/>
                  <a:pt x="12848" y="7436"/>
                  <a:pt x="12874" y="7516"/>
                </a:cubicBezTo>
                <a:cubicBezTo>
                  <a:pt x="12884" y="7547"/>
                  <a:pt x="12877" y="7591"/>
                  <a:pt x="12898" y="7615"/>
                </a:cubicBezTo>
                <a:cubicBezTo>
                  <a:pt x="12901" y="7619"/>
                  <a:pt x="12970" y="7639"/>
                  <a:pt x="12973" y="7640"/>
                </a:cubicBezTo>
                <a:cubicBezTo>
                  <a:pt x="13036" y="7654"/>
                  <a:pt x="13143" y="7659"/>
                  <a:pt x="13196" y="7665"/>
                </a:cubicBezTo>
                <a:cubicBezTo>
                  <a:pt x="13359" y="7683"/>
                  <a:pt x="13534" y="7672"/>
                  <a:pt x="13692" y="7689"/>
                </a:cubicBezTo>
                <a:cubicBezTo>
                  <a:pt x="13755" y="7696"/>
                  <a:pt x="13782" y="7707"/>
                  <a:pt x="13841" y="7714"/>
                </a:cubicBezTo>
                <a:cubicBezTo>
                  <a:pt x="13898" y="7720"/>
                  <a:pt x="13970" y="7734"/>
                  <a:pt x="14015" y="7739"/>
                </a:cubicBezTo>
                <a:cubicBezTo>
                  <a:pt x="14096" y="7748"/>
                  <a:pt x="14194" y="7757"/>
                  <a:pt x="14263" y="7764"/>
                </a:cubicBezTo>
                <a:cubicBezTo>
                  <a:pt x="14351" y="7773"/>
                  <a:pt x="14462" y="7783"/>
                  <a:pt x="14536" y="7789"/>
                </a:cubicBezTo>
                <a:cubicBezTo>
                  <a:pt x="14730" y="7806"/>
                  <a:pt x="15825" y="7895"/>
                  <a:pt x="15925" y="7764"/>
                </a:cubicBezTo>
                <a:cubicBezTo>
                  <a:pt x="15955" y="7725"/>
                  <a:pt x="15929" y="7700"/>
                  <a:pt x="15949" y="7665"/>
                </a:cubicBezTo>
                <a:cubicBezTo>
                  <a:pt x="15975" y="7619"/>
                  <a:pt x="15983" y="7612"/>
                  <a:pt x="15999" y="7565"/>
                </a:cubicBezTo>
                <a:cubicBezTo>
                  <a:pt x="16012" y="7528"/>
                  <a:pt x="16019" y="7508"/>
                  <a:pt x="16024" y="7466"/>
                </a:cubicBezTo>
                <a:cubicBezTo>
                  <a:pt x="16050" y="7233"/>
                  <a:pt x="16024" y="6982"/>
                  <a:pt x="16024" y="6747"/>
                </a:cubicBezTo>
                <a:cubicBezTo>
                  <a:pt x="15949" y="6747"/>
                  <a:pt x="15893" y="6764"/>
                  <a:pt x="15825" y="6772"/>
                </a:cubicBezTo>
                <a:cubicBezTo>
                  <a:pt x="15512" y="6807"/>
                  <a:pt x="15165" y="6776"/>
                  <a:pt x="14858" y="6747"/>
                </a:cubicBezTo>
                <a:cubicBezTo>
                  <a:pt x="14784" y="6740"/>
                  <a:pt x="14703" y="6728"/>
                  <a:pt x="14635" y="6722"/>
                </a:cubicBezTo>
                <a:cubicBezTo>
                  <a:pt x="14569" y="6716"/>
                  <a:pt x="14549" y="6713"/>
                  <a:pt x="14486" y="6697"/>
                </a:cubicBezTo>
                <a:cubicBezTo>
                  <a:pt x="14438" y="6685"/>
                  <a:pt x="14387" y="6678"/>
                  <a:pt x="14337" y="6672"/>
                </a:cubicBezTo>
                <a:cubicBezTo>
                  <a:pt x="14255" y="6663"/>
                  <a:pt x="14195" y="6667"/>
                  <a:pt x="14114" y="6648"/>
                </a:cubicBezTo>
                <a:cubicBezTo>
                  <a:pt x="14045" y="6632"/>
                  <a:pt x="13986" y="6625"/>
                  <a:pt x="13915" y="6623"/>
                </a:cubicBezTo>
                <a:cubicBezTo>
                  <a:pt x="13786" y="6619"/>
                  <a:pt x="13338" y="6567"/>
                  <a:pt x="13271" y="6648"/>
                </a:cubicBezTo>
                <a:cubicBezTo>
                  <a:pt x="13239" y="6686"/>
                  <a:pt x="13250" y="6699"/>
                  <a:pt x="13246" y="6747"/>
                </a:cubicBezTo>
                <a:cubicBezTo>
                  <a:pt x="13235" y="6886"/>
                  <a:pt x="13246" y="7030"/>
                  <a:pt x="13246" y="7169"/>
                </a:cubicBezTo>
                <a:cubicBezTo>
                  <a:pt x="13226" y="7130"/>
                  <a:pt x="13156" y="7110"/>
                  <a:pt x="13171" y="7069"/>
                </a:cubicBezTo>
                <a:cubicBezTo>
                  <a:pt x="13178" y="7049"/>
                  <a:pt x="13526" y="7112"/>
                  <a:pt x="13568" y="7119"/>
                </a:cubicBezTo>
                <a:cubicBezTo>
                  <a:pt x="13822" y="7162"/>
                  <a:pt x="14067" y="7195"/>
                  <a:pt x="14312" y="7268"/>
                </a:cubicBezTo>
                <a:cubicBezTo>
                  <a:pt x="14430" y="7303"/>
                  <a:pt x="14565" y="7346"/>
                  <a:pt x="14684" y="7367"/>
                </a:cubicBezTo>
                <a:cubicBezTo>
                  <a:pt x="14724" y="7374"/>
                  <a:pt x="14796" y="7388"/>
                  <a:pt x="14833" y="7392"/>
                </a:cubicBezTo>
                <a:cubicBezTo>
                  <a:pt x="14887" y="7398"/>
                  <a:pt x="14989" y="7415"/>
                  <a:pt x="15007" y="7417"/>
                </a:cubicBezTo>
                <a:cubicBezTo>
                  <a:pt x="15242" y="7447"/>
                  <a:pt x="15555" y="7417"/>
                  <a:pt x="15751" y="7392"/>
                </a:cubicBezTo>
                <a:cubicBezTo>
                  <a:pt x="15823" y="7383"/>
                  <a:pt x="15907" y="7374"/>
                  <a:pt x="15974" y="7367"/>
                </a:cubicBezTo>
                <a:cubicBezTo>
                  <a:pt x="15999" y="7365"/>
                  <a:pt x="16024" y="7369"/>
                  <a:pt x="16049" y="736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0000" y="3000240"/>
            <a:ext cx="1135080" cy="231840"/>
          </a:xfrm>
          <a:custGeom>
            <a:avLst/>
            <a:gdLst/>
            <a:ahLst/>
            <a:rect l="l" t="t" r="r" b="b"/>
            <a:pathLst>
              <a:path w="3152" h="646">
                <a:moveTo>
                  <a:pt x="3249" y="8384"/>
                </a:moveTo>
                <a:cubicBezTo>
                  <a:pt x="3352" y="8384"/>
                  <a:pt x="3459" y="8400"/>
                  <a:pt x="3547" y="8409"/>
                </a:cubicBezTo>
                <a:cubicBezTo>
                  <a:pt x="3698" y="8425"/>
                  <a:pt x="3859" y="8399"/>
                  <a:pt x="3994" y="8384"/>
                </a:cubicBezTo>
                <a:cubicBezTo>
                  <a:pt x="4081" y="8374"/>
                  <a:pt x="4214" y="8366"/>
                  <a:pt x="4266" y="8359"/>
                </a:cubicBezTo>
                <a:cubicBezTo>
                  <a:pt x="4537" y="8325"/>
                  <a:pt x="5066" y="8292"/>
                  <a:pt x="5283" y="8384"/>
                </a:cubicBezTo>
                <a:cubicBezTo>
                  <a:pt x="5315" y="8398"/>
                  <a:pt x="5317" y="8393"/>
                  <a:pt x="5358" y="8409"/>
                </a:cubicBezTo>
                <a:cubicBezTo>
                  <a:pt x="5398" y="8425"/>
                  <a:pt x="5438" y="8430"/>
                  <a:pt x="5482" y="8434"/>
                </a:cubicBezTo>
                <a:cubicBezTo>
                  <a:pt x="5536" y="8439"/>
                  <a:pt x="5551" y="8438"/>
                  <a:pt x="5606" y="8458"/>
                </a:cubicBezTo>
                <a:cubicBezTo>
                  <a:pt x="5655" y="8476"/>
                  <a:pt x="5650" y="8474"/>
                  <a:pt x="5705" y="8483"/>
                </a:cubicBezTo>
                <a:cubicBezTo>
                  <a:pt x="5827" y="8503"/>
                  <a:pt x="6265" y="8536"/>
                  <a:pt x="6350" y="8458"/>
                </a:cubicBezTo>
                <a:cubicBezTo>
                  <a:pt x="6383" y="8428"/>
                  <a:pt x="6357" y="8435"/>
                  <a:pt x="6375" y="8384"/>
                </a:cubicBezTo>
                <a:cubicBezTo>
                  <a:pt x="6383" y="8360"/>
                  <a:pt x="6392" y="8358"/>
                  <a:pt x="6400" y="8334"/>
                </a:cubicBezTo>
                <a:cubicBezTo>
                  <a:pt x="6199" y="8334"/>
                  <a:pt x="5989" y="8338"/>
                  <a:pt x="5804" y="8359"/>
                </a:cubicBezTo>
                <a:cubicBezTo>
                  <a:pt x="5594" y="8383"/>
                  <a:pt x="5352" y="8319"/>
                  <a:pt x="5159" y="8384"/>
                </a:cubicBezTo>
                <a:cubicBezTo>
                  <a:pt x="5118" y="8398"/>
                  <a:pt x="5079" y="8402"/>
                  <a:pt x="5035" y="8409"/>
                </a:cubicBezTo>
                <a:cubicBezTo>
                  <a:pt x="4982" y="8417"/>
                  <a:pt x="4965" y="8415"/>
                  <a:pt x="4911" y="8434"/>
                </a:cubicBezTo>
                <a:cubicBezTo>
                  <a:pt x="4859" y="8452"/>
                  <a:pt x="4866" y="8439"/>
                  <a:pt x="4812" y="8458"/>
                </a:cubicBezTo>
                <a:cubicBezTo>
                  <a:pt x="4778" y="8470"/>
                  <a:pt x="4746" y="8470"/>
                  <a:pt x="4713" y="8483"/>
                </a:cubicBezTo>
                <a:cubicBezTo>
                  <a:pt x="4673" y="8499"/>
                  <a:pt x="4634" y="8514"/>
                  <a:pt x="4589" y="8533"/>
                </a:cubicBezTo>
                <a:cubicBezTo>
                  <a:pt x="4552" y="8549"/>
                  <a:pt x="4472" y="8564"/>
                  <a:pt x="4440" y="8582"/>
                </a:cubicBezTo>
                <a:cubicBezTo>
                  <a:pt x="4421" y="8593"/>
                  <a:pt x="4351" y="8624"/>
                  <a:pt x="4341" y="8632"/>
                </a:cubicBezTo>
                <a:cubicBezTo>
                  <a:pt x="4260" y="8702"/>
                  <a:pt x="4317" y="8675"/>
                  <a:pt x="4217" y="8706"/>
                </a:cubicBezTo>
                <a:cubicBezTo>
                  <a:pt x="4192" y="8714"/>
                  <a:pt x="4118" y="8717"/>
                  <a:pt x="4093" y="8731"/>
                </a:cubicBezTo>
                <a:cubicBezTo>
                  <a:pt x="4051" y="8754"/>
                  <a:pt x="4096" y="8767"/>
                  <a:pt x="4018" y="8781"/>
                </a:cubicBezTo>
                <a:cubicBezTo>
                  <a:pt x="3969" y="8790"/>
                  <a:pt x="3936" y="8788"/>
                  <a:pt x="3894" y="8806"/>
                </a:cubicBezTo>
                <a:cubicBezTo>
                  <a:pt x="3850" y="8824"/>
                  <a:pt x="3818" y="8816"/>
                  <a:pt x="3770" y="8830"/>
                </a:cubicBezTo>
                <a:cubicBezTo>
                  <a:pt x="3744" y="8837"/>
                  <a:pt x="3695" y="8868"/>
                  <a:pt x="3671" y="8880"/>
                </a:cubicBezTo>
                <a:cubicBezTo>
                  <a:pt x="3639" y="8896"/>
                  <a:pt x="3607" y="8893"/>
                  <a:pt x="3572" y="8905"/>
                </a:cubicBezTo>
                <a:cubicBezTo>
                  <a:pt x="3525" y="8921"/>
                  <a:pt x="3518" y="8928"/>
                  <a:pt x="3473" y="8954"/>
                </a:cubicBezTo>
                <a:cubicBezTo>
                  <a:pt x="3454" y="8965"/>
                  <a:pt x="3431" y="8974"/>
                  <a:pt x="3423" y="8979"/>
                </a:cubicBezTo>
                <a:cubicBezTo>
                  <a:pt x="4390" y="8979"/>
                  <a:pt x="5492" y="8979"/>
                  <a:pt x="6375" y="897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52360" y="3187800"/>
            <a:ext cx="222480" cy="9360"/>
          </a:xfrm>
          <a:custGeom>
            <a:avLst/>
            <a:gdLst/>
            <a:ahLst/>
            <a:rect l="l" t="t" r="r" b="b"/>
            <a:pathLst>
              <a:path w="621" h="26">
                <a:moveTo>
                  <a:pt x="3200" y="8855"/>
                </a:moveTo>
                <a:cubicBezTo>
                  <a:pt x="3319" y="8855"/>
                  <a:pt x="3764" y="8796"/>
                  <a:pt x="3820" y="888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3348000"/>
            <a:ext cx="1081080" cy="430200"/>
          </a:xfrm>
          <a:custGeom>
            <a:avLst/>
            <a:gdLst/>
            <a:ahLst/>
            <a:rect l="l" t="t" r="r" b="b"/>
            <a:pathLst>
              <a:path w="3002" h="1191">
                <a:moveTo>
                  <a:pt x="3448" y="9327"/>
                </a:moveTo>
                <a:cubicBezTo>
                  <a:pt x="3452" y="9378"/>
                  <a:pt x="3469" y="9437"/>
                  <a:pt x="3473" y="9475"/>
                </a:cubicBezTo>
                <a:cubicBezTo>
                  <a:pt x="3478" y="9519"/>
                  <a:pt x="3492" y="9566"/>
                  <a:pt x="3497" y="9599"/>
                </a:cubicBezTo>
                <a:cubicBezTo>
                  <a:pt x="3535" y="9863"/>
                  <a:pt x="3516" y="10217"/>
                  <a:pt x="3473" y="10468"/>
                </a:cubicBezTo>
                <a:cubicBezTo>
                  <a:pt x="3473" y="10476"/>
                  <a:pt x="3473" y="10484"/>
                  <a:pt x="3473" y="10492"/>
                </a:cubicBezTo>
                <a:cubicBezTo>
                  <a:pt x="3514" y="10489"/>
                  <a:pt x="3531" y="10472"/>
                  <a:pt x="3572" y="10468"/>
                </a:cubicBezTo>
                <a:cubicBezTo>
                  <a:pt x="3644" y="10460"/>
                  <a:pt x="3735" y="10449"/>
                  <a:pt x="3795" y="10443"/>
                </a:cubicBezTo>
                <a:cubicBezTo>
                  <a:pt x="4022" y="10419"/>
                  <a:pt x="4276" y="10441"/>
                  <a:pt x="4490" y="10418"/>
                </a:cubicBezTo>
                <a:cubicBezTo>
                  <a:pt x="4668" y="10399"/>
                  <a:pt x="4871" y="10409"/>
                  <a:pt x="5035" y="10393"/>
                </a:cubicBezTo>
                <a:cubicBezTo>
                  <a:pt x="5497" y="10348"/>
                  <a:pt x="5985" y="10393"/>
                  <a:pt x="6449" y="10393"/>
                </a:cubicBezTo>
                <a:cubicBezTo>
                  <a:pt x="6449" y="10251"/>
                  <a:pt x="6461" y="10097"/>
                  <a:pt x="6424" y="9971"/>
                </a:cubicBezTo>
                <a:cubicBezTo>
                  <a:pt x="6414" y="9938"/>
                  <a:pt x="6411" y="9905"/>
                  <a:pt x="6400" y="9872"/>
                </a:cubicBezTo>
                <a:cubicBezTo>
                  <a:pt x="6386" y="9831"/>
                  <a:pt x="6388" y="9794"/>
                  <a:pt x="6375" y="9748"/>
                </a:cubicBezTo>
                <a:cubicBezTo>
                  <a:pt x="6366" y="9716"/>
                  <a:pt x="6357" y="9706"/>
                  <a:pt x="6350" y="9674"/>
                </a:cubicBezTo>
                <a:cubicBezTo>
                  <a:pt x="6342" y="9641"/>
                  <a:pt x="6316" y="9611"/>
                  <a:pt x="6300" y="9599"/>
                </a:cubicBezTo>
                <a:cubicBezTo>
                  <a:pt x="6273" y="9579"/>
                  <a:pt x="6236" y="9580"/>
                  <a:pt x="6201" y="9575"/>
                </a:cubicBezTo>
                <a:cubicBezTo>
                  <a:pt x="6000" y="9545"/>
                  <a:pt x="5698" y="9548"/>
                  <a:pt x="5507" y="9599"/>
                </a:cubicBezTo>
                <a:cubicBezTo>
                  <a:pt x="5462" y="9611"/>
                  <a:pt x="5430" y="9618"/>
                  <a:pt x="5383" y="9624"/>
                </a:cubicBezTo>
                <a:cubicBezTo>
                  <a:pt x="5302" y="9634"/>
                  <a:pt x="5230" y="9632"/>
                  <a:pt x="5159" y="9649"/>
                </a:cubicBezTo>
                <a:cubicBezTo>
                  <a:pt x="5085" y="9667"/>
                  <a:pt x="5012" y="9660"/>
                  <a:pt x="4936" y="9674"/>
                </a:cubicBezTo>
                <a:cubicBezTo>
                  <a:pt x="4860" y="9688"/>
                  <a:pt x="4815" y="9696"/>
                  <a:pt x="4738" y="9699"/>
                </a:cubicBezTo>
                <a:cubicBezTo>
                  <a:pt x="4538" y="9706"/>
                  <a:pt x="4326" y="9695"/>
                  <a:pt x="4142" y="9674"/>
                </a:cubicBezTo>
                <a:cubicBezTo>
                  <a:pt x="4079" y="9667"/>
                  <a:pt x="4023" y="9663"/>
                  <a:pt x="3969" y="9649"/>
                </a:cubicBezTo>
                <a:cubicBezTo>
                  <a:pt x="3935" y="9640"/>
                  <a:pt x="3903" y="9629"/>
                  <a:pt x="3870" y="9624"/>
                </a:cubicBezTo>
                <a:cubicBezTo>
                  <a:pt x="3813" y="9616"/>
                  <a:pt x="3792" y="9612"/>
                  <a:pt x="3746" y="9599"/>
                </a:cubicBezTo>
                <a:cubicBezTo>
                  <a:pt x="3708" y="9588"/>
                  <a:pt x="3687" y="9581"/>
                  <a:pt x="3646" y="9575"/>
                </a:cubicBezTo>
                <a:cubicBezTo>
                  <a:pt x="3622" y="9572"/>
                  <a:pt x="3596" y="9577"/>
                  <a:pt x="3572" y="9575"/>
                </a:cubicBezTo>
                <a:cubicBezTo>
                  <a:pt x="3572" y="9631"/>
                  <a:pt x="3555" y="9708"/>
                  <a:pt x="3597" y="9748"/>
                </a:cubicBezTo>
                <a:cubicBezTo>
                  <a:pt x="3617" y="9767"/>
                  <a:pt x="3695" y="9782"/>
                  <a:pt x="3721" y="9798"/>
                </a:cubicBezTo>
                <a:cubicBezTo>
                  <a:pt x="3748" y="9815"/>
                  <a:pt x="3809" y="9864"/>
                  <a:pt x="3845" y="9872"/>
                </a:cubicBezTo>
                <a:cubicBezTo>
                  <a:pt x="3919" y="9888"/>
                  <a:pt x="3995" y="9880"/>
                  <a:pt x="4068" y="9897"/>
                </a:cubicBezTo>
                <a:cubicBezTo>
                  <a:pt x="4125" y="9910"/>
                  <a:pt x="4184" y="9910"/>
                  <a:pt x="4242" y="9922"/>
                </a:cubicBezTo>
                <a:cubicBezTo>
                  <a:pt x="4323" y="9940"/>
                  <a:pt x="4382" y="9947"/>
                  <a:pt x="4465" y="9947"/>
                </a:cubicBezTo>
                <a:cubicBezTo>
                  <a:pt x="4534" y="9947"/>
                  <a:pt x="4600" y="9965"/>
                  <a:pt x="4663" y="9971"/>
                </a:cubicBezTo>
                <a:cubicBezTo>
                  <a:pt x="4893" y="9991"/>
                  <a:pt x="6054" y="10094"/>
                  <a:pt x="6152" y="9947"/>
                </a:cubicBezTo>
                <a:cubicBezTo>
                  <a:pt x="6190" y="9890"/>
                  <a:pt x="6144" y="9673"/>
                  <a:pt x="6127" y="9649"/>
                </a:cubicBezTo>
                <a:cubicBezTo>
                  <a:pt x="6102" y="9613"/>
                  <a:pt x="6097" y="9599"/>
                  <a:pt x="6052" y="9575"/>
                </a:cubicBezTo>
                <a:cubicBezTo>
                  <a:pt x="6019" y="9558"/>
                  <a:pt x="6010" y="9554"/>
                  <a:pt x="5953" y="9550"/>
                </a:cubicBezTo>
                <a:cubicBezTo>
                  <a:pt x="5888" y="9546"/>
                  <a:pt x="5783" y="9528"/>
                  <a:pt x="5755" y="9525"/>
                </a:cubicBezTo>
                <a:cubicBezTo>
                  <a:pt x="5708" y="9519"/>
                  <a:pt x="5648" y="9503"/>
                  <a:pt x="5606" y="9500"/>
                </a:cubicBezTo>
                <a:cubicBezTo>
                  <a:pt x="5458" y="9488"/>
                  <a:pt x="5294" y="9490"/>
                  <a:pt x="5159" y="9475"/>
                </a:cubicBezTo>
                <a:cubicBezTo>
                  <a:pt x="5097" y="9468"/>
                  <a:pt x="5010" y="9456"/>
                  <a:pt x="4961" y="9451"/>
                </a:cubicBezTo>
                <a:cubicBezTo>
                  <a:pt x="4898" y="9445"/>
                  <a:pt x="4813" y="9431"/>
                  <a:pt x="4762" y="9426"/>
                </a:cubicBezTo>
                <a:cubicBezTo>
                  <a:pt x="4681" y="9418"/>
                  <a:pt x="4638" y="9422"/>
                  <a:pt x="4564" y="9401"/>
                </a:cubicBezTo>
                <a:cubicBezTo>
                  <a:pt x="4490" y="9380"/>
                  <a:pt x="4410" y="9396"/>
                  <a:pt x="4341" y="9376"/>
                </a:cubicBezTo>
                <a:cubicBezTo>
                  <a:pt x="4289" y="9361"/>
                  <a:pt x="4244" y="9340"/>
                  <a:pt x="4192" y="9327"/>
                </a:cubicBezTo>
                <a:cubicBezTo>
                  <a:pt x="4129" y="9311"/>
                  <a:pt x="4084" y="9306"/>
                  <a:pt x="4018" y="9302"/>
                </a:cubicBezTo>
                <a:cubicBezTo>
                  <a:pt x="4010" y="9302"/>
                  <a:pt x="4002" y="9302"/>
                  <a:pt x="3994" y="930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26028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й состав моло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МОЛО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стокв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ыв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и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лочный сах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БЕЛКИ       ЖИРЫ       УГЛЕ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1413000"/>
            <a:ext cx="792000" cy="720720"/>
          </a:xfrm>
          <a:custGeom>
            <a:avLst/>
            <a:gdLst>
              <a:gd name="textAreaLeft" fmla="*/ 0 w 792000"/>
              <a:gd name="textAreaRight" fmla="*/ 792360 w 79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3645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2276640"/>
            <a:ext cx="792000" cy="720720"/>
          </a:xfrm>
          <a:custGeom>
            <a:avLst/>
            <a:gdLst>
              <a:gd name="textAreaLeft" fmla="*/ 0 w 792000"/>
              <a:gd name="textAreaRight" fmla="*/ 792360 w 79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3213000"/>
            <a:ext cx="792000" cy="720720"/>
          </a:xfrm>
          <a:custGeom>
            <a:avLst/>
            <a:gdLst>
              <a:gd name="textAreaLeft" fmla="*/ 0 w 792000"/>
              <a:gd name="textAreaRight" fmla="*/ 792360 w 79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2360" y="3860640"/>
            <a:ext cx="792000" cy="720720"/>
          </a:xfrm>
          <a:custGeom>
            <a:avLst/>
            <a:gdLst>
              <a:gd name="textAreaLeft" fmla="*/ 0 w 792000"/>
              <a:gd name="textAreaRight" fmla="*/ 792360 w 79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700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, Е, D, 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1, В2, В12, В6, РР, 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8:29:54Z</dcterms:created>
  <dc:creator>21976</dc:creator>
  <dc:description/>
  <dc:language>en-US</dc:language>
  <cp:lastModifiedBy>21976</cp:lastModifiedBy>
  <dcterms:modified xsi:type="dcterms:W3CDTF">2011-01-22T19:50:50Z</dcterms:modified>
  <cp:revision>5</cp:revision>
  <dc:subject/>
  <dc:title>Слайд 1</dc:title>
</cp:coreProperties>
</file>