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D81-5AF7-4611-98BD-126FDA6E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174-46BD-4A8A-9683-86C9F1CE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B0E-A6F7-4A1C-956D-410F3FA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FCF-667D-4052-8FE8-D747837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D86-79DA-4D95-AA25-83B33DE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204-0FC1-4B78-8424-82DCD50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5B3-99DD-4A96-A3B8-B253972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5FB-4DB9-4237-B438-F6300E8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55A-7C9D-420D-B429-05E0CA6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3E8-F9D1-4E4A-9AAA-741DC56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C34-7758-47DE-AD39-138CDD0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C3F-BDFA-4F72-8658-C2D67FC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9C3-567C-4087-BE8F-B9EE652610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7120" y="14292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жизнь человека протекает в условиях неопределенности: утром мы думаем о том, какая погода нас ожидает, производя физические измерения, мы редко получаем одинаковые результаты, очень трудно предвидеть уровень цен, исход спортивных состязаний, не говоря уже о сфере азартных игр (карты, рулетка, лотерея и т.п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ределенность в той или иной степени присуща любому реальному явлению. Человеку, принимающему решение, приходится оценивать эту степень неопреде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оценке степени неопределенности в более сложных случаях и имеет отношение наука, называемая теорией вероя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Рисунок 2" descr="PrevjyWeather.jpg"/>
          <p:cNvPicPr/>
          <p:nvPr/>
        </p:nvPicPr>
        <p:blipFill>
          <a:blip r:embed="rId1"/>
          <a:stretch/>
        </p:blipFill>
        <p:spPr>
          <a:xfrm>
            <a:off x="6357960" y="4543560"/>
            <a:ext cx="2257560" cy="20286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302123.jpg"/>
          <p:cNvPicPr/>
          <p:nvPr/>
        </p:nvPicPr>
        <p:blipFill>
          <a:blip r:embed="rId2"/>
          <a:stretch/>
        </p:blipFill>
        <p:spPr>
          <a:xfrm>
            <a:off x="428760" y="4357800"/>
            <a:ext cx="1955520" cy="2052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fotolia_1068825_l1.jpg"/>
          <p:cNvPicPr/>
          <p:nvPr/>
        </p:nvPicPr>
        <p:blipFill>
          <a:blip r:embed="rId3"/>
          <a:stretch/>
        </p:blipFill>
        <p:spPr>
          <a:xfrm>
            <a:off x="3143160" y="4500720"/>
            <a:ext cx="253548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1000080" y="4429080"/>
                <a:ext cx="1500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3071880" y="4500720"/>
                <a:ext cx="1500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"/>
              <p:cNvSpPr txBox="1"/>
              <p:nvPr/>
            </p:nvSpPr>
            <p:spPr>
              <a:xfrm>
                <a:off x="5000760" y="4429080"/>
                <a:ext cx="1643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00080" y="3500280"/>
                <a:ext cx="13413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3643200" y="3500280"/>
                <a:ext cx="15843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5786280" y="3500280"/>
                <a:ext cx="1214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857160" y="5286240"/>
                <a:ext cx="62150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2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Rectangle 13"/>
          <p:cNvSpPr/>
          <p:nvPr/>
        </p:nvSpPr>
        <p:spPr>
          <a:xfrm>
            <a:off x="142920" y="-56520"/>
            <a:ext cx="88581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 300 лампочек поступивших на склад к завхозу, Валериею Идрисовичу, предполагается израсходовать на первый этаж 80 лампочек, на второй этаж 100, на третий этаж 120 лампочек. После поступления товара, пришло уведомление о том, что из партии ламп для первого этажа вероятность поступления бракованных ламп составляет 2 %, для ламп второго этажа 4%, для ламп третьего этажа – 1%. Из поступившей партии взяли одну лампу. Какова вероятность того, что наугад взятая лампа, предназначенная для третьего этажа бракованна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означим В= наугад взята  бракованная лам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= из партии для первого этаж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= из партии для второго эт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= из партии для третьего эт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бытия 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, 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, А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образуют полную группу несовместных событ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0" y="1695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0" y="38592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ловные вероятности того, что возьмем бракованную лампочку, ра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11120" y="321984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11120" y="34387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17" descr="6bbd9784a799f97180c4538ac1b.jpg"/>
          <p:cNvPicPr/>
          <p:nvPr/>
        </p:nvPicPr>
        <p:blipFill>
          <a:blip r:embed="rId1"/>
          <a:stretch/>
        </p:blipFill>
        <p:spPr>
          <a:xfrm>
            <a:off x="7358040" y="1785960"/>
            <a:ext cx="1536840" cy="1228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8" descr="1231438952_lampa500.jpg"/>
          <p:cNvPicPr/>
          <p:nvPr/>
        </p:nvPicPr>
        <p:blipFill>
          <a:blip r:embed="rId2"/>
          <a:stretch/>
        </p:blipFill>
        <p:spPr>
          <a:xfrm>
            <a:off x="7429680" y="4357800"/>
            <a:ext cx="1461960" cy="149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85840"/>
            <a:ext cx="7786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ще первобытный вождь понимал, что у десятка охотников «вероятность» поразить копьем зубра гораздо больше, чем у одного. Поэтому и охотились тогда коллектив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новательно было бы думать, что такие древние полководцы, как Александр Македонский или Дмитрий Донской, готовясь к сражению, уповали только на доблесть и искусство вои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785880" y="4786200"/>
            <a:ext cx="750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мненно, они на основании наблюдений и опыта военного руководства умели как-то оценить «вероятность» своего возвращения «со щитом» или «на щите», знали, когда принимать бой, когда уклониться от него. Они не были рабами случая, но вместе с тем они были еще очень далеки от теории вероятн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3" descr="1233721489_daefaf9f8d418b0fc15577fba22ab101.jpg"/>
          <p:cNvPicPr/>
          <p:nvPr/>
        </p:nvPicPr>
        <p:blipFill>
          <a:blip r:embed="rId1"/>
          <a:stretch/>
        </p:blipFill>
        <p:spPr>
          <a:xfrm>
            <a:off x="571680" y="2286000"/>
            <a:ext cx="2404800" cy="2405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donskoy.jpg"/>
          <p:cNvPicPr/>
          <p:nvPr/>
        </p:nvPicPr>
        <p:blipFill>
          <a:blip r:embed="rId2"/>
          <a:stretch/>
        </p:blipFill>
        <p:spPr>
          <a:xfrm>
            <a:off x="6564240" y="2286000"/>
            <a:ext cx="224316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206311841.jpg"/>
          <p:cNvPicPr/>
          <p:nvPr/>
        </p:nvPicPr>
        <p:blipFill>
          <a:blip r:embed="rId3"/>
          <a:stretch/>
        </p:blipFill>
        <p:spPr>
          <a:xfrm>
            <a:off x="3786120" y="2286000"/>
            <a:ext cx="2327400" cy="239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bde"/>
                </a:solidFill>
                <a:latin typeface="Arial"/>
              </a:rPr>
              <a:t>События, операции над событиями.</a:t>
            </a:r>
            <a:br>
              <a:rPr sz="2800"/>
            </a:br>
            <a:endParaRPr b="0" lang="en-US" sz="28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ия вероятностей изучает математические модели случайных экспери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случайным подразумевает такой эксперимент, исходы которого неоднозначно определяются начальными условиями. Простейшим примером такого эксперимента является подбрасывание монеты. В этом эксперименте возможны лишь два исхода: выпадение «герба» или «решки»,- при этом точно предсказать результат до проведения эксперимента невозм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3" descr="eagle.gif"/>
          <p:cNvPicPr/>
          <p:nvPr/>
        </p:nvPicPr>
        <p:blipFill>
          <a:blip r:embed="rId1"/>
          <a:stretch/>
        </p:blipFill>
        <p:spPr>
          <a:xfrm>
            <a:off x="1714680" y="48578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1_тийин_-_решка.jpg"/>
          <p:cNvPicPr/>
          <p:nvPr/>
        </p:nvPicPr>
        <p:blipFill>
          <a:blip r:embed="rId2"/>
          <a:stretch/>
        </p:blipFill>
        <p:spPr>
          <a:xfrm>
            <a:off x="4071960" y="4838760"/>
            <a:ext cx="178596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bde"/>
                </a:solidFill>
                <a:latin typeface="Arial"/>
              </a:rPr>
              <a:t>Классическое определение вероятности</a:t>
            </a:r>
            <a:br>
              <a:rPr sz="2800"/>
            </a:br>
            <a:endParaRPr b="0" lang="en-US" sz="2800" spc="-1" strike="noStrike">
              <a:solidFill>
                <a:srgbClr val="eaebd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к наступлению события А благоприятными являются k частных случаев из n возможных событий, образующих полную группу равновозможных и попарно несовместных, то вероятностью события А называется число постоя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214800" y="3643200"/>
                <a:ext cx="30002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" name="Рисунок 4" descr="saibh6f4f76g55d4frj.jpg"/>
          <p:cNvPicPr/>
          <p:nvPr/>
        </p:nvPicPr>
        <p:blipFill>
          <a:blip r:embed="rId1"/>
          <a:stretch/>
        </p:blipFill>
        <p:spPr>
          <a:xfrm>
            <a:off x="6429240" y="421488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00040" y="1143000"/>
            <a:ext cx="807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событие А может наступить при условии появления одного из несовместимых событий В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В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…,В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образующих полную группу., тог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490840" y="2071800"/>
                <a:ext cx="5184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Rectangle 6"/>
          <p:cNvSpPr/>
          <p:nvPr/>
        </p:nvSpPr>
        <p:spPr>
          <a:xfrm>
            <a:off x="2520" y="228960"/>
            <a:ext cx="25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85880" y="3064320"/>
            <a:ext cx="771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пустим, что произведено испытание, в результате которого появилось событие А. Поставим своей задачей определить, как изменилось (в связи с тем, что событие А уже наступило) вероятности гипотез. Другими словами, будем искать условные вероят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4214880" y="4500720"/>
                <a:ext cx="4189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Box 9"/>
          <p:cNvSpPr/>
          <p:nvPr/>
        </p:nvSpPr>
        <p:spPr>
          <a:xfrm>
            <a:off x="1214280" y="5000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ула полной вероя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2643120" y="5214960"/>
                <a:ext cx="6140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4"/>
          <p:cNvSpPr/>
          <p:nvPr/>
        </p:nvSpPr>
        <p:spPr>
          <a:xfrm>
            <a:off x="2727360" y="25718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ула Бей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12" descr="25159.jpg"/>
          <p:cNvPicPr/>
          <p:nvPr/>
        </p:nvPicPr>
        <p:blipFill>
          <a:blip r:embed="rId1"/>
          <a:stretch/>
        </p:blipFill>
        <p:spPr>
          <a:xfrm>
            <a:off x="571680" y="4714920"/>
            <a:ext cx="164772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3"/>
          <p:cNvSpPr/>
          <p:nvPr/>
        </p:nvSpPr>
        <p:spPr>
          <a:xfrm>
            <a:off x="214200" y="57168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дел уголовного розыска поступило сообщение о том, что 5 неизвестных лиц взломали сейф кассы предприятия и похитили крупную сумму денег. Свидетели успели заметить, что грабители сели в автобус, следующий по маршруту в соседний город. Об этом сразу же была поставлена в известность милиция. Как только автобус остановился на вокзале, к его дверям подошел инспектор уголовного розыска и запретил кондуктору открывать дверь автобуса. Тот сообщил инспектору, что в автобусе 40 пассажиров. Обыск может привести к значительной задержке автобуса. Инспектор успокоил кондуктора: «Мне достаточно проверить 6 пассажиров и сможете ехать дальше!». Он предложил шестерым выбранным наугад пассажирам зайти в кабинет начальника вокз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преступник был обнаружен сразу – в его кармане нашли пачку денег. Он назвал сообщников, и дело было законч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руководило инспектором: риск или трезвый расч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24" descr="article_image-image-article.jpg"/>
          <p:cNvPicPr/>
          <p:nvPr/>
        </p:nvPicPr>
        <p:blipFill>
          <a:blip r:embed="rId1"/>
          <a:stretch/>
        </p:blipFill>
        <p:spPr>
          <a:xfrm>
            <a:off x="5000760" y="4643280"/>
            <a:ext cx="2643120" cy="1836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5" descr="big_pic_247315.thumbnail.jpg"/>
          <p:cNvPicPr/>
          <p:nvPr/>
        </p:nvPicPr>
        <p:blipFill>
          <a:blip r:embed="rId2"/>
          <a:stretch/>
        </p:blipFill>
        <p:spPr>
          <a:xfrm>
            <a:off x="1357200" y="4643280"/>
            <a:ext cx="3000600" cy="1825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571840" y="1285920"/>
                <a:ext cx="568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2571840" y="1785960"/>
                <a:ext cx="4929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среди</m:t>
                    </m:r>
                    <m:r>
                      <m:rPr>
                        <m:lit/>
                        <m:nor/>
                      </m:rPr>
                      <m:t xml:space="preserve">```r`` ital </m:t>
                    </m:r>
                    <m:r>
                      <m:t xml:space="preserve">пассажиров</m:t>
                    </m:r>
                    <m:r>
                      <m:rPr>
                        <m:lit/>
                        <m:nor/>
                      </m:rPr>
                      <m:t xml:space="preserve">``k` ital </m:t>
                    </m:r>
                    <m:r>
                      <m:t xml:space="preserve">преступников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3"/>
          <p:cNvSpPr/>
          <p:nvPr/>
        </p:nvSpPr>
        <p:spPr>
          <a:xfrm>
            <a:off x="571680" y="-47520"/>
            <a:ext cx="742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шение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усть событие А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и случайно вызванных 6 пассажиров есть хотя бы один преступ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. Пусть событие А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–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и случайно вызванных 6 пассажиров е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преступ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=1,2,3,4,5). Тогд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=А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+А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+А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+А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+А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Calibri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Ясно, ч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500040" y="17859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у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428760" y="2357280"/>
                <a:ext cx="2155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714840" y="2357280"/>
                <a:ext cx="2197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6643800" y="2357280"/>
                <a:ext cx="2322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43080" y="2857680"/>
                <a:ext cx="2455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5214960" y="2928960"/>
                <a:ext cx="2290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1143000" y="5143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1"/>
              <p:cNvSpPr txBox="1"/>
              <p:nvPr/>
            </p:nvSpPr>
            <p:spPr>
              <a:xfrm>
                <a:off x="2500200" y="3571920"/>
                <a:ext cx="1649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0"/>
              <p:cNvSpPr txBox="1"/>
              <p:nvPr/>
            </p:nvSpPr>
            <p:spPr>
              <a:xfrm>
                <a:off x="6143760" y="3857760"/>
                <a:ext cx="26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23"/>
          <p:cNvSpPr/>
          <p:nvPr/>
        </p:nvSpPr>
        <p:spPr>
          <a:xfrm>
            <a:off x="214200" y="35024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. Вероятность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среди 6 пассажиров окажется, по крайней мере, один преступник, оказывается больш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4459320" y="89424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8"/>
          <p:cNvSpPr/>
          <p:nvPr/>
        </p:nvSpPr>
        <p:spPr>
          <a:xfrm>
            <a:off x="214200" y="4357800"/>
            <a:ext cx="878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-видимому, инспектор умел пользоваться в необходимых случаях теорией вероятностей. Такое гипергеометрическое распределение может с успехом использоваться во многих практических ситуациях: при исследовании распространения инфекционных заболеваний, при контроле качества изделий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29" descr="4066182_ment.jpg"/>
          <p:cNvPicPr/>
          <p:nvPr/>
        </p:nvPicPr>
        <p:blipFill>
          <a:blip r:embed="rId1"/>
          <a:stretch/>
        </p:blipFill>
        <p:spPr>
          <a:xfrm>
            <a:off x="4357800" y="5500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0" descr="bus_234.jpg"/>
          <p:cNvPicPr/>
          <p:nvPr/>
        </p:nvPicPr>
        <p:blipFill>
          <a:blip r:embed="rId2"/>
          <a:stretch/>
        </p:blipFill>
        <p:spPr>
          <a:xfrm>
            <a:off x="2571840" y="5500800"/>
            <a:ext cx="15890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6357960" y="2428920"/>
                <a:ext cx="8431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5715000" y="3286080"/>
                <a:ext cx="479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28760" y="3857760"/>
                <a:ext cx="492912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6"/>
          <p:cNvSpPr/>
          <p:nvPr/>
        </p:nvSpPr>
        <p:spPr>
          <a:xfrm>
            <a:off x="357120" y="22464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В 9 б классе  30 человек, из них 12 мальчиков, остальные  девочки, известно, что к доске Ольга Евгеньевна должна вызвать двоих учащихся. Какова вероятность того, что это девоч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шени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усть  А-событие, заключающееся в том, что из 30 учащихся к доске вызваны две девочки. Р(А)- вероятность этого события. Найдем число всех исходов испытания. Это число рав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71680" y="29311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. Число благоприятствующих исходо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это число способов выбора двух девочек класса из 18, оно рав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928800" y="5143680"/>
            <a:ext cx="2344680" cy="14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0000835656-preview.jpg"/>
          <p:cNvPicPr/>
          <p:nvPr/>
        </p:nvPicPr>
        <p:blipFill>
          <a:blip r:embed="rId2"/>
          <a:stretch/>
        </p:blipFill>
        <p:spPr>
          <a:xfrm>
            <a:off x="6643800" y="5000760"/>
            <a:ext cx="1957320" cy="1504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x_78a39175.jpg"/>
          <p:cNvPicPr/>
          <p:nvPr/>
        </p:nvPicPr>
        <p:blipFill>
          <a:blip r:embed="rId3"/>
          <a:stretch/>
        </p:blipFill>
        <p:spPr>
          <a:xfrm>
            <a:off x="3929040" y="5000760"/>
            <a:ext cx="2067120" cy="1550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3"/>
          <p:cNvSpPr/>
          <p:nvPr/>
        </p:nvSpPr>
        <p:spPr>
          <a:xfrm>
            <a:off x="428760" y="285840"/>
            <a:ext cx="8358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гимназии  в параллели 8 классов обучаются 80 школьников. Ученики 8а класса составляют 30 % от общего числа школьников в параллели, ученики 8б класса -40%  и 8в класса 30% соответственно. В 8а классе  количество заболевших составило 15 % , в 8б классе – 35%, в 8в классе – 20%. Всех заболевших отпустили по домам. На первом этаже наш завуч – Тамара Михайловна остановила одного из школьников. Какова вероятность того, что он ученик 8а класса? Какова вероятность того, что он ученик 8б и 8в классов соответствен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9"/>
              <p:cNvSpPr txBox="1"/>
              <p:nvPr/>
            </p:nvSpPr>
            <p:spPr>
              <a:xfrm>
                <a:off x="3857760" y="3000240"/>
                <a:ext cx="9810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8"/>
              <p:cNvSpPr txBox="1"/>
              <p:nvPr/>
            </p:nvSpPr>
            <p:spPr>
              <a:xfrm>
                <a:off x="4929120" y="3000240"/>
                <a:ext cx="11430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7"/>
              <p:cNvSpPr txBox="1"/>
              <p:nvPr/>
            </p:nvSpPr>
            <p:spPr>
              <a:xfrm>
                <a:off x="6143760" y="3000240"/>
                <a:ext cx="11905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785880" y="3357720"/>
                <a:ext cx="1305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5"/>
              <p:cNvSpPr txBox="1"/>
              <p:nvPr/>
            </p:nvSpPr>
            <p:spPr>
              <a:xfrm>
                <a:off x="2357280" y="3357720"/>
                <a:ext cx="135432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4"/>
              <p:cNvSpPr txBox="1"/>
              <p:nvPr/>
            </p:nvSpPr>
            <p:spPr>
              <a:xfrm>
                <a:off x="4000680" y="3357720"/>
                <a:ext cx="1214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3"/>
              <p:cNvSpPr txBox="1"/>
              <p:nvPr/>
            </p:nvSpPr>
            <p:spPr>
              <a:xfrm>
                <a:off x="1000080" y="3786120"/>
                <a:ext cx="5643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,4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+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t xml:space="preserve">0,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3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Rectangle 30"/>
          <p:cNvSpPr/>
          <p:nvPr/>
        </p:nvSpPr>
        <p:spPr>
          <a:xfrm>
            <a:off x="285840" y="2093400"/>
            <a:ext cx="8429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усть событие В={появление заболевшего ребенка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двигаем гипотезы:           А1={ученик из 8а класса}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А2={ученик из 8б класса}   А3={ученик из 8в класса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 условию задачи имее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411120" y="6768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411120" y="8956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0" y="1123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11120" y="18007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411120" y="2019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714240" y="5000760"/>
            <a:ext cx="621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уждая аналогично  получим: вероятность того что он ученик 8 б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7"/>
              <p:cNvSpPr txBox="1"/>
              <p:nvPr/>
            </p:nvSpPr>
            <p:spPr>
              <a:xfrm>
                <a:off x="1500120" y="5286240"/>
                <a:ext cx="2782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3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40"/>
          <p:cNvSpPr/>
          <p:nvPr/>
        </p:nvSpPr>
        <p:spPr>
          <a:xfrm>
            <a:off x="714240" y="5929200"/>
            <a:ext cx="61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оятность того, что он ученик 8 в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8"/>
              <p:cNvSpPr txBox="1"/>
              <p:nvPr/>
            </p:nvSpPr>
            <p:spPr>
              <a:xfrm>
                <a:off x="5000760" y="5892840"/>
                <a:ext cx="30002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4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Рисунок 19" descr="1.jpg"/>
          <p:cNvPicPr/>
          <p:nvPr/>
        </p:nvPicPr>
        <p:blipFill>
          <a:blip r:embed="rId1"/>
          <a:stretch/>
        </p:blipFill>
        <p:spPr>
          <a:xfrm>
            <a:off x="6286680" y="2000160"/>
            <a:ext cx="200628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0" descr="1257947180533_25248_200_200.jpg"/>
          <p:cNvPicPr/>
          <p:nvPr/>
        </p:nvPicPr>
        <p:blipFill>
          <a:blip r:embed="rId2"/>
          <a:stretch/>
        </p:blipFill>
        <p:spPr>
          <a:xfrm>
            <a:off x="7000920" y="35002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2:20:40Z</dcterms:created>
  <dc:creator>Администратор</dc:creator>
  <dc:description/>
  <dc:language>en-US</dc:language>
  <cp:lastModifiedBy>Лена</cp:lastModifiedBy>
  <dcterms:modified xsi:type="dcterms:W3CDTF">2011-01-24T17:19:04Z</dcterms:modified>
  <cp:revision>38</cp:revision>
  <dc:subject/>
  <dc:title>Слайд 1</dc:title>
</cp:coreProperties>
</file>