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7.gif" ContentType="image/gif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gif" ContentType="image/gif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8B5-6580-47F5-B1A6-66E4C732F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76D-313A-4CB5-8E46-02A76E30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C04-4AF4-462E-A844-A99AED68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F509-E0F2-4157-9451-CC0403B18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2304-DC10-4585-97AD-9486B8164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FC65-7DC9-4256-9DC4-5A0809B1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A34B-08CC-4850-94F2-E4AC322E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3965-5719-48A9-80DF-B1C938E8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865A-20BB-4BDF-B18E-A59147B7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6258C-A981-4DE5-AD32-104078A50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D452-0296-4D4C-9ABB-D0D4C938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4C57-0EC6-4DDF-8FD5-6C7C599D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2E86-DDAC-42B8-B1B0-0CD31EC4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051B-8A78-4D58-B1D6-A0CB542B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87F1-9528-4FF1-A00D-7A1D9616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C527-90DD-4C9D-8A29-12D4D980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4FAC-4B7D-4A09-AEE9-EC11836F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B8C-0AAC-4EBE-8360-E08571EF6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2305-A1A6-4D48-AF2C-6E5AEB19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3EA-5A35-4667-B6E8-B06D79C1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8D60-A254-444E-A094-59CCA966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A94E-1955-4DDB-92D2-2024391D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2D2A-8B29-4C0C-9968-085C99BE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286-21C5-44D4-A51A-BC75C9DA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image" Target="../media/image2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256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6C90-7354-4057-B553-F75D31CE44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minispir"/>
          <p:cNvPicPr/>
          <p:nvPr/>
        </p:nvPicPr>
        <p:blipFill>
          <a:blip r:embed="rId5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minispir"/>
          <p:cNvPicPr/>
          <p:nvPr/>
        </p:nvPicPr>
        <p:blipFill>
          <a:blip r:embed="rId7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256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5080" indent="-2246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6042-66A6-442A-895D-895035C76A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18.png"/><Relationship Id="rId3" Type="http://schemas.openxmlformats.org/officeDocument/2006/relationships/hyperlink" Target="http://podpiska.1september.ru/downloads/free/spo" TargetMode="External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2.xm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png"/><Relationship Id="rId3" Type="http://schemas.openxmlformats.org/officeDocument/2006/relationships/hyperlink" Target="http://ru.wikipedia.org/wiki/&#1060;&#1072;&#1081;&#1083;:Coat_of_Arms_of_Nizhnevartovsk_(Khanty-Mansia).svg" TargetMode="External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http://www.admhmao.ru/sport/foto/naz2.jpg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www.admhmao.ru/sport/foto/naz1.jpg" TargetMode="External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10.xml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3" descr=""/>
          <p:cNvPicPr/>
          <p:nvPr/>
        </p:nvPicPr>
        <p:blipFill>
          <a:blip r:embed="rId1"/>
          <a:stretch/>
        </p:blipFill>
        <p:spPr>
          <a:xfrm>
            <a:off x="3828960" y="1725480"/>
            <a:ext cx="5327640" cy="2084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за партой"/>
          <p:cNvPicPr/>
          <p:nvPr/>
        </p:nvPicPr>
        <p:blipFill>
          <a:blip r:embed="rId2"/>
          <a:stretch/>
        </p:blipFill>
        <p:spPr>
          <a:xfrm>
            <a:off x="1071720" y="380880"/>
            <a:ext cx="2786040" cy="333396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4083840" y="857160"/>
            <a:ext cx="4408200" cy="581400"/>
          </a:xfrm>
          <a:prstGeom prst="rect">
            <a:avLst/>
          </a:prstGeom>
          <a:gradFill rotWithShape="0">
            <a:gsLst>
              <a:gs pos="0">
                <a:srgbClr val="809d26"/>
              </a:gs>
              <a:gs pos="100000">
                <a:srgbClr val="abd132"/>
              </a:gs>
            </a:gsLst>
            <a:lin ang="16200000"/>
          </a:gradFill>
          <a:ln w="9360">
            <a:solidFill>
              <a:srgbClr val="a3c14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</a:rPr>
              <a:t>«Спорт в моей ЮГР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4721400" y="3929040"/>
            <a:ext cx="410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торы: учащиеся 7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ихонов Сергей Геннад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гаутдинов Алик  Русл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714920" y="48578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ководитель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глямова Райля Адгам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4063680" y="6072120"/>
            <a:ext cx="1491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011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.Нижневартов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fImg5" descr="http://footballinhmao.narod.ru/img/ttg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572240" y="5143680"/>
            <a:ext cx="1289160" cy="136044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" descr="№18">
            <a:hlinkClick r:id="rId3"/>
          </p:cNvPr>
          <p:cNvPicPr/>
          <p:nvPr/>
        </p:nvPicPr>
        <p:blipFill>
          <a:blip r:embed="rId4"/>
          <a:stretch/>
        </p:blipFill>
        <p:spPr>
          <a:xfrm rot="21003000">
            <a:off x="1260000" y="491760"/>
            <a:ext cx="1595520" cy="18842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2786040" y="357120"/>
            <a:ext cx="5072040" cy="64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Мини – футбол в окру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муниципальных образованиях функционируют команды из ловких и сильных мальчишек из четырёх возрастных групп.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1999 – 2000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г.р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ангепас и Мегио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зона «Восток»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. Лянтор Сургутский район и «Спарта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фтеюганс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зона «Центр»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.г. Югорс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Урай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зона «Запад»);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1997 – 1998 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г.р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.Нижневартовск и Когалым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зона «Восток»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Спартак»  Нефтеюганск и «Атлант» Сургутский район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зона «Центр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рай и Советского район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зона «Запад»);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1995 – 1996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 г.р-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Нижневартовск и Радужный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зона «Восток»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Атлант»  Сургутский район и г. Пыть-Я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зона «Центр»)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. Югорск и Ура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(зона «Запад»); </a:t>
            </a:r>
            <a:br>
              <a:rPr sz="1600"/>
            </a:br>
            <a:r>
              <a:rPr b="1" i="1" lang="ru-RU" sz="1600" spc="-1" strike="noStrike">
                <a:solidFill>
                  <a:srgbClr val="c00000"/>
                </a:solidFill>
                <a:latin typeface="Times New Roman"/>
              </a:rPr>
              <a:t>1993 – 1994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 г.р -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. Лангепас и Мегион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зона «Восток»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Атлант» Сургутский район и «Спартак» Нефтеюганск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зона «Центр»),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ктябрьского района и «ТТГ - Югра» Югорск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зона «Запад»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6" descr="http://footballinhmao.narod.ru/img/m4s2.jpg"/>
          <p:cNvPicPr/>
          <p:nvPr/>
        </p:nvPicPr>
        <p:blipFill>
          <a:blip r:embed="rId1"/>
          <a:stretch/>
        </p:blipFill>
        <p:spPr>
          <a:xfrm>
            <a:off x="1000080" y="2571840"/>
            <a:ext cx="2643120" cy="20714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928800" y="785880"/>
            <a:ext cx="77864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Правила игры в футбол предусматривают,  что время игры (90 мин) включает в себя не только так называемое чистое игровое время (активная фаза),  но и многие остановки в игре (пассивная фаза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а)Сколько процентов составила пассивная фаза во время матча на Первенство города команды нашей школы, если было затрачено 31 ми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б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Какую часть общего времени заняло в среднем положение «вне игры»,если   их    было 9 раз по 10-12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1144800" y="2286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3714840" y="2643120"/>
            <a:ext cx="507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1600" spc="-1" strike="noStrike">
                <a:solidFill>
                  <a:srgbClr val="7030a0"/>
                </a:solidFill>
                <a:latin typeface="Times New Roman"/>
              </a:rPr>
              <a:t>В среднем за игру футболист бегает в течение 29-42 мин и  пробегает расстояние от 8 до 12 км. Найдите его среднюю скорость(в км/час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Рисунок 5" descr="XIII Спартакиада среди людей с инвалидностью Ханты-Мансийского автономного округа  - Югры, 10-14 июня 2010 г., г.Ханты-Мансийск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 rot="20581200">
            <a:off x="7072200" y="5357520"/>
            <a:ext cx="1622520" cy="1089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7"/>
          <p:cNvSpPr/>
          <p:nvPr/>
        </p:nvSpPr>
        <p:spPr>
          <a:xfrm>
            <a:off x="3714840" y="3643200"/>
            <a:ext cx="42861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.  17 футбольных команд участвова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Первенстве г.Нижневартовска среди мальчишек 1998-1999г.р. Победитель  выбирается по  системе исключения.  То есть эти 17 команд разбиваются на пары и команды  каждой пары играют друг против друга. После того как проигравшие команды исключаются, победители  снова делятся на пары, и т.д. Сколько игр нужно сыграть чтобы определить чемпион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9"/>
          <p:cNvSpPr/>
          <p:nvPr/>
        </p:nvSpPr>
        <p:spPr>
          <a:xfrm>
            <a:off x="1514160" y="285840"/>
            <a:ext cx="38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Задачи из раздела 4 «Футбол любят вс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9" descr="C:\Documents and Settings\Admin\Мои документы\Мои рисунки\Рисунок3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591600">
            <a:off x="6572160" y="4071960"/>
            <a:ext cx="2286000" cy="22194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5"/>
          <p:cNvSpPr/>
          <p:nvPr/>
        </p:nvSpPr>
        <p:spPr>
          <a:xfrm>
            <a:off x="1214280" y="785880"/>
            <a:ext cx="70009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небольшая часть материалов о развитии спорта в нашем городе Нижневартовске и округ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ла своё отражение в Сборнике зад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ши одноклассники  с удовольствием решают задачи из Сбор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вод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и решение задач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анных на реальных событиях и датах, способству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лублению знаний  по истории и спорт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ю математических способ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8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2500200" y="42876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" descr="BD05097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523800">
            <a:off x="7072200" y="5214600"/>
            <a:ext cx="1785960" cy="13572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3" descr="Герб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001000" y="214200"/>
            <a:ext cx="858960" cy="11448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Флаг"/>
          <p:cNvPicPr/>
          <p:nvPr/>
        </p:nvPicPr>
        <p:blipFill>
          <a:blip r:embed="rId5"/>
          <a:stretch/>
        </p:blipFill>
        <p:spPr>
          <a:xfrm>
            <a:off x="928800" y="214200"/>
            <a:ext cx="1527120" cy="12146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1214280" y="1071720"/>
            <a:ext cx="7143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ис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ем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формационных ресур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А.Кузьмина, Екатеринбург, «Новое время», 2000, «Мой Нижневартовс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.А.Исупов, Новосибирск, «ИНФОЛИО - пресс», 1999, «История Сибир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стория Тюменского края», Свердловск, 197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Официальный сайт Администрации ХМАО-Югры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://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wwadmhmao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Официальный сайт администрации г.Нижневатов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1214280" y="642960"/>
            <a:ext cx="74296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главл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 u="sng">
                <a:solidFill>
                  <a:srgbClr val="e2d700"/>
                </a:solidFill>
                <a:uFillTx/>
                <a:latin typeface="Arial"/>
                <a:hlinkClick r:id="rId1" action="ppaction://hlinksldjump"/>
              </a:rPr>
              <a:t>В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d700"/>
                </a:solidFill>
                <a:uFillTx/>
                <a:latin typeface="Arial"/>
                <a:hlinkClick r:id="rId2" action="ppaction://hlinksldjump"/>
              </a:rPr>
              <a:t>1.Работа над проект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d700"/>
                </a:solidFill>
                <a:uFillTx/>
                <a:latin typeface="Arial"/>
                <a:hlinkClick r:id="rId3" action="ppaction://hlinksldjump"/>
              </a:rPr>
              <a:t>1.1. Опрос однокласс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d700"/>
                </a:solidFill>
                <a:uFillTx/>
                <a:latin typeface="Arial"/>
                <a:hlinkClick r:id="rId4" action="ppaction://hlinksldjump"/>
              </a:rPr>
              <a:t>1.2. Сбор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d700"/>
                </a:solidFill>
                <a:uFillTx/>
                <a:latin typeface="Arial"/>
                <a:hlinkClick r:id="rId5" action="ppaction://hlinksldjump"/>
              </a:rPr>
              <a:t>1.3. Составл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 u="sng">
                <a:solidFill>
                  <a:srgbClr val="e2d700"/>
                </a:solidFill>
                <a:uFillTx/>
                <a:latin typeface="Arial"/>
                <a:hlinkClick r:id="rId6" action="ppaction://hlinksldjump"/>
              </a:rPr>
              <a:t>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e2d700"/>
                </a:solidFill>
                <a:uFillTx/>
                <a:latin typeface="Arial"/>
                <a:hlinkClick r:id="rId7" action="ppaction://hlinksldjump"/>
              </a:rPr>
              <a:t>   Список используемых информационных 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gerb"/>
          <p:cNvPicPr/>
          <p:nvPr/>
        </p:nvPicPr>
        <p:blipFill>
          <a:blip r:embed="rId1"/>
          <a:stretch/>
        </p:blipFill>
        <p:spPr>
          <a:xfrm>
            <a:off x="1071720" y="642960"/>
            <a:ext cx="2428560" cy="2643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fla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15040" y="4643280"/>
            <a:ext cx="2500200" cy="18576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6"/>
          <p:cNvSpPr/>
          <p:nvPr/>
        </p:nvSpPr>
        <p:spPr>
          <a:xfrm>
            <a:off x="4071960" y="642960"/>
            <a:ext cx="44290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ипотеза: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ставление и решение зада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снованных на реальных событиях и датах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собствует расширению знаний в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порта и достижениях земляков, активизиру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зненную позицию, приобщает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доровому образу жизни, укрепляет патриотические чувства.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1571040" y="3857760"/>
            <a:ext cx="395748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ктуальность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ыбора те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екта была обусловлена необходимость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ширить знания обучающихся класса 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ии спорта в  ХМАО-Югр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стремление к здоровому образу жизн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рез занятия спор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214280" y="1071720"/>
            <a:ext cx="69296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b5395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b5395"/>
                </a:solidFill>
                <a:latin typeface="Arial"/>
              </a:rPr>
              <a:t>Цели и задачи</a:t>
            </a:r>
            <a:r>
              <a:rPr b="0" lang="ru-RU" sz="2800" spc="-1" strike="noStrike">
                <a:solidFill>
                  <a:srgbClr val="0b5395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научиться составлять и решать задачи по математи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подчеркнуть значение развития спорта для оздоровления школьников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познакомиться с краеведческим материал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усилить взаимосвязь математики с историей, физической культуро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*использовать материалы проекта для  повышения эффективности уроков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j0236395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58080" y="5857920"/>
            <a:ext cx="762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4" descr="C:\Documents and Settings\Ирина\Рабочий стол\Достижения 5б\Козел Д. 001.jpg"/>
          <p:cNvPicPr/>
          <p:nvPr/>
        </p:nvPicPr>
        <p:blipFill>
          <a:blip r:embed="rId1"/>
          <a:stretch/>
        </p:blipFill>
        <p:spPr>
          <a:xfrm>
            <a:off x="4492800" y="-55440"/>
            <a:ext cx="4413240" cy="356076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"/>
          <p:cNvSpPr/>
          <p:nvPr/>
        </p:nvSpPr>
        <p:spPr>
          <a:xfrm>
            <a:off x="1857240" y="2571840"/>
            <a:ext cx="5643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</a:rPr>
              <a:t>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. Назовите известных спортсменов города Нижневартовска, округа?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2. Какие виды спорта вам знакомы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3. Какие  национальные виды спорта популярны в нашем округ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4. Каким видом спорта ты увлекаешь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5. Влияют ли занятия  спортом на твою учеб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6. Что значит вести здоровый образ жизн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1504800" y="928800"/>
            <a:ext cx="242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про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днокласс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8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5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зультаты опроса</a:t>
            </a:r>
            <a:endParaRPr b="0" lang="en-US" sz="2800" spc="-1" strike="noStrike">
              <a:solidFill>
                <a:srgbClr val="04617b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714560" y="928800"/>
            <a:ext cx="3971880" cy="49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Как сберечь здоровь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Содержимое 5" descr=""/>
          <p:cNvPicPr/>
          <p:nvPr/>
        </p:nvPicPr>
        <p:blipFill>
          <a:blip r:embed="rId1"/>
          <a:stretch/>
        </p:blipFill>
        <p:spPr>
          <a:xfrm>
            <a:off x="0" y="0"/>
            <a:ext cx="4883040" cy="6504120"/>
          </a:xfrm>
          <a:prstGeom prst="rect">
            <a:avLst/>
          </a:prstGeom>
          <a:ln w="0">
            <a:noFill/>
          </a:ln>
        </p:spPr>
      </p:pic>
      <p:pic>
        <p:nvPicPr>
          <p:cNvPr id="113" name="Диаграмма 6" descr=""/>
          <p:cNvPicPr/>
          <p:nvPr/>
        </p:nvPicPr>
        <p:blipFill>
          <a:blip r:embed="rId2"/>
          <a:stretch/>
        </p:blipFill>
        <p:spPr>
          <a:xfrm>
            <a:off x="4883040" y="1328760"/>
            <a:ext cx="381024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C:\Users\Александр\Desktop\DSC01756.JPG"/>
          <p:cNvPicPr/>
          <p:nvPr/>
        </p:nvPicPr>
        <p:blipFill>
          <a:blip r:embed="rId1"/>
          <a:stretch/>
        </p:blipFill>
        <p:spPr>
          <a:xfrm>
            <a:off x="1071720" y="214200"/>
            <a:ext cx="7715160" cy="6429600"/>
          </a:xfrm>
          <a:prstGeom prst="rect">
            <a:avLst/>
          </a:prstGeom>
          <a:ln w="9360">
            <a:solidFill>
              <a:srgbClr val="5ef0f7"/>
            </a:solidFill>
            <a:miter/>
          </a:ln>
        </p:spPr>
      </p:pic>
      <p:sp>
        <p:nvSpPr>
          <p:cNvPr id="115" name="Прямоугольник 3"/>
          <p:cNvSpPr/>
          <p:nvPr/>
        </p:nvSpPr>
        <p:spPr>
          <a:xfrm>
            <a:off x="1071720" y="928800"/>
            <a:ext cx="7572240" cy="50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ижневартовск – город молодой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возраст жителей чуть старше 30 лет. Спорт любят все. Эта любовь была привита первопроходцами – покорителями Самотлора. Сегодня наши спортсмены вышли на международный уровень и множат славу родного г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ижневартовске действуют более ста спортивно – оздоровительных баз. Самый большой стадион в городе «Центральный» вмещает 5000 зрителей. С основания города и поныне прекрасно работают спортивные комплексы акционерного общества «Сибнефтегазпереработка» «Факел» и акционерного общества «Нижневартовскнефтегаз» «Нефтяник». Успешно функционирует новый спортивно-оздоровительный комплекс «Олимп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ой во дворах заливают катки, и каждый желающий может поиграть в хоккей, покататься на конь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j0236395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858080" y="5857920"/>
            <a:ext cx="762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4" descr="http://www.admhmao.ru/sport/foto/naz3_sm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736200">
            <a:off x="7525800" y="4255920"/>
            <a:ext cx="1239840" cy="1717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1500120" y="28584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46422"/>
                </a:solidFill>
                <a:latin typeface="Arial"/>
              </a:rPr>
              <a:t>Из истории  национальных   видов   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3" descr="http://www.eduhmao.ru/var/db/html/13656.nac_sm.jpg"/>
          <p:cNvPicPr/>
          <p:nvPr/>
        </p:nvPicPr>
        <p:blipFill>
          <a:blip r:embed="rId3"/>
          <a:stretch/>
        </p:blipFill>
        <p:spPr>
          <a:xfrm rot="20004000">
            <a:off x="1390680" y="828360"/>
            <a:ext cx="1236600" cy="171756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714240" y="2714760"/>
            <a:ext cx="25718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Прыжки через нарты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  национальный вид   спорта . Как только на стойбищах подсохнет земля, оленеводы ставят вряд нарты – через каждые 50см и подзадоривая друг друга начинают прыг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6"/>
          <p:cNvSpPr/>
          <p:nvPr/>
        </p:nvSpPr>
        <p:spPr>
          <a:xfrm rot="192000">
            <a:off x="5644800" y="3071880"/>
            <a:ext cx="17859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Бег с палкой по пересеченной местности</a:t>
            </a:r>
            <a:r>
              <a:rPr b="0" lang="ru-RU" sz="1400" spc="-1" strike="noStrike">
                <a:solidFill>
                  <a:srgbClr val="002060"/>
                </a:solidFill>
                <a:latin typeface="Arial"/>
              </a:rPr>
              <a:t> с незапамятных времен палку использовали при переходе болот, овражистых и горных участков местности,  во время длительной ходьбы для отдыха плечевых  суставов, поясниц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 flipH="1" rot="684000">
            <a:off x="5449680" y="984240"/>
            <a:ext cx="3475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991 году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был создан окружной национальный клуб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Этнос" - </a:t>
            </a: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структурное подразделение комитета по физической культуре и спорту Ханты-Мансийского автономного округа, основной задачей которого было развитие национальных видов спорта в округе среди коренных малочисленных народов Севе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5" descr="http://www.admhmao.ru/sport/foto/naz2_sm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14800" y="714240"/>
            <a:ext cx="1428480" cy="16909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2"/>
          <p:cNvSpPr/>
          <p:nvPr/>
        </p:nvSpPr>
        <p:spPr>
          <a:xfrm>
            <a:off x="3143160" y="2428920"/>
            <a:ext cx="2286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ыртя Туб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, с ненецкого – «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етающий топорик»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тание топора на д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о интересный и сложный  вид северного многобо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13" descr="http://www.admhmao.ru/sport/foto/naz1_sm.jpg">
            <a:hlinkClick r:id="rId6"/>
          </p:cNvPr>
          <p:cNvPicPr/>
          <p:nvPr/>
        </p:nvPicPr>
        <p:blipFill>
          <a:blip r:embed="rId7"/>
          <a:stretch/>
        </p:blipFill>
        <p:spPr>
          <a:xfrm rot="20931000">
            <a:off x="1571400" y="4857480"/>
            <a:ext cx="1239840" cy="17175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4"/>
          <p:cNvSpPr/>
          <p:nvPr/>
        </p:nvSpPr>
        <p:spPr>
          <a:xfrm>
            <a:off x="3143160" y="4487760"/>
            <a:ext cx="22147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Ямб – Уда – Длинная ру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– так называют тундровики тынз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астуху достаточно несколько  мгновений, чтобы отловить им среди тысячерогого стада  оленя, который выбра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8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3786120" y="3500280"/>
            <a:ext cx="4194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Ханты-Мансийске прош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9-ая Всемирная Шахматная Олимпиа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лимпиада стала рекордной как по числу участников,  так и по гендерному составу команд.  Всего в Олимпиаде приняли участ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60 мужских и 120 женских сбор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турнире приняли участие такж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борные Израиля, США, Герман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бедители прошлой Олимпиады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борная Армении и Кит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2" descr="Открыта 39-ая Всемирная шахматная олимпиада"/>
          <p:cNvPicPr/>
          <p:nvPr/>
        </p:nvPicPr>
        <p:blipFill>
          <a:blip r:embed="rId1"/>
          <a:stretch/>
        </p:blipFill>
        <p:spPr>
          <a:xfrm>
            <a:off x="1000080" y="285840"/>
            <a:ext cx="1900440" cy="157464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3"/>
          <p:cNvSpPr/>
          <p:nvPr/>
        </p:nvSpPr>
        <p:spPr>
          <a:xfrm rot="21184200">
            <a:off x="1172160" y="2046240"/>
            <a:ext cx="2071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торжественном открытии 39-ой Всемирной Шахматной Олимпиады  живые фигуры разыграли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оролевский гамби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5" descr="2.jpg"/>
          <p:cNvPicPr/>
          <p:nvPr/>
        </p:nvPicPr>
        <p:blipFill>
          <a:blip r:embed="rId2"/>
          <a:stretch/>
        </p:blipFill>
        <p:spPr>
          <a:xfrm>
            <a:off x="5857920" y="1500120"/>
            <a:ext cx="3030480" cy="21430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6"/>
          <p:cNvSpPr/>
          <p:nvPr/>
        </p:nvSpPr>
        <p:spPr>
          <a:xfrm>
            <a:off x="2661480" y="214200"/>
            <a:ext cx="5182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По представитель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стран  и количеству участников  в  Ханты-Мансийс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был поставлен  абсолютный рекорд за всю истори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проведения «Турнира наций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j0236395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858080" y="5857920"/>
            <a:ext cx="76212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глямова</cp:lastModifiedBy>
  <dcterms:modified xsi:type="dcterms:W3CDTF">2011-01-24T07:21:19Z</dcterms:modified>
  <cp:revision>103</cp:revision>
  <dc:subject/>
  <dc:title>Слайд 1</dc:title>
</cp:coreProperties>
</file>