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0.jpeg" ContentType="image/jpeg"/>
  <Override PartName="/ppt/media/image9.gif" ContentType="image/gif"/>
  <Override PartName="/ppt/media/image22.wmf" ContentType="image/x-wmf"/>
  <Override PartName="/ppt/media/image7.jpeg" ContentType="image/jpeg"/>
  <Override PartName="/ppt/media/image15.gif" ContentType="image/gif"/>
  <Override PartName="/ppt/media/image6.wmf" ContentType="image/x-wmf"/>
  <Override PartName="/ppt/media/image19.jpeg" ContentType="image/jpeg"/>
  <Override PartName="/ppt/media/image24.gif" ContentType="image/gif"/>
  <Override PartName="/ppt/media/image23.wmf" ContentType="image/x-wmf"/>
  <Override PartName="/ppt/media/image20.jpeg" ContentType="image/jpeg"/>
  <Override PartName="/ppt/media/image17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16.jpeg" ContentType="image/jpeg"/>
  <Override PartName="/ppt/media/image13.gif" ContentType="image/gif"/>
  <Override PartName="/ppt/media/image18.jpeg" ContentType="image/jpeg"/>
  <Override PartName="/ppt/media/image8.gif" ContentType="image/gif"/>
  <Override PartName="/ppt/media/image21.wmf" ContentType="image/x-wmf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63B-588F-457B-9070-29405CD8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C25-FCA8-4281-A63B-7D923EDE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771-42EE-4A71-8125-16323144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17C-70F5-4685-8078-C11D2DBA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94BE-596C-4DA1-AC91-D255D1D8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D9CD-752D-4715-8709-F824EF7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D106-93BA-4F2C-9FA6-C164718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2DB7-0ADA-4B9F-9B30-BE5A2C3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6517-F63D-4ACC-A141-281C92C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4AD-8565-4EB3-A477-153C2FF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9CFE-38E6-490B-8353-5C29488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A26-BE7E-4BA4-A990-B66E5E5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D03D-7636-45D3-92C8-74866FEC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20E-4541-4D6B-8E51-353D543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5E1D-D059-4050-BD23-F8F59E8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E40-9EC2-44F7-A6EE-F901C763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E244-6FCD-4415-A448-235B6A80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379-6838-4E2A-9E17-91E2D6C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F0D-8A07-4734-98EF-C87E5DBC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F23-E64F-4206-81B4-045C94A0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A84-204C-4653-90ED-EDACC65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493-E2E1-46BE-B701-1B3262D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DBC-167F-4E25-A7E5-8A0A041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8B-ADC7-432D-BABB-E898DE6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40D-99E5-4906-8A87-835D49DD82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852F-7E81-472A-A822-E7E861D2D3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6;&#1072;&#1085;&#1088;" TargetMode="External"/><Relationship Id="rId3" Type="http://schemas.openxmlformats.org/officeDocument/2006/relationships/hyperlink" Target="http://ru.wikipedia.org/wiki/&#1052;&#1091;&#1079;&#1099;&#1082;&#1072;" TargetMode="External"/><Relationship Id="rId4" Type="http://schemas.openxmlformats.org/officeDocument/2006/relationships/hyperlink" Target="http://ru.wikipedia.org/wiki/&#1041;&#1083;&#1102;&#1079;" TargetMode="External"/><Relationship Id="rId5" Type="http://schemas.openxmlformats.org/officeDocument/2006/relationships/hyperlink" Target="http://ru.wikipedia.org/wiki/&#1044;&#1078;&#1072;&#1079;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d9d69"/>
                </a:solidFill>
                <a:latin typeface="Garamond"/>
              </a:rPr>
              <a:t>Муниципаль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bd9d69"/>
                </a:solidFill>
                <a:latin typeface="Garamond"/>
              </a:rPr>
              <a:t> «Любинская средняя общеобразовательная школа №2»</a:t>
            </a:r>
            <a:endParaRPr b="1" lang="en-US" sz="2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1" i="1" lang="ru-RU" sz="3200" spc="-1" strike="noStrike">
                <a:solidFill>
                  <a:srgbClr val="cc66ff"/>
                </a:solidFill>
                <a:latin typeface="Garamond"/>
              </a:rPr>
              <a:t>Научно - исследовательская работа</a:t>
            </a:r>
            <a:r>
              <a:rPr b="1" i="1" lang="ru-RU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1" i="1" lang="ru-RU" sz="3200" spc="-1" strike="noStrike">
                <a:solidFill>
                  <a:srgbClr val="ff9999"/>
                </a:solidFill>
                <a:latin typeface="Garamond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Garamond"/>
              </a:rPr>
              <a:t>«Социальные и культурные изменения в образе жизни молодых женщин 4-х поколений на примере семьи Келле Натальи и Анастасии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</a:t>
            </a:r>
            <a:r>
              <a:rPr b="0" lang="ru-RU" sz="1600" spc="-1" strike="noStrike">
                <a:solidFill>
                  <a:srgbClr val="cc66ff"/>
                </a:solidFill>
                <a:latin typeface="Garamond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Келле Наталья Александровна</a:t>
            </a:r>
            <a:r>
              <a:rPr b="0" lang="en-US" sz="1600" spc="-1" strike="noStrike">
                <a:solidFill>
                  <a:srgbClr val="008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ученица 11 класса</a:t>
            </a:r>
            <a:r>
              <a:rPr b="0" lang="en-US" sz="1600" spc="-1" strike="noStrike">
                <a:solidFill>
                  <a:srgbClr val="008000"/>
                </a:solidFill>
                <a:latin typeface="Garamond"/>
              </a:rPr>
              <a:t>      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                                       </a:t>
            </a:r>
            <a:r>
              <a:rPr b="0" lang="en-US" sz="1600" spc="-1" strike="noStrike">
                <a:solidFill>
                  <a:srgbClr val="008000"/>
                </a:solidFill>
                <a:latin typeface="Garamond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Garamond"/>
              </a:rPr>
              <a:t>    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                                                               </a:t>
            </a:r>
            <a:r>
              <a:rPr b="0" lang="en-US" sz="1600" spc="-1" strike="noStrike">
                <a:solidFill>
                  <a:srgbClr val="008000"/>
                </a:solidFill>
                <a:latin typeface="Garamond"/>
              </a:rPr>
              <a:t>    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Garamond"/>
              </a:rPr>
              <a:t>Келле Анастасия Александровна ученица 6 класса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ru-RU" sz="1600" spc="-1" strike="noStrike">
                <a:solidFill>
                  <a:srgbClr val="cc66ff"/>
                </a:solidFill>
                <a:latin typeface="Garamond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9900"/>
                </a:solidFill>
                <a:latin typeface="Garamond"/>
              </a:rPr>
              <a:t>Келле Елена Анатольевна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aramond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ff9900"/>
                </a:solidFill>
                <a:latin typeface="Garamond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60 – 1970г</a:t>
            </a:r>
            <a:r>
              <a:rPr b="1" lang="en-US" sz="4000" spc="-1" strike="noStrike">
                <a:solidFill>
                  <a:srgbClr val="41ee38"/>
                </a:solidFill>
                <a:latin typeface="Garamond"/>
              </a:rPr>
              <a:t>.г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Одежд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Моды как таковой не было. Шили сами, или давались вещи на трудодни. Это были валенки, галоши, платья. Примерно 5трудодней в день равнялось шерстяному платку. В гардеробе было всего 2 юбки и 2 платья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Быт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Электричество в деревне появились к 60-м годам, до этого свет был от керосиновых ламп. В этом  же году появились часы «кукушка». Как и во многих семьях, в доме присутствовала гармонь. Был один телефон на деревню, который располагался на почте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Игрушки и иг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Игрушек почти не было. Отец выпиливал из дерева всякого вида колёс, которые маленькие дети катали по полу. Дети постарше, в возрасте 4-10 лет  играли в куклы. Позднее собирали фантики от конфет и цветные стёклышк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Играли в вышибалы, катались на лыжах, на санях, лепили снеговиков, летом купались в речке. Играли в «городки»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огда бабушка стала постарше, гуляла с подругами и парнями, пели песни под гармонь, щелкали семечки на лавочках. Ради забавы воровали соседские  овощи в огород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60 – 197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Школьное врем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гда бабушке исполнилось 6 лет, она пошла в школу. Училась хорошо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исали  деревянными ручками с железным стержнем чернилами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За хорошую учёбу в 4 классе дали бесплатную путёвку в пионерский лагерь. Ездила в  гости к родственникам в Калачинск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сле 4 класса отправили в интернат в Оконешниково, где она проучилась 4года. Родители увозили ребёнка за 15 км от дома и забирали только на выходные. Зимой увозили на лошадях в санях, через некоторое время на тракторе, в телеге. Жили в интернате, по 8 девочек в комнате. Дети сами себе топили печь и варили на ней. Но был там и воспитатель, который присматривал за детьми. С пятого класса стала ходить в кино. Один билет стоил 5 коп. Первые фильмы, просмотренные бабушкой – это «Павка Корчагин», «Молодая гвардия», «Большевики». Популярными артистами в то время были Марк Бернес, Людмила Зыкина, Лидия Русланова, Нани Бригвадзе, Иосиф Кобзон. В это время появились проигрыватели «Сириус», и молодёжь крутила пластинки с популярными песнями: «Чёрный кот», «Оранжевое лето», «Электричка». Танцевали танго, вальс, твист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1966 - 68 гг. училась в омском финансово–кредитном техникуме, получила распределение в р. п. Любинский, где и началась её трудовая деятельность. Вышла замуж - построили свой дом на ул. Комарова. Одними из первых покупок были: небольшой чёрно-белый телевизор «Рекорд» и холодильник «Самарканд»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238880" y="8380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Мама  </a:t>
            </a:r>
            <a:br>
              <a:rPr sz="3200"/>
            </a:br>
            <a:r>
              <a:rPr b="1" lang="en-US" sz="3200" spc="-1" strike="noStrike">
                <a:solidFill>
                  <a:srgbClr val="fc2a48"/>
                </a:solidFill>
                <a:latin typeface="Garamond"/>
              </a:rPr>
              <a:t>Келле (Автаева) Елена Анатольевна</a:t>
            </a:r>
            <a:endParaRPr b="1" lang="en-US" sz="32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Рождение и семья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Родилась 28 октября 1970 года в посёлке Любинский. Мать Автаева Зинаида Степановна, отец Автаев Анатолий Иванович и младшая сестра Юлия. Воспитывалась в семье служащих: мать работала бухгалтером, отец – инженером на предприятии АТП-30. Семья была со средним достатком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694800">
            <a:off x="5562360" y="1752120"/>
            <a:ext cx="264780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213336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68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68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80 – 199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Описание до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начала молодые родители жили по улице Советская вместе с матерью отца. Через 2 года родители получили двухкомнатную квартиру по улице Победы. В 1977 г. построили и стали жить в новом доме, который и сейчас расположен по улице Комарова, 21. В этом доме мама прожила около 30 лет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Дом трёхкомнатный: 2 спальни, зал; кухня, веранда. Возле дома находится разные постройки: 2 сарая, дровник, 2 палисадника, гараж, баня  и огород 3 сотки. Модным в то время было белить стены цветным колером, потолки подшивать аргалитом и красить белой краской; пол деревянный крашенный. Дом отапливался дровами и углём. За водой ездили на колонку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огороде  сажали разные овощи: морковь, свёклу, огурцы, помидоры, тыкву, кабачки. В палисаднике росла малина, смородина, юрга, яблонька. Картофель сажали на даче (10 соток)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мели небольшое домашнее хозяйство: корову с телёнком; 2 свиней, бройлеров штук 30 и 20 курей. Домашнее хозяйство имелось у всех, и оно существенно помогало, ведь в магазине такого изобилия не было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о всё равно продукты также покупали и в магазинах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80 – 199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дежду приобретали в магазине: шубы, сапоги, шапки, костюмы. В 1985 г. стала носить штаны «бананы», чулки-сапоги на платформе, в обуви мода была на квадратный нос, носили мятые плащи и  делали причёски «брек» (ёжик). В моде были джинсы, драповые сарафаны, кожаные куртки, дублёнки, норковые шапки, длинные шарфы. Но вещей было не много. Имелось немного косметики, которой красилась на школьные вечера. На занятиях косметика и украшения были запрещены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Быт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80-х годах появился новый цветной телевизор «Кварц» с 9 каналами, автомобиль «Москвич», персидский ковёр. Мебель покупалась в магазине (стенка, диван, кровать, стол, стулья, кресла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Игрушки и иг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детстве игрушек было много. Резиновые и пластмассовые куклы, мягкие игрушки, сумочки, детские часики и посудка. В 1,5 года пошла в ясли и детский сад, была активная, принимала участие во всех утренника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ак и все дети играла прятки, куклы, казаки-разбойники, каталась на лыжах и велосипед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48720" y="2666880"/>
            <a:ext cx="1066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80 – 199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cc66ff"/>
                </a:solidFill>
                <a:latin typeface="Garamond"/>
              </a:rPr>
              <a:t>Школьное время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1978 году пошла в первый класс (8лет) в Любинскую  школу №2, где проучилась все 10 лет. Первой учительницей была Брезе Т. В. Мама состояла в октябрятской, пионерской организациях. Была командиром класса. Вместе с одноклассниками состояла в тимуровской команде, которая оказывала помощь пожилым людям: убирали снег, ходили за водой и в магазин; собирали макулатуру, металлолом; весной - берёзовые почки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о школьным туристическим путёвкам была в Прибалтике, Москве, Новгороде, а с бабушкой ездила в Ленинград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Любила ходить на кружок вязания, в школьный хор. В восьмом классе вступила в комсомол и была комсоргом класса. Проводили очень много школьных мероприятий: «Зарница», «А ну-ка, девушки», смотр песни и строя. Носила обязательную коричневую форму с белым фартуком, которая ей нравилась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кинотеатре «Россия» смотрела: индийские фильмы, «Москва слезам не верит», «Выход», «Акселератка». Позже  посещала дискотеки в школе и ДК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лушала Моден Токин, Сабрину, Сандру, группу Абба, Николая Муромова,  Игоря Николаева. Популярными артистами были А. Пугачёва, В. Леонтьев, Ю. Шатунов. В 16 лет подарили портативный магнитофон «Электроника». И это было событием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Героями были Павел Корчагин, Алексей. Маресьев, генерал Карбышев. Примером была жизнь В. И. Ленина. Любимыми произведениями были «Мать» Максима Горького и «Война и мир» Льва Николаевича Толстого. Лучшими подругами были: Татьяна Ганнерт, Елена Беликова. Собирали открытки с артистами, вели переписку с пионерами других стран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осле школы окончила Омский педагогический университет и работает в родной школе педагогом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438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98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98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98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98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2a48"/>
                </a:solidFill>
                <a:latin typeface="Garamond"/>
              </a:rPr>
              <a:t>Келле Наталья и Келле Анастасия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434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cc66ff"/>
                </a:solidFill>
                <a:latin typeface="Garamond"/>
              </a:rPr>
              <a:t>Рождение и семь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Родилась 13 апреля 1993 года в посёлке Любинский. Мать Келле  Елена Анатольевна, отец Келле Александр Владимирович, младшая сестра Анастасия 04 апреля 1998г.р.. Мать работает учителем, отец – водителем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рестили Наталью в 5 лет в городе Омске. Анастасию – в 10 лет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21124200">
            <a:off x="990360" y="1752480"/>
            <a:ext cx="28540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391520" y="5181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2000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ff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Описание до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До 14 лет Наталья, до 9 лет Анастасия  проживали в доме, где росла наша мама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А с 14 лет Наталья, с 9 - Анастасия и по сегодняшний день проживаем по ул. Новая 6а кв. 9 с мамой и бабушкой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Бабушка окружает нас вниманием, теплотой и заботой, оказывает посильную помощь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Квартира благоустроенная. Она 4-х комнатная: 3 спальни, зал, кухня, прихожая, на улице, возле дома имеется гараж. В доме стены оклеены обоями, в некоторых комнатах стеновые панели; потолок оклеен плиткой, в некоторых комнатах – подвесной потолок; пол деревянный крашенный. В доме есть вода и центральное отопление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ff"/>
                </a:solidFill>
                <a:latin typeface="Garamond"/>
              </a:rPr>
              <a:t>      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Продукты питания покупаем на рынке и в магазинах. Дефицита на товар нет. На праздники готовим шикарные столы с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всякими вкусностями. В духовке запекаем жаркое, готовим салаты, холодные закуски, покупаем торты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Одежда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Одежду всегда покупаем в магазинах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Мы любим носить модные вещи. Модным в одежде и причёсках в наше время считается всё подряд от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валенок до высоких сапог на шпильках, от простых джинсов до элегантного чёрного платья, от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минимально коротких волос до максимум длинных и густых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Также модным считаются вещи, которые были популярны 10-20 лет назад. Это кожаные штаны и куртки,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сапоги «чулки», джинсы «варёнки», штаны «бананы», яркие пиджаки, лосины, балетки, называвшиеся мыльницами, туфли на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платформе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У меня в гардеробе 7 платьев, 5 брюк, трое джинсов, штук десять кофт. Также имеется по несколько футболок, свитеров,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лосин, пиджаков; 3 пары туфель, 4 пары сапог, кроссовки, кеды и многое другое. Пользуюсь косметикой, иногда ношу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украшения, крашу волосы. Мне нравится менять свой образ в одежде, выражать себя через моду. У Анастасии тоже много вещей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781680" y="548640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5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5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5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0" fill="hold"/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0" fill="hold"/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5000" fill="hold"/>
                                        <p:tgtEl>
                                          <p:spTgt spid="1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000" fill="hold"/>
                                        <p:tgtEl>
                                          <p:spTgt spid="1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5000" fill="hold"/>
                                        <p:tgtEl>
                                          <p:spTgt spid="1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000" fill="hold"/>
                                        <p:tgtEl>
                                          <p:spTgt spid="1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2000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Быт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Цветной телевизор (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G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) с десятью каналами, музыкальный кинотеатр (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G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проигрыватель (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G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), компьютер, стиральная машина автомат (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desit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), холодильник (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desit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). Имеется небольшая библиотека. В семье стационарный телефон и 4 мобильных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Игрушки и иг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детстве было много разных игрушек. Родители покупали погремушки, пупсов, машинки; родственники дарили кукол – барби,  мягкие игрушки, детские наборы посудки, приспособления врача, наборы детских украшений. На Дни рождения, Новый год, 8 марта дарили заветные подарки: велосипед, коньки, ролики, лыжи, телефон, компьютер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одители возили в цирк, зоопарк, на карусели – в Омск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благодарность за это я помогала родителям по дому, в огороде, ездила вместе с ними на посадку картофеля, на дачу, в лес за ягодами и грибами (но на даче, скорее всего, только мешалась)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 3 года пошли в детский сад «Малыш», находящийся  на улице Октябрьская. Мы общительные и весёлые. У нас много друзей. Почти все дети улицы собирались вместе и играли в разные игры: в куклы, прятки, мяч, в «докторов», в карты, катались на велосипедах, сидели в песочнице, устраивали всякие представления для взрослых. Бабушки и дедушки этой улицы смотрели на это, а в конце представления давали нам сладости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20317200">
            <a:off x="1143000" y="5409720"/>
            <a:ext cx="905040" cy="87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 rot="1018200">
            <a:off x="7343280" y="5268600"/>
            <a:ext cx="906480" cy="90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121932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2000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Школьное врем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2000 году пошла в первый класс во вторую школу. Первым учителем была Черникова Светлана Владимировна. Училась хорошо. С первого класса ещё  ходила в музыкальную школу. Там проучилась 3 года, затем, не закончив, бросила её. В музыкальной школе обучалась хореографии, сольфеджио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Чем старше я становлюсь, тем предметов появляется больше, и учиться приходилось всё сложнее, но, всё же, я стараюсь, и каждый учебный год заканчиваю хорошо.    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2007 году, в 8 классе классным руководителем стала Моткова Г.А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2005 году пошла в первый класс моя сестра Анастасия. Первым учителем была наша мама КеллеЕ.А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 первого класса занималась в художественной школе, очень хорошо рисует. Увлекается музыкой, танцами, спортом. В школе учится отлично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 2008 году родители развелись, мы стали жить вчетвером.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раздники стараемся проводить вместе: я, мама, сестра, бабушка, тётя и двоюродный брат. Отмечаем Новый год, Дни рождения, 8 марта, православные праздники. Но также я люблю отмечать свой День рождение, новый год и другие праздники в кругу своих друзей и одноклассников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олодёжь, а также и я, в основном, слушают популярную, клубную музыку,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RNB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lang="ru-RU" sz="1400" spc="-1" strike="noStrike" u="sng">
                <a:solidFill>
                  <a:srgbClr val="ff9900"/>
                </a:solidFill>
                <a:uFillTx/>
                <a:latin typeface="Garamond"/>
                <a:hlinkClick r:id="rId2"/>
              </a:rPr>
              <a:t>жанр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популярной </a:t>
            </a:r>
            <a:r>
              <a:rPr b="0" lang="ru-RU" sz="1400" spc="-1" strike="noStrike" u="sng">
                <a:solidFill>
                  <a:srgbClr val="ff9900"/>
                </a:solidFill>
                <a:uFillTx/>
                <a:latin typeface="Garamond"/>
                <a:hlinkClick r:id="rId3"/>
              </a:rPr>
              <a:t>музыки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в стиле </a:t>
            </a:r>
            <a:r>
              <a:rPr b="0" lang="ru-RU" sz="1400" spc="-1" strike="noStrike" u="sng">
                <a:solidFill>
                  <a:srgbClr val="ff9900"/>
                </a:solidFill>
                <a:uFillTx/>
                <a:latin typeface="Garamond"/>
                <a:hlinkClick r:id="rId4"/>
              </a:rPr>
              <a:t>блюза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0" lang="ru-RU" sz="1400" spc="-1" strike="noStrike" u="sng">
                <a:solidFill>
                  <a:srgbClr val="ff9900"/>
                </a:solidFill>
                <a:uFillTx/>
                <a:latin typeface="Garamond"/>
                <a:hlinkClick r:id="rId5"/>
              </a:rPr>
              <a:t>джаза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.), тектоник (танец в стиле хип-хопа и техно),  реп (речитатив под музыку с тяжёлым битом) Люблю развлекательные мероприятия: дискотеки, весёлые компании. Любимым произведением является роман Льва Николаевича Толстого «Анна Каренина». Нравятся комедии и фантастика. Люблю сидеть за интернетом, ведь там много интересного, развлекательного и научного. Технические новинки занимают много времени, общение происходит в виртуальном мире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йчас мне 17 лет, и я учусь в 11 классе. Окончив школу, хочу поступить на экономиста, пойти по стопам бабушки. Выйти замуж после окончания института и родить 2 здоровых и смышленых малышей. Анастасии -12лет, и она мечтает стать адвокатом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ы довольны, что живем в р. п. Любинский. Рядом находится город Омск, где мы будем учиться профессии. Здесь хорошо решается вопрос транспорта: автобусы, газели, электричка, такси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8229600" y="228600"/>
            <a:ext cx="7081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9d69"/>
                </a:solidFill>
                <a:latin typeface="Garamond"/>
              </a:rPr>
              <a:t>Цели и задачи работы:        Методы исследования:</a:t>
            </a:r>
            <a:br>
              <a:rPr sz="2800"/>
            </a:br>
            <a:endParaRPr b="1" lang="en-US" sz="28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 Проследить  социальные и культурные изменения в образе жизни молодых женщин на примере семьи Келле Натальи и Анаста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. Провести исследования по теме            научной работы. Рассматриваемый период 1930-е – 2000-е год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. Провести анализ собранного фактического материал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4. Сделать фотографии, оформить работ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Вместе с руководителем работы наметили план научной работы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Собрали фактический материал по этой теме, провели беседы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абушкой и матерью, записали их воспоминания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Обработали материал в 5 глав, сделали выводы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4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Были сделаны  фотографии, оформлена работа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457200"/>
          <a:ext cx="8153280" cy="60195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ee38"/>
                </a:solidFill>
                <a:latin typeface="Garamond"/>
              </a:rPr>
              <a:t>Выводы</a:t>
            </a: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838080"/>
          <a:ext cx="8229600" cy="5715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артыненко София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30-1950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ee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аева Зинаид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1960-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1980-1990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Наталья и Анастасия( 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e1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одились в сельской местности, в крестьянской многодетной сем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одились в р.п. Любинский в семье служащих из двух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об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bb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емельный надел составлял 10 гект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гектар земли и 1 кор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ча 10 с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грядки под окном двухэтажного д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или в частных деревянных домах с печным отоплением и удобствами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лагоустро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-х комнатная квар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е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ed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бротно сработанная деревянная мебель из нескольких предметов: столы, лавки ,кровати, сундуки (керосиновые ламп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упила первой мебель и товары длительного пользования (телевизор, холодильник)(керосиновые ламп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льзуется большим набором бытовых вещей (стиральная машина-автомат, компьютер и д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меют в доме много электрических приб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f25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ища состояла из продуктов домашнего хозяйства, носила здоровый характер, но на столе были в малом и редком количестве сла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итаются исключительно продуктами с базара и магазина, в рационе много полуфабрикатов, мучного сладкого, энергетических напитков, что не всегда полезно для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ee38"/>
                </a:solidFill>
                <a:latin typeface="Garamond"/>
              </a:rPr>
              <a:t>Выводы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762120"/>
          <a:ext cx="8229600" cy="6072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артыненко София (1930-195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ee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аева Зинаида (1960-197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Ел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1980-199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Наталья и Анастасия (200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e1f5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дежда и м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7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з натуральных и шерсти домашних живо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купала уже одежду в магазине, но и шила вещи с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лностью покупают одежду в магазинах, она во многом из синтетических материалов, красочного вида и в большом количестве. Старшее поколение не знало слова «мода», не могло подумать о брюках. Младшее-следит за модой, а Наталья и Анастасия меняют только брюки и обу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грушки и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лышала про игрушки, но не видела их. Проводили время летом на речке, зимой-на гор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грала в деревянные колесики из-под топора, собирала разноцветные стеклышки и фантики от конфет.Летом-речка, зимой-г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тские игрушки в разумных размерах, собирала открытки артистов. Много игр связано со школой: «Зарница», А ну-ка, девушки», тимуровский отря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 детства были завалены игрушками, им дарили дорогие подарки и до сих пор полный шкаф мягкой игрушки. В свободное время проводят в кругу игрушек, телефона, компью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52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лучила домашнее нача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чилась в интернате, жила в общежитии, окончила среднюю школу и финансово-кредитный техникум. В школу носила обязательную форму, была запрещена косме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сещала садик, получила высшее образование. В школу носила обязательную форму, была запрещена косме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сещали садик. Стремятся получить высшее образование. На занятия в школу ходят в свободной форме, пользуются косметикой, носят укра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Выводы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371600"/>
          <a:ext cx="8229600" cy="4386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артыненко София (1930-195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ee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аева Зинаида (1960-197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Ел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1980-199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елле Наталья и Анастасия (2000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e1f5"/>
                    </a:solidFill>
                  </a:tcPr>
                </a:tc>
              </a:tr>
              <a:tr h="21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9f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 знала по большему счету художественных книг, в деревню пришло радио, не было концертов арт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 появлением телевизора узнала много интересного, получила хорошее образование, что позволило расширить границ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ультурн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 квартире хорошая библиотека, цветное телевидение с 9 каналами позволяет при желании и времени узнать очень много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лена в школьные годы посетила ряд городов страны, где познакомилась со многими культурными ценностями. У Елены и Анастасии имеются музыкальные и литературные увлечения. Наталья училась 3г. В музыкальной шко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ровень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4b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сю жизнь прожила в деревне, работала просто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руженицей в колхозе, имела много горестей и несчаст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щественно повысила свой уровень жизни, получала стабильно заработную плату и довольна своей жизн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мела счастливые детство и юность, довольна своей работой в школе и окружением, но приходится решать многие жизненны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 нас пока лучшими детство и школьные годы, мы довольны, что живем в нашем поселке и надеемся на хорошее будущ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ee38"/>
                </a:solidFill>
                <a:latin typeface="Garamond"/>
              </a:rPr>
              <a:t>Вывод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 Семья.                                                              6. Одежда и мод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Собственность.                                               7. Игрушки и игр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Дом.                                                                 8.  Образовани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. Мебель.                                                           9. Культур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. Питание                                                        10. Уровень жизн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9240" y="1596960"/>
          <a:ext cx="3902040" cy="21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596960"/>
                    <a:ext cx="39020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72000" y="1219320"/>
          <a:ext cx="43434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219320"/>
                    <a:ext cx="4343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04920" y="1219320"/>
          <a:ext cx="411480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219320"/>
                    <a:ext cx="4114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98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98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98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79640" y="1600200"/>
            <a:ext cx="2851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Содержание :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лава. Мартыненко Софья 1919 года рождения.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ссматриваемый период 1930-е – 1950-е год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I.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лава. Автаева Зинаида 1949 года рожд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ссматриваемый период 1960-е – 1970-е год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II.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лава. Келле Елена 1970 года рожд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ссматриваемый период 1980-е – 1990-е год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V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Глава Келле Наталья 1993 года рожд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ссматриваемый период 2000-е год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лава. Выводы по школьной научной рабо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213336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Garamond"/>
              </a:rPr>
              <a:t>Прабабушка</a:t>
            </a:r>
            <a:r>
              <a:rPr b="1" lang="en-US" sz="3600" spc="-1" strike="noStrike">
                <a:solidFill>
                  <a:srgbClr val="eb3b4c"/>
                </a:solidFill>
                <a:latin typeface="Garamond"/>
              </a:rPr>
              <a:t> Мартыненко (Круткина)          Софья Наумовна 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8128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Рождение и семь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одилась 24 сентября 1919 года в Оконешниковском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айоне д. Миргородка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Мать Круткина Александра Андреевна, отец Круткин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ум Иванович. В семье было пятеро детей: Иван,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Алексей, Анна, Софья и Анастасия. Семья была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зажиточной, работало несколько батраков. Имел свой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ельхозинвентарь: поля, леса более 10 </a:t>
            </a:r>
            <a:r>
              <a:rPr b="0" i="1" lang="ru-RU" sz="1600" spc="-1" strike="noStrike">
                <a:solidFill>
                  <a:srgbClr val="000000"/>
                </a:solidFill>
                <a:latin typeface="Garamond"/>
              </a:rPr>
              <a:t>г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Девочки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гоняли гусей на луг, в доме делали уборку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рестили в год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21267000">
            <a:off x="380880" y="1828440"/>
            <a:ext cx="276876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543800" y="4572000"/>
            <a:ext cx="1143000" cy="19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ee38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41ee38"/>
                </a:solidFill>
                <a:latin typeface="Garamond"/>
              </a:rPr>
              <a:t>Рассматриваемый период 1930 -1950г.г.</a:t>
            </a:r>
            <a:endParaRPr b="1" lang="en-US" sz="32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Описание до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ом большой красивый, рубленный, больше 100 кв. м; ставни расписные. В доме было 6 комнат: горница, комната для родителей, для мальчиков, для девочек, для гостей, кухня. Стены и потолок были побелены извёсткой, пол деревянный, некрашеный. Мебель в доме самодельная деревянная: кровати, полки, комоды, шкафы. Матрасы и подушки набивали гусиным пером, одеяла были пуховые, а также байковые одеяла покупали на базар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Возле дома были баня, сараи, скотный двор, амбары. Держали 15 коров, 6 лошадей, 50 овец, птицы - до 100 шт. Посуда в доме была деревянная (ложки, ковши) и глиняная (чашки). Имелся в доме самовар. В доме было 2-3 печк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Ограничений в еде не было. Выращивали овощи на своих землях (картофель, фасоль, горох, морковь, свёклу, мак, тыкву). Скот давал мясо и молок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здили на базар и обменивали продукты своего хозяйства на вещи. Обменивали на сахар (куски). Отец привозил с базара арбузы, рыбу, ходил на охоту и рыбалку в свои угодья. Зимой охотился на зайцев, диких кабанов, коз; осенью и весной – на птиц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00400" y="5181480"/>
            <a:ext cx="2057400" cy="124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30 – 195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Одежд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Шили себе сами. Катали из шерсти овец валенки; вязали варежки, платки. Ткань покупали на базаре и шили из них платья, штаны. Стоимость одного метр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хлопка составляло 80 копеек, а льна – 120 копеек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Игрушки и игр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Игрушек не было. Играли в догонялки, прятки, летом ходили на речку, зимой   катались на горках, лепили снеговиков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    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Школьное врем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абабушка получила начальное образование, 4 класса, то есть учились 3-4 зимы, с 1 ноября по 1 мая. Родители нанимали учителя, который приезжал в дом Круткиных и учил детей: чтению, грамматике и арифметике. В то время тетрадей не было, и приходились писать на газетах, там, где оставалось место, и гусиным пером. Учитель привозил с собой учебники, у детей их не был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Свадебное приданое невест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вадебным приданым невесты были  постельное бельё, подушки, одеяла, скатерти, кровать, стулья, стол. В 19 лет прабабушка вышла замуж и родила 5 дете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Garamond"/>
              </a:rPr>
              <a:t>Бабушка</a:t>
            </a:r>
            <a:br>
              <a:rPr sz="2800"/>
            </a:br>
            <a:r>
              <a:rPr b="1" lang="en-US" sz="2800" spc="-1" strike="noStrike">
                <a:solidFill>
                  <a:srgbClr val="fc2a48"/>
                </a:solidFill>
                <a:latin typeface="Garamond"/>
              </a:rPr>
              <a:t>Автаева (Мартыненко) Зинаида Степановна</a:t>
            </a:r>
            <a:endParaRPr b="1" lang="en-US" sz="28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57600" y="14475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Рождение и семь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Родилась 5 августа 1949года в Оконешниковском районе д. Миргородка. Мать Мартыненко София Наумовна, отец Мартыненко Степан Силантьевич. В семье было 5 детей: Людмила, Николай, Зинаида, Владимир и Александр. Семья была небогатая. Отец был на фронте, и за это его наградили медалями. Мать работала на базах и в поле. Дети помогали родителям по дому, старшие присматривали за младшими, топили печь, уводили скот на пастбища, пололи в огороде. Родители уходили на работу летом в 6, возвращались в 10, зимой - с 8 и до 18 часов. Мать выходила на работу уже после второго месяца родов, приходила несколько раз в день домой, чтобы покормить младенца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Крестили  в год. Церкви в деревне не имелось, поэтому батюшка приезжал из района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rot="21387600">
            <a:off x="609480" y="1752480"/>
            <a:ext cx="28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 rot="16200000">
            <a:off x="7429320" y="-190440"/>
            <a:ext cx="914400" cy="1752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60 – 197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Описание до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Жили в небольшом двухкомнатном деревянном доме (40 кв. м). Он состоял из большой комнаты для детей, горницы - комната для гостей и кухни. Стены и потолок были побелены извёсткой, пол деревянный. В комнате для детей находилось несколько кроватей, самодельные шкафы и комоды, стулья и стол; в горнице стояли стол, 2 лавки, кровать, на кухне - стол, табуретки, лавки, а также на кухне находилась печь, в которой можно было варить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От печки отходили духовки (прямоугольный предмет, приварен внутри печки) в детскую комнату и в горницу. В то время также существовали буржуйки (печи, которые можно переносить), также их ставили в сараях, для того чтобы не замёрз скот в суровые холод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сли дети болели, то забирались на печь и грелись там, укрываяс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тулупами. Когда приходило много гостей, и места не хватало, то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ходились спать на полу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ровати в то время были железные, а матрасы набивали соломой, на которые клали перины, набивали подушки пером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ee38"/>
                </a:solidFill>
                <a:latin typeface="Garamond"/>
              </a:rPr>
              <a:t>Рассматриваемый период 1960 – 1970г.г.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cc66ff"/>
                </a:solidFill>
                <a:latin typeface="Garamond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ды хватало. Держали крупнорогатый скот: двух коров, они  давали молоко, сметану, сырники, потомство; 2 телят; 2 быков, которых держали на мясо примерно 2 года; лошадей 3 шт. – на них ездили и пахали; 4 свиней и 50 куре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ыл свой огород на 1 га. Там выращивались всевозможные овощи: картофель, свёкла, морковь, мак, репа, бруква - что- то вроде репы, тыкв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лес ходили за ягодами: костянка, земляника. Из них делали кисель и сушили на зиму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праздники готовили самодельную колбасу, пельмени, тушили утку с рисом, пекли пироги и делали маковые рулеты. Пища была здоровой, и мало кто болел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о сладостей было мало и редко (конфеты, сахар, фрукты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Пасху кипятили яйца в луковой кожуре и берёзовом венике, для придания ярких цветов.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ерно давали на трудодни, затем его везли на мельницу, там его мололи, а потом женщины в своих семьях пекли хлеб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19:19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