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8DB9-87C2-4C96-8137-811921B4F1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2816-BFE2-4C87-BAEE-EFE3D19088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6707-9195-464E-8AB5-D49C6327B3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FEF5-3C40-4E36-BF70-5506FF409E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93F9-6D36-44D8-B0A5-20F4619A78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2440-04C2-49CB-BF1D-E3ACA2728F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995-008E-40B2-AE91-2A7B2BA471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0CA1-A934-411D-9EAE-7124FBA643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E78F-6C05-4B24-A257-5FD5F41A24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77D-DFD0-4178-A619-57326D84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A1B-3A2A-4E3C-9654-5517951C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08C-0A1E-4E9A-84C4-6723D280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FCD-C809-4B01-AC20-E3A8BA10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027-CFEE-48D3-8FE6-6B0536C6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25D-5705-45FB-9973-054FB16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3355-6C6C-4F28-B04E-25DB0E7B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09D3-3580-4524-BC4D-595FE7C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D509-2FD7-4C1F-A1DA-DB18855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C5F9-C216-46DF-B7A1-C42B17A9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E68E-4501-49F2-8CF8-8E2B107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69C-DC02-401C-9685-2B58BA7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2D23-619B-4A74-B287-46E9B3D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1896-0C90-455D-A185-409093A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1205-7C63-4B2F-84D5-6E7BAE6C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6856-D499-4BA2-8B54-2C76B1B8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3AFC-7E50-4901-9BE3-BEFD167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09F-D1B0-440C-BF75-4D3D3061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979-5877-4592-B84A-E301D5E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AC7-A7FD-4702-8EBF-52B00951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278-2C67-4A6E-944C-18A47C3F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969-664D-4549-B996-EDFEADD0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BEC-64DA-4A11-A061-554ACA2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B7B-0715-48C9-9F95-C1A63ADE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E654-C309-4DC9-B7F3-7AA86B2C5B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450-A470-493F-BBA8-3C8B10A9A6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200"/>
                </a:solidFill>
                <a:latin typeface="Arial Narrow"/>
              </a:rPr>
              <a:t>Идеи  и  прогнозы Д. И. Менделеева  в области</a:t>
            </a:r>
            <a:r>
              <a:rPr b="1" lang="en-US" sz="4400" spc="-1" strike="noStrike">
                <a:solidFill>
                  <a:srgbClr val="f8f2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8f200"/>
                </a:solidFill>
                <a:latin typeface="Arial Narrow"/>
              </a:rPr>
              <a:t>улучшения плодородия почв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7" name="Picture 4" descr="C:\Documents and Settings\Администратор\Рабочий стол\менделей\мама\Udobreniya.jpg"/>
          <p:cNvPicPr/>
          <p:nvPr/>
        </p:nvPicPr>
        <p:blipFill>
          <a:blip r:embed="rId1"/>
          <a:stretch/>
        </p:blipFill>
        <p:spPr>
          <a:xfrm>
            <a:off x="0" y="2325600"/>
            <a:ext cx="9144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57120" y="214200"/>
            <a:ext cx="8572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Дмитрий Иванович Менделее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99" name="Picture 5" descr="C:\Documents and Settings\Администратор\Мои документы\дименд.jpg"/>
          <p:cNvPicPr/>
          <p:nvPr/>
        </p:nvPicPr>
        <p:blipFill>
          <a:blip r:embed="rId1"/>
          <a:stretch/>
        </p:blipFill>
        <p:spPr>
          <a:xfrm>
            <a:off x="571680" y="1428840"/>
            <a:ext cx="4071600" cy="5133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5365800" y="2852640"/>
            <a:ext cx="32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1834 – 190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14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14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" nodeType="afterEffect" fill="hold" presetClass="emph" presetID="18">
                                  <p:stCondLst>
                                    <p:cond delay="56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3286080"/>
            <a:ext cx="9144000" cy="119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71640" y="33336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908000" y="54936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-142920" y="142920"/>
            <a:ext cx="91440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350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50920" y="623736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335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071720" y="15001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c000"/>
                </a:solidFill>
                <a:latin typeface="Arial"/>
              </a:rPr>
              <a:t>                                         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-541440" y="5516640"/>
            <a:ext cx="9429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285840" y="0"/>
            <a:ext cx="8858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000"/>
                </a:solidFill>
                <a:uFillTx/>
                <a:latin typeface="Times New Roman"/>
              </a:rPr>
              <a:t>Цель моей работы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Исследовать вклад Д.И.Менделеева в решение проблемы улучшения плодородия почв и доказать его актуальность на сегодняшний  д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285840" y="0"/>
            <a:ext cx="88581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000"/>
                </a:solidFill>
                <a:uFillTx/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1.Выявить предпосылки, побудившие Д.И.Менделеева обратиться к проблеме улучш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лодородия почв в 60-х -70-х годах 19 века;             2.Изучить историю отечественных заводов по                                                           производству минеральных удобре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3.Определить значение работ Д.И.Менделеева в области производства минеральных удобрений в России и в Ставропольском кра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4.Провести собственные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481500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000"/>
                </a:solidFill>
                <a:uFillTx/>
                <a:latin typeface="Times New Roman"/>
              </a:rPr>
              <a:t>Тема моей работы актуаль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потому, что развитие современного  общества невозможно без создания агропромышленных комплек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Проблемы сельского хозяйства в России в 60-70 годы 19 ве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71640" y="2349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Направл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268360" y="306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859280" y="3141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443640" y="3068640"/>
            <a:ext cx="115092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0" y="422100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Определение роли </a:t>
            </a:r>
            <a:r>
              <a:rPr b="0" lang="ru-RU" sz="3000" spc="-1" strike="noStrike">
                <a:solidFill>
                  <a:srgbClr val="ffc000"/>
                </a:solidFill>
                <a:latin typeface="Times New Roman"/>
              </a:rPr>
              <a:t>химии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в повышении урожай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059280" y="4022640"/>
            <a:ext cx="3600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Times New Roman"/>
              </a:rPr>
              <a:t>Разработка научных основ земледелия, поиски рациональных путей ведения сельского хозяйства в целом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912000" y="4076640"/>
            <a:ext cx="2232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Times New Roman"/>
              </a:rPr>
              <a:t>Изучение экономики сельского хозяйств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6"/>
          <p:cNvSpPr/>
          <p:nvPr/>
        </p:nvSpPr>
        <p:spPr>
          <a:xfrm>
            <a:off x="0" y="714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Вклад Д.И.Менделеева в улучшение плодородия почв в России в 60 – 70-х годах 19 век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C:\Documents and Settings\Администратор\Рабочий стол\IMG_0055.jpg"/>
          <p:cNvPicPr/>
          <p:nvPr/>
        </p:nvPicPr>
        <p:blipFill>
          <a:blip r:embed="rId2"/>
          <a:stretch/>
        </p:blipFill>
        <p:spPr>
          <a:xfrm>
            <a:off x="395280" y="1916280"/>
            <a:ext cx="6095880" cy="4308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6516720" y="1700280"/>
            <a:ext cx="262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Неудобренная  земля дала в Боблове в расчете на десятину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10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рублей чистого доходу, а земля, удобренная одним только навозом-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20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руб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1979640" y="6165720"/>
            <a:ext cx="30002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58ffde"/>
                </a:solidFill>
                <a:latin typeface="Arial"/>
              </a:rPr>
              <a:t>Бобло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xit" presetID="21" presetSubtype="1">
                                  <p:stCondLst>
                                    <p:cond delay="10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45">
                                  <p:stCondLst>
                                    <p:cond delay="9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21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1" dur="9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9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137" dur="9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-285840"/>
            <a:ext cx="8458200" cy="32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Центры по производству минеральных удобрений.</a:t>
            </a:r>
            <a:br>
              <a:rPr sz="5400"/>
            </a:b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Picture 2" descr="C:\Documents and Settings\Администратор\Рабочий стол\менделей\мама\p0109.gif"/>
          <p:cNvPicPr/>
          <p:nvPr/>
        </p:nvPicPr>
        <p:blipFill>
          <a:blip r:embed="rId1"/>
          <a:stretch/>
        </p:blipFill>
        <p:spPr>
          <a:xfrm>
            <a:off x="428760" y="1989000"/>
            <a:ext cx="8715240" cy="4714920"/>
          </a:xfrm>
          <a:prstGeom prst="rect">
            <a:avLst/>
          </a:prstGeom>
          <a:ln w="0">
            <a:noFill/>
          </a:ln>
        </p:spPr>
      </p:pic>
      <p:sp>
        <p:nvSpPr>
          <p:cNvPr id="128" name="Line 6"/>
          <p:cNvSpPr/>
          <p:nvPr/>
        </p:nvSpPr>
        <p:spPr>
          <a:xfrm flipH="1">
            <a:off x="4427640" y="3500280"/>
            <a:ext cx="288720" cy="6494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6012000" y="4149720"/>
            <a:ext cx="72720" cy="50328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492360" y="3789360"/>
            <a:ext cx="432000" cy="3603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3276720" y="4941720"/>
            <a:ext cx="358560" cy="432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092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</a:rPr>
              <a:t>Производство минеральных удобрений на Ставрополье.</a:t>
            </a:r>
            <a:r>
              <a:rPr b="0" lang="ru-RU" sz="4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C:\Documents and Settings\Администратор\Рабочий стол\менделей\мама\3.jpg"/>
          <p:cNvPicPr/>
          <p:nvPr/>
        </p:nvPicPr>
        <p:blipFill>
          <a:blip r:embed="rId2"/>
          <a:stretch/>
        </p:blipFill>
        <p:spPr>
          <a:xfrm>
            <a:off x="179280" y="1628640"/>
            <a:ext cx="4572000" cy="5429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5651640" y="2276640"/>
            <a:ext cx="327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8ffde"/>
                </a:solidFill>
                <a:latin typeface="Arial"/>
              </a:rPr>
              <a:t>2 августа 1962 г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79280" y="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</a:rPr>
              <a:t>Минерально-химическая компа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C:\Documents and Settings\Администратор\Рабочий стол\менделей\мама\evrohim.jpg"/>
          <p:cNvPicPr/>
          <p:nvPr/>
        </p:nvPicPr>
        <p:blipFill>
          <a:blip r:embed="rId3"/>
          <a:stretch/>
        </p:blipFill>
        <p:spPr>
          <a:xfrm>
            <a:off x="214200" y="2000160"/>
            <a:ext cx="4929480" cy="400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16"/>
          <p:cNvGraphicFramePr/>
          <p:nvPr/>
        </p:nvGraphicFramePr>
        <p:xfrm>
          <a:off x="4992840" y="1989000"/>
          <a:ext cx="4151160" cy="4105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92840" y="1989000"/>
                    <a:ext cx="41511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2"/>
          <p:cNvSpPr/>
          <p:nvPr/>
        </p:nvSpPr>
        <p:spPr>
          <a:xfrm>
            <a:off x="642960" y="142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</a:rPr>
              <a:t>Влияние минеральных удобрений на рост растени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820880"/>
          <a:ext cx="9144000" cy="5037120"/>
        </p:xfrm>
        <a:graphic>
          <a:graphicData uri="http://schemas.openxmlformats.org/drawingml/2006/table">
            <a:tbl>
              <a:tblPr/>
              <a:tblGrid>
                <a:gridCol w="2700360"/>
                <a:gridCol w="2800440"/>
                <a:gridCol w="36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8ffde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500" spc="-1" strike="noStrike">
                          <a:solidFill>
                            <a:srgbClr val="58ffde"/>
                          </a:solidFill>
                          <a:latin typeface="Arial"/>
                        </a:rPr>
                        <a:t>Азотные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8ffde"/>
                          </a:solidFill>
                          <a:latin typeface="Arial"/>
                        </a:rPr>
                        <a:t>Фосфор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58ffde"/>
                          </a:solidFill>
                          <a:latin typeface="Arial"/>
                        </a:rPr>
                        <a:t>Калий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Рисунок 4" descr="http://www.sad-ogorod.ru/images/kl.jpg"/>
          <p:cNvPicPr/>
          <p:nvPr/>
        </p:nvPicPr>
        <p:blipFill>
          <a:blip r:embed="rId6"/>
          <a:stretch/>
        </p:blipFill>
        <p:spPr>
          <a:xfrm>
            <a:off x="0" y="2565360"/>
            <a:ext cx="2500200" cy="3143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http://www.sad-ogorod.ru/images/kl1.jpg"/>
          <p:cNvPicPr/>
          <p:nvPr/>
        </p:nvPicPr>
        <p:blipFill>
          <a:blip r:embed="rId7"/>
          <a:stretch/>
        </p:blipFill>
        <p:spPr>
          <a:xfrm>
            <a:off x="2700360" y="2565360"/>
            <a:ext cx="2786040" cy="3143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http://www.sad-ogorod.ru/images/kl4.jpg"/>
          <p:cNvPicPr/>
          <p:nvPr/>
        </p:nvPicPr>
        <p:blipFill>
          <a:blip r:embed="rId8"/>
          <a:stretch/>
        </p:blipFill>
        <p:spPr>
          <a:xfrm>
            <a:off x="5643720" y="2565360"/>
            <a:ext cx="3500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9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9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Влияние  удобрений на рост растений.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43720" y="1981080"/>
            <a:ext cx="36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8ffd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58ffde"/>
                </a:solidFill>
                <a:latin typeface="Arial"/>
              </a:rPr>
              <a:t>Приготовление растворов минеральных удобрений</a:t>
            </a:r>
            <a:r>
              <a:rPr b="1" lang="ru-RU" sz="3200" spc="-1" strike="noStrike">
                <a:solidFill>
                  <a:srgbClr val="58ffd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C:\Documents and Settings\Администратор\Рабочий стол\Фоточки\Изображение 874.jpg"/>
          <p:cNvPicPr/>
          <p:nvPr/>
        </p:nvPicPr>
        <p:blipFill>
          <a:blip r:embed="rId1"/>
          <a:stretch/>
        </p:blipFill>
        <p:spPr>
          <a:xfrm>
            <a:off x="179280" y="1989000"/>
            <a:ext cx="5429520" cy="4500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                  </a:t>
            </a: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Колеу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0" y="198900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1045080" y="537372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8ffde"/>
                </a:solidFill>
                <a:latin typeface="Times New Roman"/>
              </a:rPr>
              <a:t>До пол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076720" y="2349360"/>
            <a:ext cx="49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8ffde"/>
                </a:solidFill>
                <a:latin typeface="Times New Roman"/>
              </a:rPr>
              <a:t>После примен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8ffde"/>
                </a:solidFill>
                <a:latin typeface="Times New Roman"/>
              </a:rPr>
              <a:t>удобр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4662360" y="3429000"/>
            <a:ext cx="448164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107172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0" lang="ru-RU" sz="7200" spc="-1" strike="noStrike">
                <a:solidFill>
                  <a:srgbClr val="ffc000"/>
                </a:solidFill>
                <a:latin typeface="Times New Roman"/>
              </a:rPr>
              <a:t>Традесканци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4421160" cy="3001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4"/>
          <p:cNvSpPr/>
          <p:nvPr/>
        </p:nvSpPr>
        <p:spPr>
          <a:xfrm>
            <a:off x="324000" y="4941720"/>
            <a:ext cx="40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8ffde"/>
                </a:solidFill>
                <a:latin typeface="Times New Roman"/>
              </a:rPr>
              <a:t>После применения удобр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5940000" y="306864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8ffde"/>
                </a:solidFill>
                <a:latin typeface="Times New Roman"/>
              </a:rPr>
              <a:t>До пол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5"/>
          <a:stretch/>
        </p:blipFill>
        <p:spPr>
          <a:xfrm>
            <a:off x="4643280" y="4149720"/>
            <a:ext cx="4500720" cy="27082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7"/>
          <p:cNvSpPr/>
          <p:nvPr/>
        </p:nvSpPr>
        <p:spPr>
          <a:xfrm>
            <a:off x="5003640" y="3284640"/>
            <a:ext cx="792360" cy="360360"/>
          </a:xfrm>
          <a:prstGeom prst="leftArrow">
            <a:avLst>
              <a:gd name="adj1" fmla="val 50000"/>
              <a:gd name="adj2" fmla="val 549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3348000" y="5589720"/>
            <a:ext cx="1079640" cy="431640"/>
          </a:xfrm>
          <a:prstGeom prst="rightArrow">
            <a:avLst>
              <a:gd name="adj1" fmla="val 50000"/>
              <a:gd name="adj2" fmla="val 62531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32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8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0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           </a:t>
            </a:r>
            <a:r>
              <a:rPr b="0" lang="ru-RU" sz="7200" spc="-1" strike="noStrike">
                <a:solidFill>
                  <a:srgbClr val="ffc000"/>
                </a:solidFill>
                <a:latin typeface="Times New Roman"/>
              </a:rPr>
              <a:t>Пшеница</a:t>
            </a:r>
            <a:endParaRPr b="0" lang="en-US" sz="7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960720" cy="3262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4533840" y="3246480"/>
            <a:ext cx="4610160" cy="3611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467280" y="5157720"/>
            <a:ext cx="29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ffde"/>
                </a:solidFill>
                <a:latin typeface="Times New Roman"/>
              </a:rPr>
              <a:t>Посев пше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6011640" y="227664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ffde"/>
                </a:solidFill>
                <a:latin typeface="Times New Roman"/>
              </a:rPr>
              <a:t>8-й д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395280" y="-30852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аблица 1. Влияние внесения удобрения на динамику роста пшениц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030320"/>
          <a:ext cx="9144000" cy="5834160"/>
        </p:xfrm>
        <a:graphic>
          <a:graphicData uri="http://schemas.openxmlformats.org/drawingml/2006/table">
            <a:tbl>
              <a:tblPr/>
              <a:tblGrid>
                <a:gridCol w="3203640"/>
                <a:gridCol w="289224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ы развития растен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удобрений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удобрениями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в труб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х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в трубку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ходы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в трубку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 ден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ден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xpstyle_walls_eX (1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2484360" y="404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Заключе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0" y="1341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Д.И.Менделеев - подлинный учёный - энциклопедис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2.Он сделал открытия не только в области химии, но и  в области сельского хозяй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3. Д.И.Менделеев  предложил химизацию  сельского хозяй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0" y="11253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4.Первые исследования в этой области он провел в Бобло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5. Им написаны следующие рабо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«Об организации сельскохозяйственных                опытов при Вольном Экономическом обществ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«Об обществе для содействия сельскохозяйственному труду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«Отчет о сельскохозяйственных опытах 1867-1869 гг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«Мысли о сельском хозяйстве» и 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8" descr="xpstyle_walls_eX (9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0"/>
          <p:cNvSpPr/>
          <p:nvPr/>
        </p:nvSpPr>
        <p:spPr>
          <a:xfrm>
            <a:off x="0" y="10526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6.Его научное наследие в области химизации сельского хозяйства нашло воплощение в деятельности сельскохозяйственных предприятий всей стра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7.Данное исследование в указанной области подтверждает гипотезу, что изучение деятельности учёного в области улучшения плодородия почв дополняет ещё одну из граней его многоликого таланта и позволило нам убедиться, что вклад его в развитие отечественной промышленности огроме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1" descr="xpstyle_walls_eX (47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75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7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700"/>
                            </p:stCondLst>
                            <p:childTnLst>
                              <p:par>
                                <p:cTn id="446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7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67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770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87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97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7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17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8700"/>
                            </p:stCondLst>
                            <p:childTnLst>
                              <p:par>
                                <p:cTn id="4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400"/>
                            </p:stCondLst>
                            <p:childTnLst>
                              <p:par>
                                <p:cTn id="5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795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49500"/>
                </a:solidFill>
                <a:latin typeface="Times New Roman"/>
              </a:rPr>
              <a:t>Об авторе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8ffde"/>
                </a:solidFill>
                <a:latin typeface="Arial"/>
              </a:rPr>
              <a:t>Выполнила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8ffde"/>
                </a:solidFill>
                <a:latin typeface="Arial"/>
              </a:rPr>
              <a:t>Покатаева Анн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8ffde"/>
                </a:solidFill>
                <a:latin typeface="Arial"/>
              </a:rPr>
              <a:t>Ученица </a:t>
            </a:r>
            <a:r>
              <a:rPr b="1" lang="en-US" sz="3600" spc="-1" strike="noStrike">
                <a:solidFill>
                  <a:srgbClr val="58ffde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58ffde"/>
                </a:solidFill>
                <a:latin typeface="Arial"/>
              </a:rPr>
              <a:t> «А» класс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8ffde"/>
                </a:solidFill>
                <a:latin typeface="Arial"/>
              </a:rPr>
              <a:t>МОУ СОШ №3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8ffde"/>
                </a:solidFill>
                <a:latin typeface="Arial"/>
              </a:rPr>
              <a:t>Г. Михайловс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0:49:31Z</dcterms:created>
  <dc:creator>Аня</dc:creator>
  <dc:description/>
  <dc:language>en-US</dc:language>
  <cp:lastModifiedBy>www.PHILka.RU</cp:lastModifiedBy>
  <dcterms:modified xsi:type="dcterms:W3CDTF">2011-01-11T12:49:01Z</dcterms:modified>
  <cp:revision>31</cp:revision>
  <dc:subject/>
  <dc:title>«Сам удивляюсь, чего я только не делал  на своей научной  жизни. И сделано, думаю, недурно »                                        Д.И.Менделеев.</dc:title>
</cp:coreProperties>
</file>