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7568-D1E0-4107-954B-4ABAD102A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3493-700C-4F4D-99D4-330C635E3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F7BA-3D21-4659-9E92-74581E629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F97D-2175-48C3-930A-ED2D6F36C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77CA6-30F7-41E1-9ED6-74824B87E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60303-BDA8-43D2-AE7A-122EA6A8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883F-19E3-4D2E-A678-C8A1ED9ED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8A4AA-7B52-4A5D-91FD-EE44C708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29757-73B9-414A-8706-7F0AE264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9B179-A052-4646-A5AF-ECC042A91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2B08F-B62E-4459-9DC6-E355FCB5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F52B-1106-4DFF-B5F5-AC450B17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3B98-2868-4469-AEC0-B169B57E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6894-DC00-4407-AA35-9634E72C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377A9-438A-45CD-AD2E-87AE34545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6F7A9-2814-4395-B684-9EF78154B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7BDA6-F439-4CD8-9062-7F697735B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51A6-E2D8-4F71-92A3-9A1C2BA0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2BC3-A833-4BAD-8425-69822B89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B6E5-E6EA-4182-8A89-7CCDF52B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FD63-9A41-4DDF-9DAA-3D6BF7515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BD3A-DD11-451F-8777-614396D7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60F2-BB5C-4487-818D-C93AAF43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40D7-E094-4BAB-B184-CBD9D2EE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5C88-9D12-470E-BB1C-7CB7822433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E936-D12A-4C45-895D-9CC667A19D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d/d2/Darwin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1341360"/>
            <a:ext cx="86756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 СЛЕДАМ ДРЕВНЕГО ЧЕЛОВЕ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42920" y="3933720"/>
            <a:ext cx="66294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ектная рабо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ченика ГОУ ЦО №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горова Дмит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87280" y="5734080"/>
            <a:ext cx="6629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аучный руководитель: Сухова Т.М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читель начальных классов ГОУ ЦО №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79640" y="3213000"/>
            <a:ext cx="440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"/>
              </a:rPr>
              <a:t>Почти детективная исто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ПРОБЛЕМ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1280" y="1557360"/>
            <a:ext cx="7921440" cy="42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знакомившись с зарождением и развитием жизни на Земле, осуществив поиск следов древних организмов на территории Москвы и Московской области, я захотел найти ответ на новые вопрос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в толще Земли скрываются древние раковины и моллюски, существовавшие сотни миллионов лет назад, находят ли ученые останки древних людей? От кого мы произошли? Где и когда появились наши предки? Как заселяли древние люди нашу планету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ЭВОЛЮЦИЯ ЧЕЛОВЕК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835280" y="1557000"/>
            <a:ext cx="6697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19 веке английский ученый Чарльз Дарвин опубликовал научный труд «Происхождение видов…», в котором обосновал свою теорию, согласно которой люди и обезьяны – родственники и являются представителями отряда прима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Darwin" descr="Файл:Darwi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484280"/>
            <a:ext cx="1442880" cy="2016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209320" y="2421000"/>
            <a:ext cx="643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ак же ученым удалось отличить первого человека от обезьяны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 трем признака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 rot="21120000">
            <a:off x="2190240" y="3087720"/>
            <a:ext cx="797040" cy="7174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48000" y="3141720"/>
            <a:ext cx="5400720" cy="503280"/>
          </a:xfrm>
          <a:prstGeom prst="wedgeRoundRectCallout">
            <a:avLst>
              <a:gd name="adj1" fmla="val -60907"/>
              <a:gd name="adj2" fmla="val -1025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больший по сравнению с обезьянами объем мозга (свыше 600 см3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7236000" y="3716280"/>
            <a:ext cx="1368360" cy="9478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203640" y="3789360"/>
            <a:ext cx="3529080" cy="360360"/>
          </a:xfrm>
          <a:prstGeom prst="wedgeRoundRectCallout">
            <a:avLst>
              <a:gd name="adj1" fmla="val 74740"/>
              <a:gd name="adj2" fmla="val 9317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зготовление орудий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Home Erectus"/>
          <p:cNvPicPr/>
          <p:nvPr/>
        </p:nvPicPr>
        <p:blipFill>
          <a:blip r:embed="rId5"/>
          <a:stretch/>
        </p:blipFill>
        <p:spPr>
          <a:xfrm>
            <a:off x="1187280" y="3573360"/>
            <a:ext cx="789120" cy="1657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276720" y="4292640"/>
            <a:ext cx="3456000" cy="360360"/>
          </a:xfrm>
          <a:prstGeom prst="wedgeRoundRectCallout">
            <a:avLst>
              <a:gd name="adj1" fmla="val -93912"/>
              <a:gd name="adj2" fmla="val -1519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ертикальная поход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68360" y="4797360"/>
            <a:ext cx="619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ченые выделяют 4 основных стадии в эволюции человека от доисторических времен до наших дне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5640" y="5516640"/>
            <a:ext cx="72723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еловек умелы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Неандертал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ловек прямоходящи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Человек разум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ГДЕ ОНА – ПРАРОДИНА ЧЕЛОВЕЧЕСТВА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Map of Tanzania"/>
          <p:cNvPicPr/>
          <p:nvPr/>
        </p:nvPicPr>
        <p:blipFill>
          <a:blip r:embed="rId1"/>
          <a:stretch/>
        </p:blipFill>
        <p:spPr>
          <a:xfrm>
            <a:off x="5796000" y="2924280"/>
            <a:ext cx="2574720" cy="30258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020000" y="3573360"/>
            <a:ext cx="144360" cy="142920"/>
          </a:xfrm>
          <a:custGeom>
            <a:avLst/>
            <a:gdLst>
              <a:gd name="textAreaLeft" fmla="*/ 59400 w 144360"/>
              <a:gd name="textAreaRight" fmla="*/ 84960 w 144360"/>
              <a:gd name="textAreaTop" fmla="*/ 58680 h 142920"/>
              <a:gd name="textAreaBottom" fmla="*/ 842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8240" y="1406520"/>
            <a:ext cx="776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ИПОТЕЗА АФРИКАНСКОГО ПРОИСХОЖДЕНИЯ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26920" y="1844640"/>
            <a:ext cx="1584360" cy="11224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627280" y="179244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нователи гипотезы – известные археологи Луис и Мэри Л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19640" y="2421000"/>
            <a:ext cx="3384720" cy="360360"/>
          </a:xfrm>
          <a:prstGeom prst="wedgeRoundRectCallout">
            <a:avLst>
              <a:gd name="adj1" fmla="val 5532"/>
              <a:gd name="adj2" fmla="val 29185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лдувайское ущелье в Танза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5120" y="3068640"/>
            <a:ext cx="4989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1960 году при раскопках в Олдувайском ущелье в Танзании они обнаружили останки «человека умелого» и примитивные каменные орудия со следами обработки, заметными только опытному глаз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зраст находок – 1 850 000 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зже, благодаря новым находкам, сделанным в Кении, возраст возникновения «человека умелого» увеличился до 2,5 млн.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ГДЕ ОНА – ПРАРОДИНА ЧЕЛОВЕЧЕСТВА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77440" y="2781360"/>
            <a:ext cx="21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ИРИНГ- ЮР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19280" y="3214800"/>
            <a:ext cx="2232000" cy="16509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042920" y="4974840"/>
            <a:ext cx="72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етом 1982 года мой тогда еще молодой дедушка и его товарищ Олег Гриненко изучали геологическую историю района в устье ручья Диринг-Юрях. Неожиданно они наткнулись на обломки черепа. Находку приберегли до приезда археолог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716360" y="3213000"/>
            <a:ext cx="2592360" cy="1665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91680" y="1484280"/>
            <a:ext cx="825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ИПОТЕЗА ВНЕТРОПИЧЕСКОГО ПРОИСХОЖДЕНИЯ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9640" y="191628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cc"/>
                </a:solidFill>
                <a:latin typeface="Arial"/>
              </a:rPr>
              <a:t>«Человек умелый» мог появиться только в холодном и суровом регионе Зем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ГДЕ ОНА – ПРАРОДИНА ЧЕЛОВЕЧЕСТВА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04360" y="1413000"/>
            <a:ext cx="21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ИРИНГ- ЮР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08000" y="1854360"/>
            <a:ext cx="54007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ченые, приступив к раскопкам, обнаружили на этом месте 4 погребения возрастом около 3,5 тысячи лет. Вскоре ученым повезло еще больше – вблизи захоронений они натолкнулись на целое скопление древних кремневых предметов. Среди них были валун-наковальня, гальки-отбойники и каменные отщеп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аибольшее сходство находки обнаружили только с каменными орудиями различных стоянок олдувайской культуры Восточной Афри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63400" y="1844640"/>
            <a:ext cx="1300320" cy="2016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7164360" y="1773360"/>
            <a:ext cx="1354320" cy="20872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39640" y="3929040"/>
            <a:ext cx="8064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рхеологи нашли 25 скоплений уникальных орудий первобытного труда – чопперов - и предположили, что это следы своеобразных мастерских под открытым небом по производству вспомогательной утвари, скребков, резцов, ноже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астоящей сенсацией стал возраст находок, установленный учеными - от 2,5 до 3-х миллионов лет! Таким образом, африканский рекорд был поб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9640" y="5013360"/>
            <a:ext cx="8137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корее всего, много млн. лет назад на территории Якутии был теплый влажный климат. Данный район был покрыт благодатными для жизни приматов лесами. Однако со временем наступало оледенение, появлялись новые факторы: холод, снег, а вместе с ними и голод. Изменение климата вынудило многих приматов поменять образ жизни и активизировать свою деятельность. И "человек умелый" стал таковым благодаря морозам, которые заставили его бороться за жизн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ПОКОРЕНИЕ МИР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88000" y="4076640"/>
            <a:ext cx="35272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рвые люди из Африки постепенно покоряли южную оконечность Евразии, а первые люди из Азии - весь азиатский континент и даже Австрали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озможно, спустя много лет, пути этих разных популяций архантропов пересеклись где-то на территории европейского континен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64360" y="3573360"/>
            <a:ext cx="191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ОЯ ВЕР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16000" y="3463920"/>
            <a:ext cx="3311640" cy="26290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55640" y="1411560"/>
            <a:ext cx="74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де и когда появились другие, более развитые формы человека, и как древние люди заселяли нашу планету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12000" y="1879560"/>
            <a:ext cx="355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ЩЕПРИНЯТАЯ ВЕР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6920" y="2273400"/>
            <a:ext cx="7417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Хотя открытие человека прямоходящего произошло в Азии (на о-ве Ява в Индонезии), наибольшее количество его остатков было обнаружено на Африканском континенте. До недавнего времени считалось, что самые ранние архантропы жили в Африке около 1,5 миллионов лет назад, а около 1 миллиона лет назад они отправились на территорию Евраз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АРХАНТРОП ИЗ ПЕТРАЛОНЫ</a:t>
            </a:r>
            <a:br>
              <a:rPr sz="38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п-ов Халкидики, Грец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56000" y="1484280"/>
            <a:ext cx="38876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Летом 2008 гола мне удалось побывать в древней пещере недалеко от деревни Петралона в Греции. В 1960 году в ней был найден человеческий череп, покрытый сталактитовым налетом. Этот череп был передан в университет города Салоники, а в пещере начались археологические раб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2016000" cy="15177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516720" y="1557360"/>
            <a:ext cx="2087640" cy="1557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644400" y="3141720"/>
            <a:ext cx="1623960" cy="2160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556000" y="3284640"/>
            <a:ext cx="61196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 1965 года работы в пещере ведет антрополог с мировым именем профессор Арис Пулианос. Сейчас профессору более 80-ти лет. Он учился в СССР, в 1945 году закончил МГУ и неплохо помнит русский язы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ядом с черепом находились остатки скелета, который был разрушен людьми вскоре после открытия пещеры. Исследовав найденные остатки, Арис Пулианос отнес обнаруженного человека к виду «человек прямоходящий». Возраст петралонского архантропа составляет 700 – 800 тысяч л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63480" y="5300640"/>
            <a:ext cx="80121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о всех слоях пещеры, включая самый нижний, возраст которого 1 млн. лет, археологи находили следы жизни человека: инструменты (из камня и кости), остатки пищи и костей зверей. Во всех слоях пещеры обнаружены следы огн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а основании всех полученных сведений греческий антрополог сформулировал мнение, что петралонский человек является ранним предком человека в Европ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26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ЗАКЛЮЧ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87640" y="1628640"/>
            <a:ext cx="55641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Я узнал, что ученые-археологи, чтобы постигнуть древние ремесла и восстановить забытые технологии, в своей работе используют метод экспериментальной археолог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Я тоже попробовал собственными руками изготовить древнейшее каменное орудие труда - чоппинг. Это оказалось нелегко, и я на собственном опыте понял, как непросто было существовать первобытному челове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2303640" cy="1729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39640" y="3573360"/>
            <a:ext cx="2303640" cy="17179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987640" y="3868560"/>
            <a:ext cx="54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теме, затронутой в моем проекте, еще очень много неизведанного. Я уверен, что в ближайшем будущем в науке антропологии будет совершено много новых открытий, и недостающие следы древнего человека обязательно будут обнаружен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9640" y="5445000"/>
            <a:ext cx="80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cc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08:44:40Z</dcterms:created>
  <dc:creator>Yana</dc:creator>
  <dc:description/>
  <dc:language>en-US</dc:language>
  <cp:lastModifiedBy>Yana</cp:lastModifiedBy>
  <dcterms:modified xsi:type="dcterms:W3CDTF">2011-01-23T19:34:36Z</dcterms:modified>
  <cp:revision>57</cp:revision>
  <dc:subject/>
  <dc:title>Слайд 1</dc:title>
</cp:coreProperties>
</file>