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0.wmf" ContentType="image/x-wmf"/>
  <Override PartName="/ppt/media/image22.gif" ContentType="image/gif"/>
  <Override PartName="/ppt/media/image9.png" ContentType="image/png"/>
  <Override PartName="/ppt/media/image12.wmf" ContentType="image/x-wmf"/>
  <Override PartName="/ppt/media/image24.gif" ContentType="image/gif"/>
  <Override PartName="/ppt/media/image27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wmf" ContentType="image/x-wmf"/>
  <Override PartName="/ppt/media/image20.jpeg" ContentType="image/jpeg"/>
  <Override PartName="/ppt/media/image6.jpeg" ContentType="image/jpeg"/>
  <Override PartName="/ppt/media/image5.jpeg" ContentType="image/jpeg"/>
  <Override PartName="/ppt/media/image26.gif" ContentType="image/gif"/>
  <Override PartName="/ppt/media/image15.jpeg" ContentType="image/jpeg"/>
  <Override PartName="/ppt/media/image25.gif" ContentType="image/gif"/>
  <Override PartName="/ppt/media/image21.jpeg" ContentType="image/jpeg"/>
  <Override PartName="/ppt/media/image16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23.gif" ContentType="image/gif"/>
  <Override PartName="/ppt/media/image17.jpeg" ContentType="image/jpeg"/>
  <Override PartName="/ppt/media/image1.wmf" ContentType="image/x-wm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3C40-C5C4-49A8-8260-9A1A81CB8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375A-8B51-420C-A5CF-014CAFEF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6EEF-7AA2-4E55-A04A-A6E1194D7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13EE-AB3D-4A79-A3F1-8692CFF59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F8825-382E-47EC-8EE6-AE3666DB5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8A5B5-A1D7-45CC-9FF9-E61952EC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B5AD-BE79-422C-8C08-1E096CF2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DDEC-C8C0-4E16-92C6-AF4322BA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F753-7911-405F-858F-4E249146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37ED2-D808-41E5-B55C-5CE532EB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5505-2DBD-4D13-A2A0-852D9869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4410-3C57-4B2E-AEB3-3F150097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9373-94D2-44FB-AE5D-5E8DC865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B625-7D93-42A0-B928-86E3067C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6602D-CB1F-414F-A55B-14C9C0375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E557-8242-48D3-AA02-9701C5D47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845E-4404-41F1-95F5-727B702BB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2C84E1-46AF-4814-B2A8-254D96B59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C0CBC4-A72E-4EC9-86A0-1B0258D4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D34A53-C4CB-4FCC-B3E4-049FCB87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AF0F50-C3AF-4C1B-97B1-47A83C4D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3C80CE-6BBC-48B2-88F0-7B717FD1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BBD6-57EF-4B79-9BE6-19446A52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909EE9-BEB8-4AC5-9E5A-C98848E9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DE74FD-29C2-4C68-B334-293632F6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99DDD2-350A-4B01-B1BE-5C4BF1FC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4F1221-FA22-4204-A22E-97FE51FA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20EAFB-79C5-403A-B4B9-23AC2B65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C2C8ED-4795-48F0-8C6F-0EB1623EE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43BD9F-1BE3-44EE-91E4-A088E0953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32298-53AD-4445-88FF-2108969F3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AC6F7-6FF9-4BC2-81F8-F217A80C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FDE32-EA93-4036-B57F-30306141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2D33-E5B6-4B37-A429-38859EC4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38785-09C9-461C-85E4-96A2575D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0428C-7ED8-4F4E-B8C5-9976CECF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961E2-E1D2-4964-957A-F65DEC27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55CED-0B36-4239-871E-2D475855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5C8F2-4ACE-48A3-833B-5229C10F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AC1A7-78CE-4DA0-892A-EEAD60D2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B7AB6-7D36-4087-952B-F3581A92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35CAA-5A0C-4629-8CFA-D76977289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B0A73-C210-4C81-81DD-3B785D9EF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9DA2-5A84-40EC-834F-464E483C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C4F3-4CBC-4C02-80BC-18E1DF67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0226-35DC-46D3-A0BF-7F3D7707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5E50-8ADD-4078-AD71-826CF32A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B579-927E-459F-B3E3-3B48B723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9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4C50-0529-447D-93CD-29E0D8969681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9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2F36-8522-4757-A42C-848D21B5DBF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9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8D8F-DA68-4C44-A7A0-F01D200D75D7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9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D64B-9379-466F-A4E4-F9F6D7D59C57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9" name="Picture 6" descr="000803_1055_5842_vnvv"/>
          <p:cNvPicPr/>
          <p:nvPr/>
        </p:nvPicPr>
        <p:blipFill>
          <a:blip r:embed="rId1"/>
          <a:stretch/>
        </p:blipFill>
        <p:spPr>
          <a:xfrm>
            <a:off x="7020000" y="3645000"/>
            <a:ext cx="1738080" cy="28461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" descr="000803_1069_5353_vnvv"/>
          <p:cNvPicPr/>
          <p:nvPr/>
        </p:nvPicPr>
        <p:blipFill>
          <a:blip r:embed="rId2"/>
          <a:stretch/>
        </p:blipFill>
        <p:spPr>
          <a:xfrm>
            <a:off x="395280" y="620640"/>
            <a:ext cx="2643120" cy="2789280"/>
          </a:xfrm>
          <a:prstGeom prst="rect">
            <a:avLst/>
          </a:prstGeom>
          <a:ln w="0">
            <a:noFill/>
          </a:ln>
        </p:spPr>
      </p:pic>
      <p:sp>
        <p:nvSpPr>
          <p:cNvPr id="231" name="WordArt 4"/>
          <p:cNvSpPr txBox="1"/>
          <p:nvPr/>
        </p:nvSpPr>
        <p:spPr>
          <a:xfrm>
            <a:off x="2928960" y="785880"/>
            <a:ext cx="5857920" cy="228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1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+mn-lt"/>
              </a:rPr>
              <a:t>Как  сберечь  свое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latin typeface="+mn-lt"/>
              </a:rPr>
              <a:t>здоровье?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latin typeface="+mn-lt"/>
              <a:ea typeface="+mn-lt"/>
            </a:endParaRPr>
          </a:p>
        </p:txBody>
      </p:sp>
      <p:sp>
        <p:nvSpPr>
          <p:cNvPr id="232" name="Text Box 11"/>
          <p:cNvSpPr/>
          <p:nvPr/>
        </p:nvSpPr>
        <p:spPr>
          <a:xfrm>
            <a:off x="1042920" y="3789360"/>
            <a:ext cx="640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боту выполнили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селева Ольга, Курочкина Мария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лубева Анна - 4 клас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ководитель Л.Л.Капе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6" descr="dbdee13c60c9204fee7ec8d256b5f9fa[1]"/>
          <p:cNvPicPr/>
          <p:nvPr/>
        </p:nvPicPr>
        <p:blipFill>
          <a:blip r:embed="rId1"/>
          <a:stretch/>
        </p:blipFill>
        <p:spPr>
          <a:xfrm>
            <a:off x="0" y="4200480"/>
            <a:ext cx="2201760" cy="26575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6a203db8af493bd7d32f05129ce3429a[1]"/>
          <p:cNvPicPr/>
          <p:nvPr/>
        </p:nvPicPr>
        <p:blipFill>
          <a:blip r:embed="rId2"/>
          <a:stretch/>
        </p:blipFill>
        <p:spPr>
          <a:xfrm>
            <a:off x="5715000" y="228600"/>
            <a:ext cx="2523960" cy="2523960"/>
          </a:xfrm>
          <a:prstGeom prst="rect">
            <a:avLst/>
          </a:prstGeom>
          <a:ln w="0">
            <a:noFill/>
          </a:ln>
        </p:spPr>
      </p:pic>
      <p:sp>
        <p:nvSpPr>
          <p:cNvPr id="274" name="Дата 5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0B58-00C6-4720-B30A-D2AF3614BD06}" type="datetime">
              <a:rPr b="0" lang="ru-RU" sz="800" spc="-1" strike="noStrike">
                <a:solidFill>
                  <a:srgbClr val="438086"/>
                </a:solidFill>
                <a:latin typeface="Arial"/>
              </a:rPr>
              <a:t>28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Номер слайда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A3A7-F73D-4020-AD2A-D5562DC941B4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Прямоугольник 5" descr=""/>
          <p:cNvPicPr/>
          <p:nvPr/>
        </p:nvPicPr>
        <p:blipFill>
          <a:blip r:embed="rId3"/>
          <a:stretch/>
        </p:blipFill>
        <p:spPr>
          <a:xfrm>
            <a:off x="622440" y="517680"/>
            <a:ext cx="4992480" cy="306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708000" y="549360"/>
            <a:ext cx="5256360" cy="22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5070c"/>
                </a:solidFill>
                <a:latin typeface="Trebuchet MS"/>
              </a:rPr>
              <a:t>Цель: </a:t>
            </a:r>
            <a:r>
              <a:rPr b="0" lang="ru-RU" sz="2000" spc="-1" strike="noStrike">
                <a:solidFill>
                  <a:srgbClr val="ffffff"/>
                </a:solidFill>
                <a:latin typeface="Trebuchet MS"/>
              </a:rPr>
              <a:t>формировать у учащихся начальной школы основы здорового образа жизни, составить памятки – обращения, листы здоровья для всей семьи</a:t>
            </a: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57160" y="4331880"/>
            <a:ext cx="4857840" cy="20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5070c"/>
                </a:solidFill>
                <a:latin typeface="Georgia"/>
              </a:rPr>
              <a:t>Предмет исследования-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школьники начальных  классов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5" name="Picture 4" descr="DSC02518"/>
          <p:cNvPicPr/>
          <p:nvPr/>
        </p:nvPicPr>
        <p:blipFill>
          <a:blip r:embed="rId1"/>
          <a:stretch/>
        </p:blipFill>
        <p:spPr>
          <a:xfrm>
            <a:off x="0" y="0"/>
            <a:ext cx="3673440" cy="2576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000803_1055_6420_vnvv"/>
          <p:cNvPicPr/>
          <p:nvPr/>
        </p:nvPicPr>
        <p:blipFill>
          <a:blip r:embed="rId2"/>
          <a:stretch/>
        </p:blipFill>
        <p:spPr>
          <a:xfrm rot="2122200">
            <a:off x="6372000" y="2708280"/>
            <a:ext cx="2190600" cy="323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9" descr="И2"/>
          <p:cNvPicPr/>
          <p:nvPr/>
        </p:nvPicPr>
        <p:blipFill>
          <a:blip r:embed="rId1"/>
          <a:stretch/>
        </p:blipFill>
        <p:spPr>
          <a:xfrm>
            <a:off x="5148360" y="1557360"/>
            <a:ext cx="3770280" cy="280044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endParaRPr b="0" lang="en-US" sz="3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10920" y="1628640"/>
            <a:ext cx="480996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доровье – состояние полного физического, духовного и социального благополучи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WordArt 4"/>
          <p:cNvSpPr txBox="1"/>
          <p:nvPr/>
        </p:nvSpPr>
        <p:spPr>
          <a:xfrm>
            <a:off x="539640" y="189000"/>
            <a:ext cx="7777440" cy="12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о такое здоровье 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доровый образ жизни 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4284720" y="4149720"/>
            <a:ext cx="4859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оровый образ жизни –это поведение  челове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авленное на сохран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укрепление здоров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8" descr="И 1"/>
          <p:cNvPicPr/>
          <p:nvPr/>
        </p:nvPicPr>
        <p:blipFill>
          <a:blip r:embed="rId2"/>
          <a:stretch/>
        </p:blipFill>
        <p:spPr>
          <a:xfrm>
            <a:off x="214200" y="4214880"/>
            <a:ext cx="40672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8" descr="000803_1069_5279_vnvv"/>
          <p:cNvPicPr/>
          <p:nvPr/>
        </p:nvPicPr>
        <p:blipFill>
          <a:blip r:embed="rId1"/>
          <a:stretch/>
        </p:blipFill>
        <p:spPr>
          <a:xfrm>
            <a:off x="0" y="270000"/>
            <a:ext cx="1500120" cy="2414520"/>
          </a:xfrm>
          <a:prstGeom prst="rect">
            <a:avLst/>
          </a:prstGeom>
          <a:ln w="0">
            <a:noFill/>
          </a:ln>
        </p:spPr>
      </p:pic>
      <p:pic>
        <p:nvPicPr>
          <p:cNvPr id="244" name="Прямоугольник 6" descr=""/>
          <p:cNvPicPr/>
          <p:nvPr/>
        </p:nvPicPr>
        <p:blipFill>
          <a:blip r:embed="rId2"/>
          <a:stretch/>
        </p:blipFill>
        <p:spPr>
          <a:xfrm>
            <a:off x="2066760" y="566640"/>
            <a:ext cx="6821640" cy="1725840"/>
          </a:xfrm>
          <a:prstGeom prst="rect">
            <a:avLst/>
          </a:prstGeom>
          <a:ln w="0">
            <a:noFill/>
          </a:ln>
        </p:spPr>
      </p:pic>
      <p:pic>
        <p:nvPicPr>
          <p:cNvPr id="245" name="Схема 7" descr=""/>
          <p:cNvPicPr/>
          <p:nvPr/>
        </p:nvPicPr>
        <p:blipFill>
          <a:blip r:embed="rId3"/>
          <a:stretch/>
        </p:blipFill>
        <p:spPr>
          <a:xfrm>
            <a:off x="-55440" y="2419200"/>
            <a:ext cx="5664240" cy="4451400"/>
          </a:xfrm>
          <a:prstGeom prst="rect">
            <a:avLst/>
          </a:prstGeom>
          <a:ln w="0">
            <a:noFill/>
          </a:ln>
        </p:spPr>
      </p:pic>
      <p:sp>
        <p:nvSpPr>
          <p:cNvPr id="246" name="Прямоугольник 10"/>
          <p:cNvSpPr/>
          <p:nvPr/>
        </p:nvSpPr>
        <p:spPr>
          <a:xfrm>
            <a:off x="3809880" y="2149560"/>
            <a:ext cx="1524240" cy="25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114480" bIns="114480" anchor="ctr">
            <a:noAutofit/>
          </a:bodyPr>
          <a:p>
            <a:pPr algn="ctr">
              <a:lnSpc>
                <a:spcPct val="90000"/>
              </a:lnSpc>
              <a:spcAft>
                <a:spcPts val="1312"/>
              </a:spcAft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8" descr="J0233047"/>
          <p:cNvPicPr/>
          <p:nvPr/>
        </p:nvPicPr>
        <p:blipFill>
          <a:blip r:embed="rId4"/>
          <a:stretch/>
        </p:blipFill>
        <p:spPr>
          <a:xfrm>
            <a:off x="6005520" y="3786120"/>
            <a:ext cx="31384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Рисунок 5" descr="DSC00990.JPG"/>
          <p:cNvPicPr/>
          <p:nvPr/>
        </p:nvPicPr>
        <p:blipFill>
          <a:blip r:embed="rId1"/>
          <a:stretch/>
        </p:blipFill>
        <p:spPr>
          <a:xfrm>
            <a:off x="0" y="357120"/>
            <a:ext cx="4572000" cy="30481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57760" y="356760"/>
            <a:ext cx="528624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  </a:t>
            </a: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Оздоровительные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  мероприятия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 в школе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0" name="Picture 9" descr="J0233049"/>
          <p:cNvPicPr/>
          <p:nvPr/>
        </p:nvPicPr>
        <p:blipFill>
          <a:blip r:embed="rId2"/>
          <a:stretch/>
        </p:blipFill>
        <p:spPr>
          <a:xfrm>
            <a:off x="0" y="4406760"/>
            <a:ext cx="1486080" cy="245124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9" descr="DSC01700.JPG"/>
          <p:cNvPicPr/>
          <p:nvPr/>
        </p:nvPicPr>
        <p:blipFill>
          <a:blip r:embed="rId3"/>
          <a:stretch/>
        </p:blipFill>
        <p:spPr>
          <a:xfrm>
            <a:off x="2214720" y="2500200"/>
            <a:ext cx="4464000" cy="29768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7" descr="C:\Documents and Settings\1\Рабочий стол\КЛЛ\фото\SN850424.JPG"/>
          <p:cNvPicPr/>
          <p:nvPr/>
        </p:nvPicPr>
        <p:blipFill>
          <a:blip r:embed="rId4"/>
          <a:stretch/>
        </p:blipFill>
        <p:spPr>
          <a:xfrm>
            <a:off x="4786200" y="4091040"/>
            <a:ext cx="400068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000160" y="642600"/>
            <a:ext cx="54295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  </a:t>
            </a: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Наши исследования показали, что…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Прямоугольник 5"/>
          <p:cNvSpPr/>
          <p:nvPr/>
        </p:nvSpPr>
        <p:spPr>
          <a:xfrm>
            <a:off x="214200" y="1571760"/>
            <a:ext cx="3286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Ребята любят уроки физкультуры и с удовольствием занимаются физическим тру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C:\Documents and Settings\1\Рабочий стол\КЛЛ\фото\DSC02731.JPG"/>
          <p:cNvPicPr/>
          <p:nvPr/>
        </p:nvPicPr>
        <p:blipFill>
          <a:blip r:embed="rId1"/>
          <a:stretch/>
        </p:blipFill>
        <p:spPr>
          <a:xfrm>
            <a:off x="5470560" y="1571760"/>
            <a:ext cx="3673440" cy="2928960"/>
          </a:xfrm>
          <a:prstGeom prst="rect">
            <a:avLst/>
          </a:prstGeom>
          <a:ln w="0">
            <a:noFill/>
          </a:ln>
        </p:spPr>
      </p:pic>
      <p:pic>
        <p:nvPicPr>
          <p:cNvPr id="256" name="Содержимое 7" descr="DSC01046.JPG"/>
          <p:cNvPicPr/>
          <p:nvPr/>
        </p:nvPicPr>
        <p:blipFill>
          <a:blip r:embed="rId2"/>
          <a:stretch/>
        </p:blipFill>
        <p:spPr>
          <a:xfrm>
            <a:off x="0" y="4624560"/>
            <a:ext cx="3349800" cy="22334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C:\Documents and Settings\1\Рабочий стол\КЛЛ\фото\SN850147.JPG"/>
          <p:cNvPicPr/>
          <p:nvPr/>
        </p:nvPicPr>
        <p:blipFill>
          <a:blip r:embed="rId3"/>
          <a:stretch/>
        </p:blipFill>
        <p:spPr>
          <a:xfrm>
            <a:off x="2786040" y="3214800"/>
            <a:ext cx="2762280" cy="2071440"/>
          </a:xfrm>
          <a:prstGeom prst="rect">
            <a:avLst/>
          </a:prstGeom>
          <a:ln w="0">
            <a:noFill/>
          </a:ln>
        </p:spPr>
      </p:pic>
      <p:sp>
        <p:nvSpPr>
          <p:cNvPr id="258" name="TextBox 7"/>
          <p:cNvSpPr/>
          <p:nvPr/>
        </p:nvSpPr>
        <p:spPr>
          <a:xfrm>
            <a:off x="3929040" y="57150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omic Sans MS"/>
              </a:rPr>
              <a:t>Здоровый нищий богаче больного короля (пословиц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3" descr="F:\фото\SN850033.JPG"/>
          <p:cNvPicPr/>
          <p:nvPr/>
        </p:nvPicPr>
        <p:blipFill>
          <a:blip r:embed="rId1"/>
          <a:stretch/>
        </p:blipFill>
        <p:spPr>
          <a:xfrm>
            <a:off x="4762440" y="3571920"/>
            <a:ext cx="4381560" cy="32860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000160" y="642600"/>
            <a:ext cx="54295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  </a:t>
            </a:r>
            <a:r>
              <a:rPr b="1" lang="ru-RU" sz="3600" spc="-1" strike="noStrike">
                <a:solidFill>
                  <a:srgbClr val="c00000"/>
                </a:solidFill>
                <a:latin typeface="Comic Sans MS"/>
              </a:rPr>
              <a:t>Наши исследования показали, что…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1" name="Прямоугольник 7"/>
          <p:cNvSpPr/>
          <p:nvPr/>
        </p:nvSpPr>
        <p:spPr>
          <a:xfrm>
            <a:off x="0" y="1785960"/>
            <a:ext cx="3929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Работу по пропаган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здорового образа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ужно проводить 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только  с деть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о и с родителя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F:\фото\DSC01700.JPG"/>
          <p:cNvPicPr/>
          <p:nvPr/>
        </p:nvPicPr>
        <p:blipFill>
          <a:blip r:embed="rId2"/>
          <a:stretch/>
        </p:blipFill>
        <p:spPr>
          <a:xfrm>
            <a:off x="3786120" y="1571760"/>
            <a:ext cx="4214880" cy="2809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F:\фото\SN850071.JPG"/>
          <p:cNvPicPr/>
          <p:nvPr/>
        </p:nvPicPr>
        <p:blipFill>
          <a:blip r:embed="rId3"/>
          <a:stretch/>
        </p:blipFill>
        <p:spPr>
          <a:xfrm>
            <a:off x="0" y="3789360"/>
            <a:ext cx="40910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3840" y="428760"/>
            <a:ext cx="271476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Comic Sans MS"/>
              </a:rPr>
              <a:t>Памятка- обращение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5" name="Вертикальный свиток 3"/>
          <p:cNvSpPr/>
          <p:nvPr/>
        </p:nvSpPr>
        <p:spPr>
          <a:xfrm>
            <a:off x="2357280" y="0"/>
            <a:ext cx="6786720" cy="6858000"/>
          </a:xfrm>
          <a:prstGeom prst="verticalScroll">
            <a:avLst>
              <a:gd name="adj" fmla="val 12500"/>
            </a:avLst>
          </a:prstGeom>
          <a:solidFill>
            <a:srgbClr val="ffcc66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5"/>
          <p:cNvSpPr/>
          <p:nvPr/>
        </p:nvSpPr>
        <p:spPr>
          <a:xfrm>
            <a:off x="3643200" y="428760"/>
            <a:ext cx="4857840" cy="64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ё здоровье в ваших руках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Уважаемые мамы и папы, я - ваш ребенок! Я очень хочу вырасти здоровым,  крепким, сильным, смелым. Поэтому обращаюсь к вам- самым близким и дорогим людям. Чтобы сохранить и укрепить моё здоровье, вы должны помни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1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Нужно чаще беседовать со мной о необходимости беречь собственное  здоровь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1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бственным примером демонстрируйте уважительное отношение к собственному здоров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1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позволяйте мне выполнять режим дня от случая к случа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1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ещайте вместе со мной спортивные праздники и меропри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1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Бывайте вместе со мной на воздухе, участвуйте в детских играх и забав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1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смейтесь, если какие-то упражнения у меня не получаю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1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ветствуйте общение со сверстниками, которые занимаются спорт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181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ЖДИТЕ, ЧТО ЗДОРОВЬЕ ПРИДЕТ САМО,  ИДИТЕ ВМЕСТЕ СО МНОЙ  ЕМУ НАВСТРЕЧУ!  И ВСЕГДА ПОМНИТЕ, ЧТО МОЁ ЗДОРОВЬЕ В ВАШИХ РУКАХ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Рисунок 1" descr="Изображение0001.JPG"/>
          <p:cNvPicPr/>
          <p:nvPr/>
        </p:nvPicPr>
        <p:blipFill>
          <a:blip r:embed="rId1"/>
          <a:stretch/>
        </p:blipFill>
        <p:spPr>
          <a:xfrm>
            <a:off x="214200" y="192888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4" descr="icons0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flower025"/>
          <p:cNvPicPr/>
          <p:nvPr/>
        </p:nvPicPr>
        <p:blipFill>
          <a:blip r:embed="rId2"/>
          <a:stretch/>
        </p:blipFill>
        <p:spPr>
          <a:xfrm flipH="1">
            <a:off x="6215040" y="3143160"/>
            <a:ext cx="3192480" cy="38862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iluvu006"/>
          <p:cNvPicPr/>
          <p:nvPr/>
        </p:nvPicPr>
        <p:blipFill>
          <a:blip r:embed="rId3"/>
          <a:stretch/>
        </p:blipFill>
        <p:spPr>
          <a:xfrm>
            <a:off x="-357120" y="4122720"/>
            <a:ext cx="3000240" cy="273528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оугольник 4"/>
          <p:cNvSpPr/>
          <p:nvPr/>
        </p:nvSpPr>
        <p:spPr>
          <a:xfrm>
            <a:off x="2000160" y="428760"/>
            <a:ext cx="4572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Здоровье – это бесценный дар, который преподносит человеку прир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Его легче сохранить и поддерживать, чем укреплять пошатнувшее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0T10:41:10Z</dcterms:created>
  <dc:creator>Администратор</dc:creator>
  <dc:description/>
  <dc:language>en-US</dc:language>
  <cp:lastModifiedBy>1</cp:lastModifiedBy>
  <dcterms:modified xsi:type="dcterms:W3CDTF">2011-01-21T09:03:58Z</dcterms:modified>
  <cp:revision>26</cp:revision>
  <dc:subject/>
  <dc:title>Слайд 1</dc:title>
</cp:coreProperties>
</file>