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8BF-FBBF-4F84-BC0C-8707302B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C22-849E-4103-A10C-E26A9616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96F-4721-4249-A2A1-090ED33A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D00-FC1F-4213-BCCE-0A88223F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4BE-5C40-425C-9B4D-8E3712AB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CC1-44AF-4B86-AE30-793C2DEF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A68-A1AE-442F-986F-7189F398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A7B-F8F8-4879-9FDC-F15A196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1FE-EC29-4B25-8713-5397DA95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D46-31F2-428E-9F5F-623DAD7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714-E098-46B4-9BC2-9FD80AB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5A0-B40D-4FA8-9711-AA8A8AD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5918-439C-489E-941F-2FC6B54AE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да репчатому лу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5486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ы: Никифорова Александра, Панкова 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Куимова Ольга Константин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480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ика проведения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индикаторных свойств л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готовление индикаторной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P2160260"/>
          <p:cNvPicPr/>
          <p:nvPr/>
        </p:nvPicPr>
        <p:blipFill>
          <a:blip r:embed="rId1"/>
          <a:stretch/>
        </p:blipFill>
        <p:spPr>
          <a:xfrm>
            <a:off x="4648320" y="4267080"/>
            <a:ext cx="3047760" cy="2229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83" name="Picture 17" descr="IMG_3654"/>
          <p:cNvPicPr/>
          <p:nvPr/>
        </p:nvPicPr>
        <p:blipFill>
          <a:blip r:embed="rId2"/>
          <a:stretch/>
        </p:blipFill>
        <p:spPr>
          <a:xfrm>
            <a:off x="4648320" y="1600200"/>
            <a:ext cx="3047760" cy="2209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красок из лукового от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рашивание тка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P200210_10"/>
          <p:cNvPicPr/>
          <p:nvPr/>
        </p:nvPicPr>
        <p:blipFill>
          <a:blip r:embed="rId1"/>
          <a:stretch/>
        </p:blipFill>
        <p:spPr>
          <a:xfrm>
            <a:off x="4343400" y="762120"/>
            <a:ext cx="4476600" cy="3359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86" name="Picture 12" descr="P011009_11"/>
          <p:cNvPicPr/>
          <p:nvPr/>
        </p:nvPicPr>
        <p:blipFill>
          <a:blip r:embed="rId2"/>
          <a:stretch/>
        </p:blipFill>
        <p:spPr>
          <a:xfrm>
            <a:off x="533520" y="2438280"/>
            <a:ext cx="4479840" cy="3362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лагодаря богатому составу (содержание большого количества витаминов, микро- и макроэлементов) лук нашел широкое применение в народной медицине, кулина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рактической части  работы мы доказали, что из лука можно приготовить индикаторы для определения кислотной и щелочной среды, что может оказаться полезным при ведении приусадебного хозяйства и решения вопросов, связанных с выбором культуры на том или ином участ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ук является хорошим природным красителем, ведь не зря до сих пор существует традиция окраски пасхальных яиц луковой шелухой, несмотря на существование огромного ассортимента синтетических, более удобных в применении красителей. Используя луковый отвар можно приготовить акварельные, экологически безопасные акварельные  краски, а также окрасить тка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ем известно, что лук богат различными витаминами, белками. В экспериментальной части работы мы подтвердили этот фа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11902017"/>
          <p:cNvPicPr/>
          <p:nvPr/>
        </p:nvPicPr>
        <p:blipFill>
          <a:blip r:embed="rId1"/>
          <a:stretch/>
        </p:blipFill>
        <p:spPr>
          <a:xfrm>
            <a:off x="6095880" y="152280"/>
            <a:ext cx="2847960" cy="1405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90" name="Picture 5" descr="1480078"/>
          <p:cNvPicPr/>
          <p:nvPr/>
        </p:nvPicPr>
        <p:blipFill>
          <a:blip r:embed="rId2"/>
          <a:stretch/>
        </p:blipFill>
        <p:spPr>
          <a:xfrm>
            <a:off x="533520" y="152280"/>
            <a:ext cx="2209680" cy="1395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br>
              <a:rPr sz="4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ё самое сложное кроется в самом простом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. И. Менделе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-360" y="152352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ие известные ученые находили интересные факты в простых вещах. Мы часто смотрим на привычные для нас вещи, даже не догадываясь, сколько интересной информации они заключают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репчатый лук. С детства с этой культурой связаны самые различные ассоциации. Прежде всего, это замечательная сказка Джанни Родари, главным героем которой стал мальчик-луковка – Чиполли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Картинка 92 из 791"/>
          <p:cNvPicPr/>
          <p:nvPr/>
        </p:nvPicPr>
        <p:blipFill>
          <a:blip r:embed="rId1"/>
          <a:stretch/>
        </p:blipFill>
        <p:spPr>
          <a:xfrm>
            <a:off x="5486400" y="1752480"/>
            <a:ext cx="3352680" cy="4800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азать, что химический состав репчатого лука определяет многообразие его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70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686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1" name="Picture 9" descr="lp_633298662736528750_b3ecd3c4-90ec-46e1-95e9-79339106c565"/>
          <p:cNvPicPr/>
          <p:nvPr/>
        </p:nvPicPr>
        <p:blipFill>
          <a:blip r:embed="rId2"/>
          <a:stretch/>
        </p:blipFill>
        <p:spPr>
          <a:xfrm>
            <a:off x="4267080" y="4495680"/>
            <a:ext cx="3024360" cy="2141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2" name="Picture 10" descr="dsc00301"/>
          <p:cNvPicPr/>
          <p:nvPr/>
        </p:nvPicPr>
        <p:blipFill>
          <a:blip r:embed="rId3"/>
          <a:stretch/>
        </p:blipFill>
        <p:spPr>
          <a:xfrm>
            <a:off x="457200" y="3962520"/>
            <a:ext cx="2971800" cy="2666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ть химический состав репчатого л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области его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ить индикаторные свойства лука, на их основе приготовить индикатор для определения кислотной и щелоч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азать, что лук является настоящим природным красителем, приготовить акварельные краски на основе лукового отвара и окрасить тк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ь опытным путём содержащиеся в луке витам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1"/>
          <p:cNvPicPr/>
          <p:nvPr/>
        </p:nvPicPr>
        <p:blipFill>
          <a:blip r:embed="rId1"/>
          <a:stretch/>
        </p:blipFill>
        <p:spPr>
          <a:xfrm>
            <a:off x="6705720" y="152280"/>
            <a:ext cx="2076480" cy="1544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арактеристика культуры</a:t>
            </a:r>
            <a:br>
              <a:rPr sz="4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ук с морковкой хоть и с одной грядки, да неодинаково сладки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общим названием «лук» объединяют травянистые растения, образующие сочную подземную часть - луковицу – и травянистую  надземную часть – «перо». Репчатый лук лучше всего растет в прохладное время при температуре 13-24 градусов по Цельсию; устойчив к замороз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onion_vegetable_240420_l"/>
          <p:cNvPicPr/>
          <p:nvPr/>
        </p:nvPicPr>
        <p:blipFill>
          <a:blip r:embed="rId1"/>
          <a:stretch/>
        </p:blipFill>
        <p:spPr>
          <a:xfrm>
            <a:off x="5257800" y="2666880"/>
            <a:ext cx="2819520" cy="228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л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a849f253c34a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6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1" name="Text Box 15"/>
          <p:cNvSpPr/>
          <p:nvPr/>
        </p:nvSpPr>
        <p:spPr>
          <a:xfrm>
            <a:off x="380880" y="3505320"/>
            <a:ext cx="25146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mnogoyarusnyi"/>
          <p:cNvPicPr/>
          <p:nvPr/>
        </p:nvPicPr>
        <p:blipFill>
          <a:blip r:embed="rId2"/>
          <a:stretch/>
        </p:blipFill>
        <p:spPr>
          <a:xfrm>
            <a:off x="3276720" y="1295280"/>
            <a:ext cx="2450880" cy="1905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3" name="Text Box 17"/>
          <p:cNvSpPr/>
          <p:nvPr/>
        </p:nvSpPr>
        <p:spPr>
          <a:xfrm>
            <a:off x="3276720" y="35053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971800" y="3429000"/>
            <a:ext cx="3124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ярусный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vist78"/>
          <p:cNvPicPr/>
          <p:nvPr/>
        </p:nvPicPr>
        <p:blipFill>
          <a:blip r:embed="rId3"/>
          <a:stretch/>
        </p:blipFill>
        <p:spPr>
          <a:xfrm>
            <a:off x="6095880" y="1905120"/>
            <a:ext cx="2346480" cy="3352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6" name="Text Box 20"/>
          <p:cNvSpPr/>
          <p:nvPr/>
        </p:nvSpPr>
        <p:spPr>
          <a:xfrm>
            <a:off x="6019920" y="5410080"/>
            <a:ext cx="25146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тайский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1" descr="5a307ddc2c50"/>
          <p:cNvPicPr/>
          <p:nvPr/>
        </p:nvPicPr>
        <p:blipFill>
          <a:blip r:embed="rId4"/>
          <a:stretch/>
        </p:blipFill>
        <p:spPr>
          <a:xfrm>
            <a:off x="457200" y="4114800"/>
            <a:ext cx="2514600" cy="1906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8" name="Text Box 22"/>
          <p:cNvSpPr/>
          <p:nvPr/>
        </p:nvSpPr>
        <p:spPr>
          <a:xfrm>
            <a:off x="457200" y="60199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нитт-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4" descr="luk2"/>
          <p:cNvPicPr/>
          <p:nvPr/>
        </p:nvPicPr>
        <p:blipFill>
          <a:blip r:embed="rId5"/>
          <a:stretch/>
        </p:blipFill>
        <p:spPr>
          <a:xfrm>
            <a:off x="3200400" y="4114800"/>
            <a:ext cx="2514600" cy="1886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70" name="Text Box 25"/>
          <p:cNvSpPr/>
          <p:nvPr/>
        </p:nvSpPr>
        <p:spPr>
          <a:xfrm>
            <a:off x="3124080" y="6095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истый 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 лука</a:t>
            </a:r>
            <a:br>
              <a:rPr sz="4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дит дед во сто шуб одет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то его раздевает, тот слёзы проливает.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роэлементы (калий, кальций, марганец, железо, ци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кроэлементы (кобальт, медь, фтор, йод, магний, натрий, фосф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тамины (витамин А, витами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итамин В6-каротин, витамин Е(токоферол), витамин С (аскорбиновая кислота), витамин В1 (тиамин), витамин В2 (рибофлавин), витамин В9 (фолиевая кислота), витамин РР (ниацин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ие вещества (вода, белки, моно- и дисахариды, клетчатка, крахмал, пектин, органические кислоты, зо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2" descr="img_2250"/>
          <p:cNvPicPr/>
          <p:nvPr/>
        </p:nvPicPr>
        <p:blipFill>
          <a:blip r:embed="rId1"/>
          <a:stretch/>
        </p:blipFill>
        <p:spPr>
          <a:xfrm>
            <a:off x="6172200" y="152280"/>
            <a:ext cx="2666880" cy="129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ук в народной медицине</a:t>
            </a:r>
            <a:br>
              <a:rPr sz="4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ук от семи недуг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человеку не были известны средства современной медицины, лук был незаменимым «лекарством» для простого на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 оказывает антисептическое, антимикробное, бактерицидное, противовоспалительное, антисклеротическое и противодиабетическое действие. Лук помогает бороться с низким давлением и содержит флавониды, препятствующие образованию раковых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ук в кулинарии</a:t>
            </a:r>
            <a:br>
              <a:rPr sz="4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ук добр и в бою, и во щах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к - излюбленная приправа к различным блюдам, он улучшает вкус пищи, способствует её усвоению. На Руси лук больше всего использовали бедные слои населения. Известна похлебка из хлеба и лука с добавлением растительного масла - "тюря". Древняя поговорка не зря гласит "Добрая еда - хлеб да луковиц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kotletki_0006_layer-4"/>
          <p:cNvPicPr/>
          <p:nvPr/>
        </p:nvPicPr>
        <p:blipFill>
          <a:blip r:embed="rId1"/>
          <a:stretch/>
        </p:blipFill>
        <p:spPr>
          <a:xfrm>
            <a:off x="295200" y="1384200"/>
            <a:ext cx="3657600" cy="2743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9" name="Picture 6" descr="perv-1"/>
          <p:cNvPicPr/>
          <p:nvPr/>
        </p:nvPicPr>
        <p:blipFill>
          <a:blip r:embed="rId2"/>
          <a:stretch/>
        </p:blipFill>
        <p:spPr>
          <a:xfrm>
            <a:off x="304920" y="4419720"/>
            <a:ext cx="4286160" cy="2271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1-01-22T07:38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