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3.jpeg" ContentType="image/jpeg"/>
  <Override PartName="/ppt/media/image3.png" ContentType="image/png"/>
  <Override PartName="/ppt/media/image26.png" ContentType="image/png"/>
  <Override PartName="/ppt/media/image27.jpeg" ContentType="image/jpeg"/>
  <Override PartName="/ppt/media/image10.png" ContentType="image/png"/>
  <Override PartName="/ppt/media/applause.wav" ContentType="audio/x-wav"/>
  <Override PartName="/ppt/media/image22.jpeg" ContentType="image/jpeg"/>
  <Override PartName="/ppt/media/image4.gif" ContentType="image/gif"/>
  <Override PartName="/ppt/media/image7.gif" ContentType="image/gif"/>
  <Override PartName="/ppt/media/image5.jpeg" ContentType="image/jpeg"/>
  <Override PartName="/ppt/media/image2.gif" ContentType="image/gif"/>
  <Override PartName="/ppt/media/image8.jpeg" ContentType="image/jpeg"/>
  <Override PartName="/ppt/media/image30.png" ContentType="image/png"/>
  <Override PartName="/ppt/media/image9.jpeg" ContentType="image/jpeg"/>
  <Override PartName="/ppt/media/image31.jpeg" ContentType="image/jpeg"/>
  <Override PartName="/ppt/media/image12.jpeg" ContentType="image/jpeg"/>
  <Override PartName="/ppt/media/image11.jpeg" ContentType="image/jpeg"/>
  <Override PartName="/ppt/media/image1.gif" ContentType="image/gif"/>
  <Override PartName="/ppt/media/image13.jpeg" ContentType="image/jpeg"/>
  <Override PartName="/ppt/media/image14.jpeg" ContentType="image/jpeg"/>
  <Override PartName="/ppt/media/image15.png" ContentType="image/png"/>
  <Override PartName="/ppt/media/image24.jpeg" ContentType="image/jpeg"/>
  <Override PartName="/ppt/media/image16.gif" ContentType="image/gif"/>
  <Override PartName="/ppt/media/image17.png" ContentType="image/png"/>
  <Override PartName="/ppt/media/image18.png" ContentType="image/png"/>
  <Override PartName="/ppt/media/image28.jpeg" ContentType="image/jpeg"/>
  <Override PartName="/ppt/media/image19.png" ContentType="image/png"/>
  <Override PartName="/ppt/media/image20.jpeg" ContentType="image/jpeg"/>
  <Override PartName="/ppt/media/image21.jpeg" ContentType="image/jpeg"/>
  <Override PartName="/ppt/media/image29.png" ContentType="image/png"/>
  <Override PartName="/ppt/media/image6.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F209-DC85-4163-AD25-C42D38787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6B42-C435-4CD5-B196-A99A50DD8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1DEF1-3FD0-4747-9F20-E5824C17A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CE59A-EA67-46DB-B4FF-257F191DB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BEF7-2096-46C1-BAC0-44A2409BF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B580A-9A76-4932-AB88-00E4B7CAC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EDDD-3BB3-4B9D-B8DC-228D43A6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43DD-81EB-47ED-8B49-EF4FA96E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2D73-6207-4BAE-A830-553F6B2B9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C31A-7B92-4335-8273-B3FE9B81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3EA2-8161-4679-9305-323410FC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A486-A1CB-4EFB-9D54-124DC9AE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4385-3B9B-4F83-8A37-279A6168F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audio" Target="../media/applause.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ru.wikipedia.org/wiki/The_King" TargetMode="Externa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325080" cy="6858000"/>
          </a:xfrm>
          <a:prstGeom prst="rect">
            <a:avLst/>
          </a:prstGeom>
          <a:ln w="0">
            <a:noFill/>
          </a:ln>
        </p:spPr>
      </p:pic>
      <p:pic>
        <p:nvPicPr>
          <p:cNvPr id="42" name="салю" descr=""/>
          <p:cNvPicPr/>
          <p:nvPr/>
        </p:nvPicPr>
        <p:blipFill>
          <a:blip r:embed="rId2"/>
          <a:stretch/>
        </p:blipFill>
        <p:spPr>
          <a:xfrm>
            <a:off x="0" y="0"/>
            <a:ext cx="9325080" cy="6878520"/>
          </a:xfrm>
          <a:prstGeom prst="rect">
            <a:avLst/>
          </a:prstGeom>
          <a:ln w="0">
            <a:noFill/>
          </a:ln>
        </p:spPr>
      </p:pic>
      <p:sp>
        <p:nvSpPr>
          <p:cNvPr id="43" name="PlaceHolder 1"/>
          <p:cNvSpPr>
            <a:spLocks noGrp="1"/>
          </p:cNvSpPr>
          <p:nvPr>
            <p:ph type="title"/>
          </p:nvPr>
        </p:nvSpPr>
        <p:spPr>
          <a:xfrm>
            <a:off x="900000" y="566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2000" spc="-1" strike="noStrike">
                <a:solidFill>
                  <a:srgbClr val="ffffff"/>
                </a:solidFill>
                <a:latin typeface="Arial"/>
              </a:rPr>
              <a:t>Автор:Махлюев Никита ученик 9 класса</a:t>
            </a:r>
            <a:endParaRPr b="0" lang="en-US" sz="20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3"/>
          <a:stretch/>
        </p:blipFill>
        <p:spPr>
          <a:xfrm>
            <a:off x="2484360" y="2781360"/>
            <a:ext cx="4967280" cy="3527280"/>
          </a:xfrm>
          <a:prstGeom prst="rect">
            <a:avLst/>
          </a:prstGeom>
          <a:ln w="0">
            <a:noFill/>
          </a:ln>
        </p:spPr>
      </p:pic>
      <p:sp>
        <p:nvSpPr>
          <p:cNvPr id="46" name=""/>
          <p:cNvSpPr txBox="1"/>
          <p:nvPr/>
        </p:nvSpPr>
        <p:spPr>
          <a:xfrm>
            <a:off x="1547640" y="0"/>
            <a:ext cx="6553440" cy="28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Monotype Corsiva"/>
              </a:rPr>
              <a:t>Король музыки </a:t>
            </a:r>
            <a:endParaRPr b="0" lang="en-US" sz="1600" spc="1" strike="noStrike">
              <a:ln w="9360">
                <a:solidFill>
                  <a:srgbClr val="000000"/>
                </a:solidFill>
                <a:miter/>
              </a:ln>
              <a:solidFill>
                <a:srgbClr val="ffffff"/>
              </a:soli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Monotype Corsiva"/>
              </a:rPr>
              <a:t>Элвис Пресли </a:t>
            </a:r>
            <a:endParaRPr b="0" lang="en-US" sz="1600" spc="1" strike="noStrike">
              <a:ln w="9360">
                <a:solidFill>
                  <a:srgbClr val="000000"/>
                </a:solidFill>
                <a:miter/>
              </a:ln>
              <a:solidFill>
                <a:srgbClr val="ffffff"/>
              </a:solidFill>
              <a:latin typeface="Monotype Corsiva"/>
              <a:ea typeface="Monotype Corsiva"/>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3000"/>
                                  </p:stCondLst>
                                  <p:childTnLst>
                                    <p:audio isNarration="0">
                                      <p:cMediaNode showWhenStopped="1">
                                        <p:cTn/>
                                        <p:tgtEl>
                                          <p:sndTgt r:embed="rId4" name="applause.wav"/>
                                        </p:tgtEl>
                                      </p:cMediaNode>
                                    </p:audio>
                                    <p:animScale>
                                      <p:cBhvr>
                                        <p:cTn id="6" dur="5000" fill="hold"/>
                                        <p:tgtEl>
                                          <p:spTgt spid="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3320"/>
          </a:xfrm>
          <a:prstGeom prst="rect">
            <a:avLst/>
          </a:prstGeom>
          <a:ln w="0">
            <a:noFill/>
          </a:ln>
        </p:spPr>
      </p:pic>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707040" y="259560"/>
            <a:ext cx="10684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Заложник киноиндустрии (1960—1968)</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 name=""/>
          <p:cNvSpPr/>
          <p:nvPr/>
        </p:nvSpPr>
        <p:spPr>
          <a:xfrm>
            <a:off x="684360" y="1343160"/>
            <a:ext cx="78800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марта 1960 года Элвис Пресли вернулся в Америку и 5 марта был демобилизован в звании сержанта. Сразу же начались записи в студии — певец ничего не записывал с июня 1958 года. Итогом стал вышедший через месяц альбом «Elvis Is Back!», занявший 2-е место и считающийся одной из лучших работ Пресли. Из Европы Элвис вывез неаполитанские песни: «O sole mio», «Sorrento», «La Paloma», которые музыкант перепел на английском. В течение 1960 года вышли новые синглы «Stuck On You», «It’s Now Or Never» («O sole mio») и «Are You Lonesome Tonight?», занявшие 1-е места в хит-парадах. Это не было рок-н-роллом; для всех стало очевидным изменение не только музыки, но и имиджа Пресли, шокировавшего своих поклонников появлением на телепередаче Фрэнка Синатры. Отныне его творчество адресовалось не столько любителям рок-н-ролла, сколько обычным слушателям популярной музыки. Кроме того, по плану Тома Паркера, акцент карьеры Пресли должен был переместиться в более прибыльную сферу кино, что, собственно, и произошло. Пресли перестал давать концерты, однако благодаря кино его могли увидеть несколько раз в год миллионы людей по всему миру.</a:t>
            </a:r>
            <a:endParaRPr b="0" lang="en-US" sz="1800" spc="-1" strike="noStrike">
              <a:solidFill>
                <a:srgbClr val="000000"/>
              </a:solidFill>
              <a:latin typeface="Arial"/>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908000" y="0"/>
            <a:ext cx="5343840" cy="6858000"/>
          </a:xfrm>
          <a:prstGeom prst="rect">
            <a:avLst/>
          </a:prstGeom>
          <a:ln w="0">
            <a:noFill/>
          </a:ln>
        </p:spPr>
      </p:pic>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0" y="-1440"/>
            <a:ext cx="9144000" cy="4971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00"/>
                </a:solidFill>
                <a:latin typeface="Arial"/>
              </a:rPr>
              <a:t> </a:t>
            </a:r>
            <a:r>
              <a:rPr b="1" lang="ru-RU" sz="4000" spc="-1" strike="noStrike">
                <a:solidFill>
                  <a:srgbClr val="ffffff"/>
                </a:solidFill>
                <a:latin typeface="Monotype Corsiva"/>
              </a:rPr>
              <a:t>Встреча с «Битлз»</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К середине 1960-х гг. битломания стала также явлением американской жизни. В свой первый приезд в Америку в начале 1964 года The Beatles были приветствованы в прямом эфире шоу Эда Салливана телеграммой от Пресли. С того самого момента начались попытки устроить встречу между «ливерпульской четвёркой» и идолом их юности. Наконец, 27 августа 1965 года встреча состоялась в доме Пресли в Калифорнии. Всё мероприятие было проведено в строжайшей тайне: никаких фотографий, пресс-релизов и т. п. Музыканты обменялись подарками, и спустя час были поглощены игрой на гитарах (The Beatles</a:t>
            </a:r>
            <a:r>
              <a:rPr b="0" lang="en-US" sz="2000" spc="-1" strike="noStrike">
                <a:solidFill>
                  <a:srgbClr val="ffcc00"/>
                </a:solidFill>
                <a:latin typeface="Arial"/>
              </a:rPr>
              <a:t>)</a:t>
            </a:r>
            <a:r>
              <a:rPr b="0" lang="ru-RU" sz="2000" spc="-1" strike="noStrike">
                <a:solidFill>
                  <a:srgbClr val="ffcc00"/>
                </a:solidFill>
                <a:latin typeface="Arial"/>
              </a:rPr>
              <a:t> с удивлением обнаружили, что в то время Пресли увлекался игрой на бас-гитаре). Маккартни позже вспоминал, что впервые увидел пульт дистанционного управления телевизором в доме у Пресли.</a:t>
            </a:r>
            <a:endParaRPr b="0" lang="en-US" sz="2000" spc="-1" strike="noStrike">
              <a:solidFill>
                <a:srgbClr val="000000"/>
              </a:solidFill>
              <a:latin typeface="Arial"/>
            </a:endParaRPr>
          </a:p>
        </p:txBody>
      </p:sp>
      <p:pic>
        <p:nvPicPr>
          <p:cNvPr id="85" name="Picture 7" descr="B_Fly11"/>
          <p:cNvPicPr/>
          <p:nvPr/>
        </p:nvPicPr>
        <p:blipFill>
          <a:blip r:embed="rId1"/>
          <a:stretch/>
        </p:blipFill>
        <p:spPr>
          <a:xfrm>
            <a:off x="5219640" y="4881600"/>
            <a:ext cx="2160720" cy="1976400"/>
          </a:xfrm>
          <a:prstGeom prst="rect">
            <a:avLst/>
          </a:prstGeom>
          <a:ln w="0">
            <a:noFill/>
          </a:ln>
        </p:spPr>
      </p:pic>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06440" y="-1080"/>
            <a:ext cx="87213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Monotype Corsiva"/>
              </a:rPr>
              <a:t>Последние годы (1973—1977</a:t>
            </a:r>
            <a:r>
              <a:rPr b="1" lang="en-US" sz="4400" spc="-1" strike="noStrike">
                <a:solidFill>
                  <a:srgbClr val="ffffff"/>
                </a:solidFill>
                <a:latin typeface="Monotype Corsiva"/>
              </a:rPr>
              <a:t>)</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90" name=""/>
          <p:cNvSpPr/>
          <p:nvPr/>
        </p:nvSpPr>
        <p:spPr>
          <a:xfrm>
            <a:off x="395280" y="930240"/>
            <a:ext cx="8312040" cy="512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Проблемы со здоровье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рез несколько недель после гавайского концерта Пресли отыгрывал свой восьмой сезон в Лас-Вегасе, в течение которого певцу впервые пришлось пропустить несколько выступлений. Стали давать знать о себе накопившиеся проблемы со здоровьем. Уже на протяжении многих лет Элвис Пресли был зависим от официально прописываемых лекарств, которые стали для него наркотиками. Изначально всё началось с армейских дней, когда музыкант и его окружение принимали лекарства, чтобы иметь возможность проводить свободные ночи напролёт. Затем стали требоваться лекарства, чтобы можно было уснуть. Зависимость же начала развиваться по возвращении из армии в Голливуд с его вечеринками и ночной жизнью. Пресли стал также употреблять лекарства, направленные на потерю веса, — чтобы поддерживать форму для фильмов и позже — для гастролей. Плотный график сезонных выступлений в Лас-Вегасе (два концерта в день, в полдень и полночь, в течение 4 недель) также не располагал к естественному расслаблению: требовались лекарства, чтобы успокоиться после возбуждения от выступления, затем чтобы вновь обрести бодрость</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765000"/>
            <a:ext cx="9144000" cy="5229360"/>
          </a:xfrm>
          <a:prstGeom prst="rect">
            <a:avLst/>
          </a:prstGeom>
          <a:ln w="0">
            <a:noFill/>
          </a:ln>
        </p:spPr>
      </p:pic>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0" y="514440"/>
            <a:ext cx="9144000" cy="582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Концерт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смотря на все эти проблемы Элвис Пресли неустанно выступал на сцене: с 1969 по 1977 гг. им было дано около 1100 концертов в США. Его сезонные шоу в Лас-Вегасе всё так же продолжались, хотя самому музыканту они, очевидно, наскучили после первых двух-трёх лет, что отражалось на выступлениях: Пресли зачастую быстро пропевал свой репертуар, состоящий из старых хитов и немногих новых песен, при этом он более охотно вёл всё более увеличивающиеся монологи разнообразного характера (от рассказов о истории покупки бриллиантов до рассуждений о Библии). Качество концертов целиком зависело от настроения певца. В 1976 году сезонный контракт в Лас-Вегасе был прерван (Пресли выступил лишь в декабре 1976 г. на свободной основе). Несмотря на то, что записи Пресли всё реже попадали в хит-парады, на концертах был полный аншлаг. Поэтому, несмотря на всё более частые холодные рецензии в прессе, любое его турне было гарантированным успехом, что привело Пресли к финансовой и психологической зависимости от гастролей, которые следовали одни за другими, часто лишая певца необходимого отдыха.</a:t>
            </a:r>
            <a:endParaRPr b="0" lang="en-US" sz="2000" spc="-1" strike="noStrike">
              <a:solidFill>
                <a:srgbClr val="000000"/>
              </a:solidFill>
              <a:latin typeface="Arial"/>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916360" y="3573360"/>
            <a:ext cx="718920" cy="719280"/>
          </a:xfrm>
          <a:prstGeom prst="rect">
            <a:avLst/>
          </a:prstGeom>
          <a:ln w="0">
            <a:noFill/>
          </a:ln>
        </p:spPr>
      </p:pic>
      <p:pic>
        <p:nvPicPr>
          <p:cNvPr id="94" name="" descr="Картинка 1 из 6767"/>
          <p:cNvPicPr/>
          <p:nvPr/>
        </p:nvPicPr>
        <p:blipFill>
          <a:blip r:embed="rId2"/>
          <a:stretch/>
        </p:blipFill>
        <p:spPr>
          <a:xfrm>
            <a:off x="1332000" y="0"/>
            <a:ext cx="6754680" cy="6858000"/>
          </a:xfrm>
          <a:prstGeom prst="rect">
            <a:avLst/>
          </a:prstGeom>
          <a:ln w="0">
            <a:noFill/>
          </a:ln>
        </p:spPr>
      </p:pic>
      <p:sp>
        <p:nvSpPr>
          <p:cNvPr id="95" name=""/>
          <p:cNvSpPr txBox="1"/>
          <p:nvPr/>
        </p:nvSpPr>
        <p:spPr>
          <a:xfrm>
            <a:off x="1403280" y="115920"/>
            <a:ext cx="72010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Песня Элвиса Пресл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96" name=""/>
          <p:cNvSpPr/>
          <p:nvPr/>
        </p:nvSpPr>
        <p:spPr>
          <a:xfrm>
            <a:off x="1692360" y="6216480"/>
            <a:ext cx="58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 lo nesome tonig</a:t>
            </a:r>
            <a:endParaRPr b="0" lang="en-US" sz="3600" spc="-1" strike="noStrike">
              <a:solidFill>
                <a:srgbClr val="000000"/>
              </a:solidFill>
              <a:latin typeface="Arial"/>
            </a:endParaRPr>
          </a:p>
        </p:txBody>
      </p:sp>
    </p:spTree>
  </p:cSld>
  <p:transition spd="med">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Картинка 28 из 297"/>
          <p:cNvPicPr/>
          <p:nvPr/>
        </p:nvPicPr>
        <p:blipFill>
          <a:blip r:embed="rId1"/>
          <a:stretch/>
        </p:blipFill>
        <p:spPr>
          <a:xfrm>
            <a:off x="0" y="0"/>
            <a:ext cx="9144000" cy="6862680"/>
          </a:xfrm>
          <a:prstGeom prst="rect">
            <a:avLst/>
          </a:prstGeom>
          <a:ln w="0">
            <a:noFill/>
          </a:ln>
        </p:spPr>
      </p:pic>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116000" y="0"/>
            <a:ext cx="7058160" cy="2775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Monotype Corsiva"/>
              </a:rPr>
              <a:t>Детство</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
        <p:nvSpPr>
          <p:cNvPr id="48" name=""/>
          <p:cNvSpPr/>
          <p:nvPr/>
        </p:nvSpPr>
        <p:spPr>
          <a:xfrm>
            <a:off x="250920" y="2069640"/>
            <a:ext cx="540072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00"/>
                </a:solidFill>
                <a:latin typeface="Arial"/>
              </a:rPr>
              <a:t>Элвис Пресли родился 8 января 1935 года в Тьюпело, шт. Миссисипи, в семье Вернона и Глэдис Пресли (близнец Элвиса — Джесс Гарон — умер во время родов). Семья Пресли была довольно бедная; положение усугубилось, когда отец будущего певца попал в тюрьму по обвинению в подделке чеков в 1938 году (он был освобождён лишь через два года). Элвис с детства рос в окружении музыки и религии: непременным было посещение церкви и участие в церковном хоре. Мать Пресли особенно следила за манерами сына, привив тому на всю жизнь исключительную вежливость и почтение к старшим. На своё одиннадцатилетие Элвис получил в подарок гитару, — взамен велосипеда, который семья не могла себе позволить. Вероятно, на такой выбор повлиял первый музыкальный успех Элвиса — за несколько месяцев до того он получил приз на ярмарке за исполнение народной песни «Old Shep».</a:t>
            </a:r>
            <a:endParaRPr b="0" lang="en-US" sz="1600" spc="-1" strike="noStrike">
              <a:solidFill>
                <a:srgbClr val="000000"/>
              </a:solidFill>
              <a:latin typeface="Arial"/>
            </a:endParaRPr>
          </a:p>
        </p:txBody>
      </p:sp>
      <p:pic>
        <p:nvPicPr>
          <p:cNvPr id="49" name="Picture 6" descr="C:\Documents and Settings\Kate\Рабочий стол\EtatsUnis.gif"/>
          <p:cNvPicPr/>
          <p:nvPr/>
        </p:nvPicPr>
        <p:blipFill>
          <a:blip r:embed="rId1"/>
          <a:stretch/>
        </p:blipFill>
        <p:spPr>
          <a:xfrm>
            <a:off x="6443640" y="2133720"/>
            <a:ext cx="2305080" cy="1338120"/>
          </a:xfrm>
          <a:prstGeom prst="rect">
            <a:avLst/>
          </a:prstGeom>
          <a:ln w="0">
            <a:noFill/>
          </a:ln>
        </p:spPr>
      </p:pic>
      <p:pic>
        <p:nvPicPr>
          <p:cNvPr id="50" name="" descr=""/>
          <p:cNvPicPr/>
          <p:nvPr/>
        </p:nvPicPr>
        <p:blipFill>
          <a:blip r:embed="rId2"/>
          <a:stretch/>
        </p:blipFill>
        <p:spPr>
          <a:xfrm>
            <a:off x="5796000" y="4481640"/>
            <a:ext cx="3348000" cy="2376360"/>
          </a:xfrm>
          <a:prstGeom prst="rect">
            <a:avLst/>
          </a:prstGeom>
          <a:ln w="0">
            <a:noFill/>
          </a:ln>
        </p:spPr>
      </p:pic>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Картинка 17 из 297"/>
          <p:cNvPicPr/>
          <p:nvPr/>
        </p:nvPicPr>
        <p:blipFill>
          <a:blip r:embed="rId1"/>
          <a:stretch/>
        </p:blipFill>
        <p:spPr>
          <a:xfrm>
            <a:off x="1908000" y="0"/>
            <a:ext cx="5007240" cy="6858000"/>
          </a:xfrm>
          <a:prstGeom prst="rect">
            <a:avLst/>
          </a:prstGeom>
          <a:ln w="0">
            <a:noFill/>
          </a:ln>
        </p:spPr>
      </p:pic>
    </p:spTree>
  </p:cSld>
  <p:transition spd="med">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Картинка 22 из 297"/>
          <p:cNvPicPr/>
          <p:nvPr/>
        </p:nvPicPr>
        <p:blipFill>
          <a:blip r:embed="rId1"/>
          <a:stretch/>
        </p:blipFill>
        <p:spPr>
          <a:xfrm>
            <a:off x="2484360" y="0"/>
            <a:ext cx="4508640" cy="6858000"/>
          </a:xfrm>
          <a:prstGeom prst="rect">
            <a:avLst/>
          </a:prstGeom>
          <a:ln w="0">
            <a:noFill/>
          </a:ln>
        </p:spPr>
      </p:pic>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Картинка 25 из 297"/>
          <p:cNvPicPr/>
          <p:nvPr/>
        </p:nvPicPr>
        <p:blipFill>
          <a:blip r:embed="rId1"/>
          <a:stretch/>
        </p:blipFill>
        <p:spPr>
          <a:xfrm>
            <a:off x="1187280" y="0"/>
            <a:ext cx="6877080" cy="6877080"/>
          </a:xfrm>
          <a:prstGeom prst="rect">
            <a:avLst/>
          </a:prstGeom>
          <a:ln w="0">
            <a:noFill/>
          </a:ln>
        </p:spPr>
      </p:pic>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Картинка 37 из 297"/>
          <p:cNvPicPr/>
          <p:nvPr/>
        </p:nvPicPr>
        <p:blipFill>
          <a:blip r:embed="rId1"/>
          <a:stretch/>
        </p:blipFill>
        <p:spPr>
          <a:xfrm>
            <a:off x="0" y="0"/>
            <a:ext cx="9144000" cy="6858000"/>
          </a:xfrm>
          <a:prstGeom prst="rect">
            <a:avLst/>
          </a:prstGeom>
          <a:ln w="0">
            <a:noFill/>
          </a:ln>
        </p:spPr>
      </p:pic>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116000" y="0"/>
            <a:ext cx="6948360" cy="6918480"/>
          </a:xfrm>
          <a:prstGeom prst="rect">
            <a:avLst/>
          </a:prstGeom>
          <a:ln w="0">
            <a:noFill/>
          </a:ln>
        </p:spPr>
      </p:pic>
    </p:spTree>
  </p:cSld>
  <p:transition spd="med">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206280" y="301680"/>
            <a:ext cx="8937720" cy="61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Новые альбом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середине 1970-х гг. для RCA Records стала очевидной апатия Пресли к записям в студии. После студийных «марафонов» 1969—71 гг. певец резко снизил регулярность записей новых песен. Снизилась и продолжительность сессий: Пресли лишь пел под сопровождение небольшой группы (без него затем накладывались подпевки, оркестр и т. п.), количество дублей было минимальным, записи прерывались по любому поводу. Ситуация была схожа с 60-ми гг.: тогда Пресли концентрировал всё внимание на кинокарьере и почти ничего кроме кинопесен не записывал, теперь такой же акцент был перенесён на гастроли. RCA были вынуждены искать новые пути для маркетирования певца. Начались многочисленные, прежде нехарактерные издания сборников, концертов, коллекционных пластинок. Новые студийные записи предусмотрительно лежали на полках и выходили лишь, когда становилось очевидным, что певец будет записывать новый материал, или наоборот когда новых пластинок уже катастрофически не хватало. В 1973—75 гг. вышли альбомы «Raised On Rock» (1973), «Good Times» (1974), «Promised Land» (1975), «Today» (1975) — все состоявшие в большинстве своём из поп-баллад и песен в стиле кантри.</a:t>
            </a:r>
            <a:endParaRPr b="0" lang="en-US" sz="2000" spc="-1" strike="noStrike">
              <a:solidFill>
                <a:srgbClr val="000000"/>
              </a:solidFill>
              <a:latin typeface="Arial"/>
            </a:endParaRPr>
          </a:p>
        </p:txBody>
      </p:sp>
    </p:spTree>
  </p:cSld>
  <p:transition spd="med">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71640" y="0"/>
            <a:ext cx="7020000" cy="6915240"/>
          </a:xfrm>
          <a:prstGeom prst="rect">
            <a:avLst/>
          </a:prstGeom>
          <a:ln w="0">
            <a:noFill/>
          </a:ln>
        </p:spPr>
      </p:pic>
    </p:spTree>
  </p:cSld>
  <p:transition spd="med">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magnify-clip" descr=""/>
          <p:cNvPicPr/>
          <p:nvPr/>
        </p:nvPicPr>
        <p:blipFill>
          <a:blip r:embed="rId1"/>
          <a:stretch/>
        </p:blipFill>
        <p:spPr>
          <a:xfrm>
            <a:off x="-4614840" y="4118040"/>
            <a:ext cx="142920" cy="104760"/>
          </a:xfrm>
          <a:prstGeom prst="rect">
            <a:avLst/>
          </a:prstGeom>
          <a:ln w="0">
            <a:noFill/>
          </a:ln>
        </p:spPr>
      </p:pic>
      <p:sp>
        <p:nvSpPr>
          <p:cNvPr id="106" name=""/>
          <p:cNvSpPr/>
          <p:nvPr/>
        </p:nvSpPr>
        <p:spPr>
          <a:xfrm>
            <a:off x="-235080" y="20880"/>
            <a:ext cx="565020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ea typeface="Times New Roman"/>
              </a:rPr>
              <a:t>Последние гастрол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p:nvPr/>
        </p:nvSpPr>
        <p:spPr>
          <a:xfrm>
            <a:off x="-4614840" y="411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1277640"/>
            <a:ext cx="9144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о время исполнения «Unchained Melody» 21 июня 1977 го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сю зиму и весну 1977 года Элвис Пресли активно гастролировал по Америке. В апреле его выступления неожиданно прервались из-за вынужденной госпитализации. Выписавшись из мемфисской больницы, Пресли вновь отправился в одно мини-турне за другим. Именно в это время Том Паркер вёл переговоры с «Си-би-эс» о съёмках нового телешоу, составленного из записей с концертов. Режиссёров, отснявших первые пробы, выступления Пресли привели в недоумение: перед ними была поставлена задача запечатлеть малоподвижную ныне фигуру Пресли, равнодушное большей частью пение и общий болезненный облик певца, к тому времени также значительно набравшего вес. Съёмки, тем не менее, были назначены на 19 июня 1977 года в Омахе. Выступление было вялым и мало подходило для масштабного телешоу. Однако его более-менее компенсировал второй концерт в Рапид-Сити 21 июня, на котором Пресли был явно в хорошем настроении и полон энергии. Возможно, эти выступления не увидели бы свет, если бы не последовавшая вскоре смерть Пресли: со времени телетрансляции шоу «Элвис на концерте» в октябре 1977 года компания Пресли неоднократно подтверждает своё нежелание выхода этих телесъёмок на видео, ссылаясь на возможный вред имиджу «короля рок-н-ролла» со стороны СМИ</a:t>
            </a:r>
            <a:r>
              <a:rPr b="0" lang="ru-RU" sz="2000" spc="-1" strike="noStrike" u="sng" baseline="30000">
                <a:solidFill>
                  <a:srgbClr val="009999"/>
                </a:solidFill>
                <a:uFillTx/>
                <a:latin typeface="Times New Roman"/>
                <a:ea typeface="Times New Roman"/>
                <a:hlinkClick r:id="rId2"/>
              </a:rPr>
              <a:t>[12]</a:t>
            </a:r>
            <a:r>
              <a:rPr b="0" lang="ru-RU"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pic>
        <p:nvPicPr>
          <p:cNvPr id="109" name="Picture 6" descr="C:\Documents and Settings\Kate\Рабочий стол\EtatsUnis.gif"/>
          <p:cNvPicPr/>
          <p:nvPr/>
        </p:nvPicPr>
        <p:blipFill>
          <a:blip r:embed="rId3"/>
          <a:stretch/>
        </p:blipFill>
        <p:spPr>
          <a:xfrm>
            <a:off x="6877080" y="189000"/>
            <a:ext cx="1944720" cy="1128600"/>
          </a:xfrm>
          <a:prstGeom prst="rect">
            <a:avLst/>
          </a:prstGeom>
          <a:ln w="0">
            <a:noFill/>
          </a:ln>
        </p:spPr>
      </p:pic>
    </p:spTree>
  </p:cSld>
  <p:transition spd="med">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300px-Presley1977cbs" descr=""/>
          <p:cNvPicPr/>
          <p:nvPr/>
        </p:nvPicPr>
        <p:blipFill>
          <a:blip r:embed="rId1"/>
          <a:stretch/>
        </p:blipFill>
        <p:spPr>
          <a:xfrm>
            <a:off x="0" y="189000"/>
            <a:ext cx="9144000" cy="6735600"/>
          </a:xfrm>
          <a:prstGeom prst="rect">
            <a:avLst/>
          </a:prstGeom>
          <a:ln w="0">
            <a:noFill/>
          </a:ln>
        </p:spPr>
      </p:pic>
    </p:spTree>
  </p:cSld>
  <p:transition spd="med">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0" y="146880"/>
            <a:ext cx="9144000" cy="661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Monotype Corsiva"/>
              </a:rPr>
              <a:t>Смерть</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6 августа 1977 года Пресли, как обычно, приехал в своё поместье глубоко за полночь, вернувшись от зубного врача. Остаток ночи был проведён в разговорах о предстоящих через два дня гастролях, о книге его телохранителей, о планах помолвки с его новой подругой Джинджер Олден. Утром Пресли принял дозу успокаивающих лекарств, однако спустя несколько часов, не имея возможности заснуть, принял ещё одну дозу, в данном случае, видимо, оказавшуюся критической. После этого он провёл какое-то время, читая книги в ванной комнате, устроенной на манер будуара. Около 2 часов дня, 16 августа, Олден, проснувшись и не обнаружив Элвиса в постели, пошла в ванную комнату, где нашла его бездыханное тело на полу. Срочно была вызвана «скорая помощь», доставившая Пресли в реанимацию, хотя было очевидно, что все усилия напрасны. В четыре часа дня было сделано официальное заявление о смерти — по причине сердечной недостаточности, — однако вскрытие затем показало, что причиной остановки сердца стала именно чрезмерная доза различных медикаментов (по другим данным — наркотиков; тем не менее, вследствие полузасекреченного характера расследования существует также множество других версий смерти наравне с популярной легендой, что певец до сих пор жив. После заявления о смерти, сразу же стали собираться тысячные толпы поклонников у ограды «Грейсленда». Пресли был похоронен 18 августа на кладбище, несколько месяцев спустя его прах был перенесён в «Грейсленд» после попытки взлома его гроба людьми, желавшими проверить, действительно ли «король рок-н-ролла» умер.</a:t>
            </a:r>
            <a:endParaRPr b="0" lang="en-US" sz="1800" spc="-1" strike="noStrike">
              <a:solidFill>
                <a:srgbClr val="000000"/>
              </a:solidFill>
              <a:latin typeface="Arial"/>
            </a:endParaRPr>
          </a:p>
        </p:txBody>
      </p:sp>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866880"/>
            <a:ext cx="9144000" cy="457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Monotype Corsiva"/>
              </a:rPr>
              <a:t>В Мемфисе</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ентябре 1948 года семья Пресли была вынуждена переехать в Мемфис (шт. Теннеси) где было больше возможностей для отца Пресли найти работу. Именно в Мемфисе Элвис начал более осознанно интересоваться современной музыкой, по радио он слушал кантри, традиционную эстраду, а также передачи с негритянской музыкой (блюз, буги-вуги, ритм-н-блюз). Он также часто посещал кварталы Биль-стрит в Мемфисе, где воочию наблюдал игру чёрных блюзменов (так, например, Би Би Кинг знал Пресли когда тот ещё был подростком) и бродил по негритянским магазинам, под влиянием которых у Элвиса выработался свой, ярко выделявший его стиль одежды.</a:t>
            </a:r>
            <a:endParaRPr b="0" lang="en-US" sz="1800" spc="-1" strike="noStrike">
              <a:solidFill>
                <a:srgbClr val="000000"/>
              </a:solidFill>
              <a:latin typeface="Arial"/>
            </a:endParaRPr>
          </a:p>
        </p:txBody>
      </p:sp>
      <p:pic>
        <p:nvPicPr>
          <p:cNvPr id="52" name="" descr=""/>
          <p:cNvPicPr/>
          <p:nvPr/>
        </p:nvPicPr>
        <p:blipFill>
          <a:blip r:embed="rId1"/>
          <a:stretch/>
        </p:blipFill>
        <p:spPr>
          <a:xfrm>
            <a:off x="3059280" y="3914640"/>
            <a:ext cx="3313080" cy="2943360"/>
          </a:xfrm>
          <a:prstGeom prst="rect">
            <a:avLst/>
          </a:prstGeom>
          <a:ln w="76320">
            <a:solidFill>
              <a:srgbClr val="ff6600"/>
            </a:solidFill>
            <a:miter/>
          </a:ln>
        </p:spPr>
      </p:pic>
      <p:pic>
        <p:nvPicPr>
          <p:cNvPr id="53" name="Picture 13" descr="2f1"/>
          <p:cNvPicPr/>
          <p:nvPr/>
        </p:nvPicPr>
        <p:blipFill>
          <a:blip r:embed="rId2"/>
          <a:stretch/>
        </p:blipFill>
        <p:spPr>
          <a:xfrm>
            <a:off x="6443640" y="5099040"/>
            <a:ext cx="2124000" cy="1758960"/>
          </a:xfrm>
          <a:prstGeom prst="rect">
            <a:avLst/>
          </a:prstGeom>
          <a:ln w="0">
            <a:noFill/>
          </a:ln>
        </p:spPr>
      </p:pic>
      <p:pic>
        <p:nvPicPr>
          <p:cNvPr id="54" name="Picture 17" descr="2F4"/>
          <p:cNvPicPr/>
          <p:nvPr/>
        </p:nvPicPr>
        <p:blipFill>
          <a:blip r:embed="rId3"/>
          <a:stretch/>
        </p:blipFill>
        <p:spPr>
          <a:xfrm>
            <a:off x="1116000" y="5086440"/>
            <a:ext cx="1800360" cy="1771560"/>
          </a:xfrm>
          <a:prstGeom prst="rect">
            <a:avLst/>
          </a:prstGeom>
          <a:ln w="0">
            <a:noFill/>
          </a:ln>
        </p:spPr>
      </p:pic>
    </p:spTree>
  </p:cSld>
  <p:transition spd="med">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55640" y="690840"/>
            <a:ext cx="8075520" cy="524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Посмертная слава</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лвис Пресли вот уже более 30 лет остаётся одним из самых известных личностей мировой поп-культуры. В Америке он давно вошёл в повседневную жизнь обывателей, наравне с президентами и спортсменами. Шутки, ассоциации, намёки, открытые пародии и т. п. стали неотъемлемым явлением американской индустрии развлечений. Снято множество кино- и телефильмов, как биографических, так и имеющих лишь косвенное отношение к самой жизни Пресли, издано ещё большее количество книг (включая энциклопедии и кулинарные). Процветает обширная индустрия имитаторов Пресли по всему миру (при этом они, как правило, используют наиболее узнаваемый образ Пресли 70-х гг.). Его поместье «Грейсленд» является вторым в США после Белого дома местом по посещаемости (600 тысяч человек в год).</a:t>
            </a:r>
            <a:endParaRPr b="0" lang="en-US" sz="2000" spc="-1" strike="noStrike">
              <a:solidFill>
                <a:srgbClr val="000000"/>
              </a:solidFill>
              <a:latin typeface="Arial"/>
            </a:endParaRPr>
          </a:p>
        </p:txBody>
      </p:sp>
    </p:spTree>
  </p:cSld>
  <p:transition spd="med">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042920" y="0"/>
            <a:ext cx="7380360" cy="6881760"/>
          </a:xfrm>
          <a:prstGeom prst="rect">
            <a:avLst/>
          </a:prstGeom>
          <a:ln w="0">
            <a:noFill/>
          </a:ln>
        </p:spPr>
      </p:pic>
    </p:spTree>
  </p:cSld>
  <p:transition spd="med">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40000" y="0"/>
            <a:ext cx="5025960" cy="6858000"/>
          </a:xfrm>
          <a:prstGeom prst="rect">
            <a:avLst/>
          </a:prstGeom>
          <a:ln w="0">
            <a:noFill/>
          </a:ln>
        </p:spPr>
      </p:pic>
    </p:spTree>
  </p:cSld>
  <p:transition spd="med">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50920" y="437400"/>
            <a:ext cx="8497800" cy="6281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Интересные факт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рождении Элвису было дано второе имя Арон, чтобы сделать его похожим на имя мертворождённого брата Гарона, но на могиле было высечено имя Аарон по настоянию отца, потому что Элвис предпочитал библейское произношение и планировал официально сменить имя. Полное имя, официально использующееся в настоящее время его компанией — Элвис Аарон Пресли. Однако, до середины 70-х гг. Пресли сам всегда писал своё имя с одной А. (более того, свидетельство о рождении было исправлено по настоянию родителей, Мать Пресли снялась в массовке в фильме «Любить тебя» (1957). После её смерти Пресли ни разу не пересматривал филь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сли снялся только в одном рекламном ролике для «Southern Maid Doughnuts», который шёл в 1954 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сли стремился сняться в серьёзных драматических кинофильмах и при своей жизни получал подобные предложения, которые всякий раз отвергались его импрессарио. Некоторые из отвергнутых фильмов: мюзикл «Вестсайдская история» (1961; роль Тони получил Ричард Беймер); «Запоздалый блюз» (1962; роль получил Бобби Даррин), «Сладкоголосая птица юности» (1962; роль получил Пол Ньюман), «Рождение звезды» (1975; роль получил Крис Кристоферс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н был натуральным тёмным блондином, но перекрасил волосы в чёрный цвет.</a:t>
            </a:r>
            <a:endParaRPr b="0" lang="en-US" sz="1800" spc="-1" strike="noStrike">
              <a:solidFill>
                <a:srgbClr val="000000"/>
              </a:solidFill>
              <a:latin typeface="Arial"/>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39600"/>
            <a:ext cx="9144000" cy="6818400"/>
          </a:xfrm>
          <a:prstGeom prst="rect">
            <a:avLst/>
          </a:prstGeom>
          <a:ln w="0">
            <a:noFill/>
          </a:ln>
        </p:spPr>
      </p:pic>
    </p:spTree>
  </p:cSld>
  <p:transition spd="med">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340000" y="0"/>
            <a:ext cx="4937040" cy="6858000"/>
          </a:xfrm>
          <a:prstGeom prst="rect">
            <a:avLst/>
          </a:prstGeom>
          <a:ln w="0">
            <a:noFill/>
          </a:ln>
        </p:spPr>
      </p:pic>
      <p:sp>
        <p:nvSpPr>
          <p:cNvPr id="124" name=""/>
          <p:cNvSpPr txBox="1"/>
          <p:nvPr/>
        </p:nvSpPr>
        <p:spPr>
          <a:xfrm>
            <a:off x="0" y="0"/>
            <a:ext cx="914400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Элвис Пресли - действительно</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король музыки!</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404640"/>
            <a:ext cx="9144000" cy="588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Окончив школу летом 1953 года, 18-летний Пресли устроился работать водителем грузовика. Именно тогда он решил зайти в звукозаписывающую студию, принадлежавшую Сэму Филипсу, и за восемь долларов записать под гитару пару песен. Отпечатанная в одном экземпляре двухсторонняя пластинка с песнями «My Happiness» и «That’s When My Heartache Begins» была формально запоздалым подарком матери Пресли, хотя подлинной причиной такого шага было желание Пресли услышать свой голос в записи. К тому времени он уже определённо хотел стать музыкантом, но не знал в каком жанре — исполнять ли госпел и церковные гимны или играть кантри. Он также успел, несколькими месяцами ранее, выступить в клубе и на нескольких любительских концертах. Секретарь студии Филлипса записала данные Пресли, показавшегося ей любопытным (на вопрос, к какому исполнителю наиболее близко его пение, Пресли ответил, что «такого нет»). Пресли попросил её позвонить ему, как только фирме Филлипса, у которого был свой лейбл </a:t>
            </a:r>
            <a:r>
              <a:rPr b="0" lang="en-US" sz="2000" spc="-1" strike="noStrike">
                <a:solidFill>
                  <a:srgbClr val="99cc00"/>
                </a:solidFill>
                <a:latin typeface="Arial"/>
              </a:rPr>
              <a:t>Sun Records</a:t>
            </a:r>
            <a:r>
              <a:rPr b="0" lang="ru-RU" sz="2000" spc="-1" strike="noStrike">
                <a:solidFill>
                  <a:srgbClr val="99cc00"/>
                </a:solidFill>
                <a:latin typeface="Arial"/>
              </a:rPr>
              <a:t>, потребуется певец. После этого он неоднократно останавливался в конторе студии, в надежде получить работу (для себя Пресли записал ещё одну пластинку в начале 1954 года).</a:t>
            </a:r>
            <a:endParaRPr b="0" lang="en-US" sz="2000" spc="-1" strike="noStrike">
              <a:solidFill>
                <a:srgbClr val="000000"/>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05280" y="-360"/>
            <a:ext cx="8881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Monotype Corsiva"/>
              </a:rPr>
              <a:t>Записи для Sun Records (1954—1955</a:t>
            </a:r>
            <a:r>
              <a:rPr b="1" lang="ru-RU" sz="3600" spc="-1" strike="noStrike">
                <a:solidFill>
                  <a:srgbClr val="ffffff"/>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0" y="909000"/>
            <a:ext cx="91440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июне 1954 года Сэм Филипс задумал записать несколько песен для Sun Records и для этого пригласил знакомых ему гитариста Скотти Мура и контрабасиста Билла Блэка. В поисках вокалиста, он решил попробовать, по напоминанию своего секретаря, Элвиса Пресли. Поначалу ничего выразительного не выходило, репетиции тем не менее продолжались в студии несколько недель. 5 июля музыканты на перерыве после записи баллады «I Love You Because» стали наигрывать «That’s All Right (Mama)». Это была блюзовая композиция Артура Крудапа, однако Пресли, Мур и Блэк придали ей неожиданный ритм. Услышавший игру в студии, Филлипс спросил музыкантов, что они играют. Те признались, что сами не знают. Филлипс попросил их повторить то же самое и записал песню. Аналогичным образом была записана следом «Blue Moon Of Kentucky», блюграссовый хит Билла Монро. Так родилось то звучание, которое искали Сэм Филлипс и сам Пресли.</a:t>
            </a:r>
            <a:endParaRPr b="0" lang="en-US" sz="1800" spc="-1" strike="noStrike">
              <a:solidFill>
                <a:srgbClr val="000000"/>
              </a:solidFill>
              <a:latin typeface="Arial"/>
            </a:endParaRPr>
          </a:p>
        </p:txBody>
      </p:sp>
      <p:pic>
        <p:nvPicPr>
          <p:cNvPr id="61" name="200px-Elvis_Sun" descr=""/>
          <p:cNvPicPr/>
          <p:nvPr/>
        </p:nvPicPr>
        <p:blipFill>
          <a:blip r:embed="rId1"/>
          <a:stretch/>
        </p:blipFill>
        <p:spPr>
          <a:xfrm>
            <a:off x="4500720" y="4365720"/>
            <a:ext cx="2338200" cy="2349360"/>
          </a:xfrm>
          <a:prstGeom prst="rect">
            <a:avLst/>
          </a:prstGeom>
          <a:ln w="0">
            <a:noFill/>
          </a:ln>
        </p:spPr>
      </p:pic>
      <p:pic>
        <p:nvPicPr>
          <p:cNvPr id="62" name="magnify-clip" descr=""/>
          <p:cNvPicPr/>
          <p:nvPr/>
        </p:nvPicPr>
        <p:blipFill>
          <a:blip r:embed="rId2"/>
          <a:stretch/>
        </p:blipFill>
        <p:spPr>
          <a:xfrm>
            <a:off x="0" y="4197240"/>
            <a:ext cx="142920" cy="104760"/>
          </a:xfrm>
          <a:prstGeom prst="rect">
            <a:avLst/>
          </a:prstGeom>
          <a:ln w="0">
            <a:noFill/>
          </a:ln>
        </p:spPr>
      </p:pic>
      <p:sp>
        <p:nvSpPr>
          <p:cNvPr id="63" name=""/>
          <p:cNvSpPr/>
          <p:nvPr/>
        </p:nvSpPr>
        <p:spPr>
          <a:xfrm>
            <a:off x="0" y="22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49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468360" y="5011560"/>
            <a:ext cx="388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ложка дебютного сингла «That’s All Right» на Sun Records (1954)</a:t>
            </a:r>
            <a:endParaRPr b="0" lang="en-US" sz="2400" spc="-1" strike="noStrike">
              <a:solidFill>
                <a:srgbClr val="000000"/>
              </a:solidFill>
              <a:latin typeface="Aria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Рисунок 5" descr="Рисунок12.jpg"/>
          <p:cNvPicPr/>
          <p:nvPr/>
        </p:nvPicPr>
        <p:blipFill>
          <a:blip r:embed="rId1"/>
          <a:stretch/>
        </p:blipFill>
        <p:spPr>
          <a:xfrm>
            <a:off x="0" y="0"/>
            <a:ext cx="9144000" cy="690228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magnify-clip" descr=""/>
          <p:cNvPicPr/>
          <p:nvPr/>
        </p:nvPicPr>
        <p:blipFill>
          <a:blip r:embed="rId1"/>
          <a:stretch/>
        </p:blipFill>
        <p:spPr>
          <a:xfrm>
            <a:off x="-4664160" y="2602080"/>
            <a:ext cx="142920" cy="104760"/>
          </a:xfrm>
          <a:prstGeom prst="rect">
            <a:avLst/>
          </a:prstGeom>
          <a:ln w="0">
            <a:noFill/>
          </a:ln>
        </p:spPr>
      </p:pic>
      <p:pic>
        <p:nvPicPr>
          <p:cNvPr id="69" name="200px-CD-elvis-56" descr=""/>
          <p:cNvPicPr/>
          <p:nvPr/>
        </p:nvPicPr>
        <p:blipFill>
          <a:blip r:embed="rId2"/>
          <a:stretch/>
        </p:blipFill>
        <p:spPr>
          <a:xfrm>
            <a:off x="468360" y="333360"/>
            <a:ext cx="2484360" cy="2435400"/>
          </a:xfrm>
          <a:prstGeom prst="rect">
            <a:avLst/>
          </a:prstGeom>
          <a:ln w="0">
            <a:noFill/>
          </a:ln>
        </p:spPr>
      </p:pic>
      <p:pic>
        <p:nvPicPr>
          <p:cNvPr id="70" name="magnify-clip" descr=""/>
          <p:cNvPicPr/>
          <p:nvPr/>
        </p:nvPicPr>
        <p:blipFill>
          <a:blip r:embed="rId3"/>
          <a:stretch/>
        </p:blipFill>
        <p:spPr>
          <a:xfrm>
            <a:off x="-4664160" y="6218280"/>
            <a:ext cx="142920" cy="104760"/>
          </a:xfrm>
          <a:prstGeom prst="rect">
            <a:avLst/>
          </a:prstGeom>
          <a:ln w="0">
            <a:noFill/>
          </a:ln>
        </p:spPr>
      </p:pic>
      <p:sp>
        <p:nvSpPr>
          <p:cNvPr id="71" name=""/>
          <p:cNvSpPr/>
          <p:nvPr/>
        </p:nvSpPr>
        <p:spPr>
          <a:xfrm>
            <a:off x="2916360" y="-45000"/>
            <a:ext cx="622764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ea typeface="Times New Roman"/>
              </a:rPr>
              <a:t>Король рок-н-ролла (1956)</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ea typeface="Times New Roman"/>
              </a:rPr>
              <a:t>Телевыступления и новые запис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
          <p:cNvSpPr/>
          <p:nvPr/>
        </p:nvSpPr>
        <p:spPr>
          <a:xfrm>
            <a:off x="-4664160" y="260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468360" y="2816640"/>
            <a:ext cx="867564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бложка дебютного альбома «Elvis Presley» (195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1956 год стал поворотным в судьбе Элвиса Пресли, принеся ему не только национальную, но и мировую славу. Первым синглом Пресли на RCA стала чувственная блюзовая композиция «Heartbreak Hotel». Песня не имела ничего общего с прежними записями на Sun Records, и это насторожило RCA, однако их опасения оказались напрасными: сингл занял 1-е место и разошёлся в количестве более миллиона экземпляров. Следом были выпущены сингл «I Want You, I Need You, I Love You», а также первый долгоиграющий альбом («Elvis Presley»), впервые в истории звукозаписи тоже переваливший миллионную отметку. Тогда же последовали первые телевыступления, вызвавшие шок у Америки и поклонение тысяч американских подростков. Музыка, одежда, движения, манеры и молодость Элвиса — всё было непохоже на обычных исполнителей кантри и уж тем более — на эстрадных певцов вроде Синатры. В то же время поднялась волна возмущения со стороны старшего поколения, видевшего в Пресли вульгарность и бездарность (особенно негативную реакцию вызвало телешоу Милтона Берля, на котором в июне 1956 г. Элвис впервые исполнил «Hound Dog»), что создало Элвису Пресли имидж «бунтаря», хотя сам певец никогда таковым себя не чувствовал.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4664160" y="621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79280" y="-333360"/>
            <a:ext cx="9144000" cy="320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ea typeface="Times New Roman"/>
              </a:rPr>
              <a:t>Обложка второго альбома «Elvis» (195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Monotype Corsiva"/>
                <a:ea typeface="Times New Roman"/>
              </a:rPr>
              <a:t>Летом 1956 года выходят сингл «Hound Dog / Don’t Be Cruel», а осенью второй альбом «Elvis» — и тот и другой заняли 1-е места; к этому времени Пресли достиг международной популярности благодаря выпуску пластинок за рубежом (особенный — и достаточно стабильный — успех у Пресли был и остаётся в Великобритании и Германии). В октябре американский журнал «Варьете» нарёк Пресли «королём рок-н-ролла». Тогда же полковник Том Паркер стал единственным импресарио Элвиса Пресли.</a:t>
            </a:r>
            <a:endParaRPr b="0" lang="en-US" sz="2000" spc="-1" strike="noStrike">
              <a:solidFill>
                <a:srgbClr val="000000"/>
              </a:solidFill>
              <a:latin typeface="Arial"/>
            </a:endParaRPr>
          </a:p>
        </p:txBody>
      </p:sp>
      <p:pic>
        <p:nvPicPr>
          <p:cNvPr id="76" name="200px-CD-elvis-presley" descr=""/>
          <p:cNvPicPr/>
          <p:nvPr/>
        </p:nvPicPr>
        <p:blipFill>
          <a:blip r:embed="rId1"/>
          <a:stretch/>
        </p:blipFill>
        <p:spPr>
          <a:xfrm>
            <a:off x="5292720" y="2924280"/>
            <a:ext cx="3635280" cy="3562200"/>
          </a:xfrm>
          <a:prstGeom prst="rect">
            <a:avLst/>
          </a:prstGeom>
          <a:ln w="0">
            <a:noFill/>
          </a:ln>
        </p:spPr>
      </p:pic>
      <p:pic>
        <p:nvPicPr>
          <p:cNvPr id="77" name="" descr=""/>
          <p:cNvPicPr/>
          <p:nvPr/>
        </p:nvPicPr>
        <p:blipFill>
          <a:blip r:embed="rId2"/>
          <a:stretch/>
        </p:blipFill>
        <p:spPr>
          <a:xfrm>
            <a:off x="324000" y="2924280"/>
            <a:ext cx="3965400" cy="3520800"/>
          </a:xfrm>
          <a:prstGeom prst="rect">
            <a:avLst/>
          </a:prstGeom>
          <a:ln w="0">
            <a:noFill/>
          </a:ln>
        </p:spPr>
      </p:pic>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5:52:33Z</dcterms:created>
  <dc:creator>Nikita</dc:creator>
  <dc:description/>
  <dc:language>en-US</dc:language>
  <cp:lastModifiedBy>Ученик25</cp:lastModifiedBy>
  <dcterms:modified xsi:type="dcterms:W3CDTF">2004-02-08T22:55:57Z</dcterms:modified>
  <cp:revision>6</cp:revision>
  <dc:subject/>
  <dc:title>Слайд 1</dc:title>
</cp:coreProperties>
</file>