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CC1-A5FC-47A2-843F-059A7BF2F0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полнить пуст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579-F649-4CE2-9FC2-C1FD92027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ABD-7343-4F1C-AF61-C700E30E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990-F3A9-439B-BEF1-C2ED141D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129-4CB5-4963-8DD6-08B9292F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C1F-1DBE-45DB-B003-BC87ADFA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176F-CEC6-45EF-9CA7-C94BB499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3CD7-AEDA-480B-9EAC-21FC90E6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805-B05F-40A7-94BA-E1D9B74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0A36-8CB4-444D-ACE8-90F6CD6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F9B6-169D-4E5C-8841-85706474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0B1E-33C1-4E6D-899C-915BF452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47C9-7D83-42E1-B471-BAE1E4F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CC4-F3FE-4AF9-A356-629C0CCD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79E0-BAF1-475C-ADC8-7283319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1EC0-71E3-4B91-BD68-E0A6BDB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AA51-03C5-45A7-9A3E-4609C9A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CD2-9042-4AC8-B8B7-E7FA4EC1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B102-DD93-4CC5-A7FA-5B606BF0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027A-62A8-440F-B7D1-B7374D5E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7654-5083-4592-B7A8-4179B59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F27D-CFEF-4718-8139-B9F5936A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3490-70AF-4460-B757-5E8339E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32DB-552F-4279-8920-E05CC7AD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412-1248-46DB-AD13-5FF39862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90AB-DB68-4E05-A73F-BDAF247E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2E62-9EA5-483D-B443-233945B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2058-A211-43F6-A8A8-27A0826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E275-5370-4753-98F0-A6198F7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DEDA-0005-4336-A6DA-17DBDB4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A0E6-DAFF-424A-A225-90463158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5E8A-39F0-4FE5-B4C9-D0AA52DB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353A-A092-4DA4-8C7B-E2E0ABC7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7DF0-0D12-41E5-8156-0EEE36D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1F4F-89E7-483F-8CFE-ACBC3399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111-C5C9-4056-AF33-FBC02C9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E8FB-5BA9-4666-B1F1-974006DE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18F8-291B-4846-8499-F12D623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6DE4-21A5-413D-B129-A87461D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183C-AE1B-47F1-A94B-DF2509B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694E-CC69-4B68-94A2-6A795FF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635D-3CF7-4A4A-BB52-D2A772A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382F-6DFF-44E1-B6AD-9891F57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B50B-E4D1-48F4-AA86-54637879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494E-8D00-4D32-B4AF-E88DD98F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788-B847-4F8C-B006-30BCDD8A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B6A-7726-457E-BE91-141EEA03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1FF-58C5-4009-8D7C-C80BE66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3DF-71A0-4F54-903B-A7D5B26E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608-4780-4139-8134-EBFE0CB7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9625-6270-44B9-90B8-B75242907A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0A30-1FB2-428A-A70E-D2C81892DB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A54A-43D8-446F-866C-93A76F17EF3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151F-10FB-4135-A893-D794BBCFD8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29.ru/images/news/big/1263196704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588000" y="2133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3500280"/>
            <a:ext cx="403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А класса МОАУ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г.Ки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ешин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хим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еева Виктория Евген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836640"/>
            <a:ext cx="849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ода… как много тайн хранит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Проблемы питьевой воды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г. Кир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064040" cy="279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27000"/>
            <a:ext cx="91440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606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писок используемых источников</a:t>
            </a:r>
            <a:r>
              <a:rPr b="1" lang="ru-RU" sz="2400" spc="-1" strike="noStrike">
                <a:solidFill>
                  <a:srgbClr val="06060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. //Вода имеет память!//www.weekjournal.ru/rubric/30/134p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2. ПРОгород – 2009 – С.04/Е. Сиянович//На качество водопроводной воды в год жалуются15 кировчан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3. //Польза воды для организма//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www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fitfan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ru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nutrition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/24-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voda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4. Биология – 2007 - №23 – С.24 – 25 [Текст]/Питьевая вода и здоровье – М.:Первое сентября, 2007 – 40с.: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5. //Энциклопедия обо всем//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www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wikipedia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6. Охрана окружающей среды в Кировской области: стат. сб. [офиц. изд.]//Под общей редакцией Н. И. Зорина – Киров: Кировстат, 2009 – 51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7. //Сохраним воду вместе с Клоп ру!//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www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klopp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ru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index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php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newsid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=111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8.День воды!//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www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Prazdniki</a:t>
            </a: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9. Аргументы и факты – Вятка – 2010 - №23 – С.4/Д. Владимиров//Что течёт из крана?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0. Петрянов И.В.Самое необыкновенное вещество в мире. – М.: Педагогика, 197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1. Смирнов-Каменский Е., Павлов М. Край целебных  вод, Ставрополь: Ставроп. КН. Изд-во, 198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2. Спенглер О.А.Слово о воде – Л.: Гидромедитоиздат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3. Большая электронная энциклопедия Кирилла и Мефо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4.Вода во вселенной – Л.:Недра,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5.Книга для чтения по неорганической химии /Сост. В.А.Крицман.Ч.1. – М.:Просвещение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606"/>
                </a:solidFill>
                <a:latin typeface="Times New Roman"/>
              </a:rPr>
              <a:t>16.Энциклопедия школьника. Неорганическая химия /Под ред.И.П.Алимарина. М.: Советская энцпиклопедия,197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Картинка 45 из 46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1413000"/>
            <a:ext cx="3786120" cy="2971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92360" y="484920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24000" y="549000"/>
            <a:ext cx="857232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Исследовать качество водопроводной воды, артезианской воды «Ключ Здоровья» и водопроводной воды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после фильтра «Аквафор - Модерн» в г. Ки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2708280"/>
            <a:ext cx="4572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1.Изучить свойства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2.Возможна ли жизнь без чистой во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"/>
              </a:rPr>
              <a:t>3. </a:t>
            </a:r>
            <a:r>
              <a:rPr b="1" lang="ru-RU" sz="2000" spc="-1" strike="noStrike">
                <a:solidFill>
                  <a:srgbClr val="060606"/>
                </a:solidFill>
                <a:latin typeface="Century"/>
              </a:rPr>
              <a:t>Изучить степень загрязнения водопроводной воды, артезианской воды «Ключ Здоровья» и водопроводной воды после фильтра «Аквафор Модерн» на сегодняшний день  в г. Ки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4064040" cy="297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Диаграмма 3" descr=""/>
          <p:cNvPicPr/>
          <p:nvPr/>
        </p:nvPicPr>
        <p:blipFill>
          <a:blip r:embed="rId2"/>
          <a:stretch/>
        </p:blipFill>
        <p:spPr>
          <a:xfrm>
            <a:off x="250920" y="0"/>
            <a:ext cx="4248000" cy="2637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4140360" y="4698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При э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Диаграмма 8" descr=""/>
          <p:cNvPicPr/>
          <p:nvPr/>
        </p:nvPicPr>
        <p:blipFill>
          <a:blip r:embed="rId3"/>
          <a:stretch/>
        </p:blipFill>
        <p:spPr>
          <a:xfrm>
            <a:off x="5148360" y="0"/>
            <a:ext cx="3527280" cy="3068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63640" y="14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1268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692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1125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Картинка 52 из 1892966"/>
          <p:cNvPicPr/>
          <p:nvPr/>
        </p:nvPicPr>
        <p:blipFill>
          <a:blip r:embed="rId4"/>
          <a:stretch/>
        </p:blipFill>
        <p:spPr>
          <a:xfrm>
            <a:off x="3132000" y="4311720"/>
            <a:ext cx="3097440" cy="2546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920" y="5589720"/>
            <a:ext cx="2232000" cy="936360"/>
          </a:xfrm>
          <a:prstGeom prst="wedgeRectCallout">
            <a:avLst>
              <a:gd name="adj1" fmla="val 108462"/>
              <a:gd name="adj2" fmla="val -88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Водопроводная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88000" y="5300640"/>
            <a:ext cx="2233800" cy="1224000"/>
          </a:xfrm>
          <a:prstGeom prst="wedgeRectCallout">
            <a:avLst>
              <a:gd name="adj1" fmla="val -89162"/>
              <a:gd name="adj2" fmla="val -55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Водопроводная вода после филь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2349360"/>
            <a:ext cx="825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Грязная и непригодная для питья вода — причина каждого десятого заболевания в мире и 6% всех смертей. По  расчетам исследователей, каждый вложенный в отчистку воды  рубль позволит сэкономить до 8 рублей на медицинское обслуживание и принесет дополнительную прибыль за счет повышения производительности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Как развивается зародыш человека (13 фото + текст)"/>
          <p:cNvPicPr/>
          <p:nvPr/>
        </p:nvPicPr>
        <p:blipFill>
          <a:blip r:embed="rId2"/>
          <a:stretch/>
        </p:blipFill>
        <p:spPr>
          <a:xfrm>
            <a:off x="3132000" y="549360"/>
            <a:ext cx="2243160" cy="2303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Как развивается зародыш человека (13 фото + текст)"/>
          <p:cNvPicPr/>
          <p:nvPr/>
        </p:nvPicPr>
        <p:blipFill>
          <a:blip r:embed="rId3"/>
          <a:stretch/>
        </p:blipFill>
        <p:spPr>
          <a:xfrm>
            <a:off x="250920" y="404640"/>
            <a:ext cx="2062080" cy="2448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Как развивается зародыш человека (13 фото + текст)"/>
          <p:cNvPicPr/>
          <p:nvPr/>
        </p:nvPicPr>
        <p:blipFill>
          <a:blip r:embed="rId4"/>
          <a:stretch/>
        </p:blipFill>
        <p:spPr>
          <a:xfrm>
            <a:off x="6659640" y="404640"/>
            <a:ext cx="1774800" cy="244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920" y="2924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Трехдневный человеческий зародыш содержит воды - 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2924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Трехмесячный человеческий зародыш содержит вод - 9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8720" y="29242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Восьмимесячный человеческий зародыш содержит воды - 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ПСИХОЛОГИЯ ВЗРОСЛОГО ЧЕЛОВЕКА"/>
          <p:cNvPicPr/>
          <p:nvPr/>
        </p:nvPicPr>
        <p:blipFill>
          <a:blip r:embed="rId5"/>
          <a:stretch/>
        </p:blipFill>
        <p:spPr>
          <a:xfrm>
            <a:off x="2195640" y="4121280"/>
            <a:ext cx="1869840" cy="2736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284720" y="51768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Century"/>
              </a:rPr>
              <a:t>У взрослого человека доля воды в организме составляет 6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6922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Вода может находиться в трех агрегатных состоя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Молекулы воды образуют ассоциаты (тетрамеры (Н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О)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Вода – это жидкость без цвета, запаха и вку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tкип = 100 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tпл = 0 °C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= 1  г/см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³</a:t>
            </a: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 (при 4 °С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Вода не проводит электрический 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Плохо проводит тепло, удельная теплоемкость воды очень высокая и составляет 4,2 Дж/(г•гра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Вода, охлаждаясь сверху, опускается вниз, на дно, только до тех пор, пока ее температура не достигнет +4 °С.</a:t>
            </a:r>
            <a:r>
              <a:rPr b="0" lang="ru-RU" sz="2000" spc="-1" strike="noStrike">
                <a:solidFill>
                  <a:srgbClr val="060606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0"/>
            <a:ext cx="3456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libri"/>
              </a:rPr>
              <a:t>Свойства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Рис. 1. Молекулы воды образуют ассоциаты (тетрамеры (Н2О)4 изображены тетраэдрами)"/>
          <p:cNvPicPr/>
          <p:nvPr/>
        </p:nvPicPr>
        <p:blipFill>
          <a:blip r:embed="rId2"/>
          <a:stretch/>
        </p:blipFill>
        <p:spPr>
          <a:xfrm>
            <a:off x="971640" y="4076640"/>
            <a:ext cx="1751040" cy="2621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419640" y="4581360"/>
            <a:ext cx="2520720" cy="1679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Рис. 2. В кристаллах льда каждая молекула Н2О соединена водородными связями с четырьмя соседними"/>
          <p:cNvPicPr/>
          <p:nvPr/>
        </p:nvPicPr>
        <p:blipFill>
          <a:blip r:embed="rId4"/>
          <a:stretch/>
        </p:blipFill>
        <p:spPr>
          <a:xfrm>
            <a:off x="6516720" y="4149720"/>
            <a:ext cx="2255760" cy="247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826920" y="-369720"/>
            <a:ext cx="721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5056200" cy="6669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1197000"/>
            <a:ext cx="31669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Справа показаны </a:t>
            </a:r>
            <a:r>
              <a:rPr b="1" lang="en-US" sz="2600" spc="-1" strike="noStrike">
                <a:solidFill>
                  <a:srgbClr val="0000cc"/>
                </a:solidFill>
                <a:latin typeface="Century"/>
              </a:rPr>
              <a:t>заболевания</a:t>
            </a: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, вызываемые токсическим воздействием элементов содержащихся в во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-108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Сравнительный анализ качества водопроводной воды, артезианской воды «Ключ Здоровья» и водопроводной воды  после фильтра «Аквафор Модер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476280"/>
          <a:ext cx="8569080" cy="6192360"/>
        </p:xfrm>
        <a:graphic>
          <a:graphicData uri="http://schemas.openxmlformats.org/drawingml/2006/table">
            <a:tbl>
              <a:tblPr/>
              <a:tblGrid>
                <a:gridCol w="407880"/>
                <a:gridCol w="2030400"/>
                <a:gridCol w="1136520"/>
                <a:gridCol w="1703520"/>
                <a:gridCol w="1463760"/>
                <a:gridCol w="1827000"/>
              </a:tblGrid>
              <a:tr h="246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на питьевую воду, мг/д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анализов, мг/д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зианская вода «Ключ Здоровья», мг/д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роводная вода, мг/д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роводная вода после фильтра «Аквафор Модерн», мг/дм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ны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-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сь отс., прозрач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сь отс., прозрач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сь отс., прозрач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при 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˚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6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ость об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 аммония (аммиа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тепроду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-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икат-и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9280" y="-1080"/>
            <a:ext cx="80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Влияние элементов, ионов и химических веществ, содержащихся в воде, на организм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4920" y="404640"/>
          <a:ext cx="9001080" cy="6496200"/>
        </p:xfrm>
        <a:graphic>
          <a:graphicData uri="http://schemas.openxmlformats.org/drawingml/2006/table">
            <a:tbl>
              <a:tblPr/>
              <a:tblGrid>
                <a:gridCol w="1944720"/>
                <a:gridCol w="2768400"/>
                <a:gridCol w="42879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, ион или химическое веще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60606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6060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60606"/>
                          </a:solidFill>
                          <a:latin typeface="Times New Roman"/>
                        </a:rPr>
                        <a:t>-  </a:t>
                      </a:r>
                      <a:r>
                        <a:rPr b="0" lang="en-US" sz="1000" spc="-1" strike="noStrike">
                          <a:solidFill>
                            <a:srgbClr val="060606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 </a:t>
                      </a:r>
                      <a:r>
                        <a:rPr b="1" lang="en-US" sz="1200" spc="-1" strike="noStrike">
                          <a:solidFill>
                            <a:srgbClr val="060606"/>
                          </a:solidFill>
                          <a:latin typeface="Times New Roman"/>
                        </a:rPr>
                        <a:t>превышении</a:t>
                      </a:r>
                      <a:r>
                        <a:rPr b="0" lang="en-US" sz="2400" spc="-1" strike="noStrike">
                          <a:solidFill>
                            <a:srgbClr val="06060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казывает токсического воздействия, регулирует водный баланс, обмен веществ, входят в состав кров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 желчи- и мочекаменной болезни, заболевание сердечнососудистой систем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ет водный баланс, обмен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 действуют на почки, на печень и желчный пузыр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 для строения костной ткани (зубы, кости), мышечной ткани, поддерживание проводящей функции нервной тка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бытке нейтрален по отношению к организму человека, но снижает качество воды, которую мы пьем, соли кальция образуют накипь и мутность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 для нормальной деятельности нервных клето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ряет канальцы нервных клето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 аммония (аммиа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дит  к нарушению окислительной функций крови, вызывает рак желудка, отрицательно влияет на нервную и сердечно сосудистую систем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 состояние зубов. От того, сколько фтора  содержится в воде, зависит частота заболевания кариесо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дит к крапчатости эмали зубов, увеличивается выведение кальция, уменьшается выведения кальция и фосфора в костях(что приводит к хрупкости костей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 образуют метгемоглобин. Он лишь напоминает настоящий гемоглобин, но на самом деле он не обладает его свойствами. Накопления метгемоглобина приводит организм к кислотному голодан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ит в состав белка, влияет на обменный процесс, поддерживает эластичность хрящевой тка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дает слабительным свойств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гащает кровь гемоглобино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к приобрести различные заболевания печени, крови, аллергические реакции, нарушение репродуктив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пливается в организме, может послужить причиной старческого слабоумия, различных неврологических изменений. У детей алюминий вызывает анемию, головные боли, заболевание почек, пече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1731240"/>
            <a:ext cx="853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Century"/>
              </a:rPr>
              <a:t>1.В своей работе я рассмотрела свойства воды. Считаю, что все свойства воды зависят от её структуры. И если эту структуру воды мы  сумеем сохранить, не меняя ее, то возможно и проблема чистой воды будет реше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000" y="332280"/>
            <a:ext cx="248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2349360"/>
            <a:ext cx="889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3. В своей работе я изучила степень загрязнения водопроводной воды, артезианской воды «Ключ Здоровья» и водопроводной воды после фильтра «Аквафор Модерн» на сегодняшний день в г.Кир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се три пробы прошли ПД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- По наличию  в  воде хлоридов, сульфатов, аммиака, нитратов, нитритов, фосфатов, железа и алюминия - водопроводная вода имеет наибольш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На втором месте - водопроводная вода после филь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Наиболее полезной для организма человека, я считаю, является артезианская вода «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Здоровь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421000"/>
            <a:ext cx="8281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2. Жизнь зародилась в чистой воде и, несомненно, её чистота это важнейший фактор необходимый для нашей жизни. Грязная вода вызывает множество заболеваний и поэтому воду стали дистиллировать, очищая её от примес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47:35Z</dcterms:created>
  <dc:creator>Admin</dc:creator>
  <dc:description/>
  <dc:language>en-US</dc:language>
  <cp:lastModifiedBy>Admin</cp:lastModifiedBy>
  <dcterms:modified xsi:type="dcterms:W3CDTF">2011-01-25T18:25:26Z</dcterms:modified>
  <cp:revision>76</cp:revision>
  <dc:subject/>
  <dc:title>Вода…Как много тайн хранит она.  Проблемы чистой воды</dc:title>
</cp:coreProperties>
</file>