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5320-7FBA-4A04-9C2C-42FB68AE77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E6B4-DD7A-4BB5-81B8-369A968428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E555-67A6-42DE-B2E1-0252C5133C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ADFD-67ED-4875-9760-A7E31FFF97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CE1F-5C80-4C37-B5B5-6EC9B8F053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C153-0F34-4C70-A7B3-BEDA55EC51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EEC4-B5CD-4969-AEC6-D249AF2297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DEF4-6801-40EE-AA63-F0602176DC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6F3D-D67B-4FBF-BE5B-53D2B3D994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FEF-0602-4E72-B1E6-26BEA4942F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C60A-13E0-42C2-9D0C-A68442A89B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DD9A-6558-48C5-9F9E-6F3DBB5A7B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26EA-7194-4CAC-8279-DA519F7AFB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32240" cy="2573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BE9E-D83A-4417-B223-7EA11686E7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BBC-C97F-4CB1-86AE-4CB05FEC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D41-24AB-44C3-9801-4FBC2869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456-3E85-4186-AB5A-0A2A35C5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814-0F9E-4EAC-A12B-556A98CB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A88-13CE-4CA4-8218-B05B683E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52E-DC2D-4841-BC4B-5246A6DC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0C6-6ECD-476C-976C-CC65BF30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7B0-0BD2-4E64-BCB6-80B5D5EB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16B-C81C-4814-AEDF-8C3B39C0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893-5433-4ED8-9BFA-65BD331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A02-A672-432B-9729-B2C9A23B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50E-DEC6-45B5-8EE7-F0F00D36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CC01-C563-4111-A7E7-853E552559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7500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58ed5"/>
                </a:solidFill>
                <a:latin typeface="Calibri"/>
              </a:rPr>
              <a:t>Кружилинская СОШ</a:t>
            </a:r>
            <a:br>
              <a:rPr sz="4400"/>
            </a:br>
            <a:r>
              <a:rPr b="0" i="1" lang="ru-RU" sz="4400" spc="-1" strike="noStrike">
                <a:solidFill>
                  <a:srgbClr val="558ed5"/>
                </a:solidFill>
                <a:latin typeface="Calibri"/>
              </a:rPr>
              <a:t>4класс</a:t>
            </a:r>
            <a:br>
              <a:rPr sz="4400"/>
            </a:br>
            <a:r>
              <a:rPr b="0" i="1" lang="ru-RU" sz="4400" spc="-1" strike="noStrike">
                <a:solidFill>
                  <a:srgbClr val="558ed5"/>
                </a:solidFill>
                <a:latin typeface="Calibri"/>
              </a:rPr>
              <a:t>2010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Исследовательская  работ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выполнена Шведовой Мариной Руководитель: Мележик С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47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d99694"/>
                </a:solidFill>
                <a:latin typeface="Calibri"/>
              </a:rPr>
              <a:t>Дождь-это хорошая погода!</a:t>
            </a:r>
            <a:br>
              <a:rPr sz="8600"/>
            </a:b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99988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их дождей не должно быть на зем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J:\рисунки\Изображение 050.jpg"/>
          <p:cNvPicPr/>
          <p:nvPr/>
        </p:nvPicPr>
        <p:blipFill>
          <a:blip r:embed="rId2"/>
          <a:stretch/>
        </p:blipFill>
        <p:spPr>
          <a:xfrm>
            <a:off x="357192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0280" y="178560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ЖДЬ-ЭТО УДИВИТЕЛЬНОЕ ПРИРОДНОЕ ЯВЛЕНИЕ , БЕЗ КОТОРОГО НЕ МОЖЕТ БЫТЬ ЖИЗНИ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235692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ВНЕЙ – 7                                «СЛЕПЫХ ДОЖДЕЙ» – 1                         «ГРИБНЫХ ДОЖДЕЙ» – 2                       «ОБЛОЖНЫХ ДОЖДЕЙ» - 13                         МОРОСЕЙ - 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5520" y="713880"/>
            <a:ext cx="77086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                         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Итоги  наблюдений  за 2010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ждь-явление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Изображение 045.jpg"/>
          <p:cNvPicPr/>
          <p:nvPr/>
        </p:nvPicPr>
        <p:blipFill>
          <a:blip r:embed="rId1"/>
          <a:stretch/>
        </p:blipFill>
        <p:spPr>
          <a:xfrm>
            <a:off x="1603440" y="1677960"/>
            <a:ext cx="5937120" cy="437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знать какие бывают дожди по продолжительности, по характеру.                 2. Узнать откуда берутся дожди.                     3. Узнать о пользе и вреде дож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704880"/>
            <a:ext cx="854892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ждь – это  атмосферные осадки в виде водяных капель, струй. 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                             </a:t>
            </a: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(словарь  С.И.Ожегова)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:\рисунки\Изображение 0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8026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КЛАССИФИКАЦИЯ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 ИНТЕНСИВ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4240" y="3500280"/>
            <a:ext cx="771552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сильный  дождь                               мелкий  дождь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ливень                                                 морось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Прямая со стрелкой 8"/>
          <p:cNvCxnSpPr/>
          <p:nvPr/>
        </p:nvCxnSpPr>
        <p:spPr>
          <a:xfrm flipH="1">
            <a:off x="2571840" y="2356920"/>
            <a:ext cx="6433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0"/>
          <p:cNvCxnSpPr/>
          <p:nvPr/>
        </p:nvCxnSpPr>
        <p:spPr>
          <a:xfrm>
            <a:off x="5070960" y="2000160"/>
            <a:ext cx="7866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чевые                                Грибно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лака                                      дождь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J:\рисунки\Изображение 048.jpg"/>
          <p:cNvPicPr/>
          <p:nvPr/>
        </p:nvPicPr>
        <p:blipFill>
          <a:blip r:embed="rId3"/>
          <a:stretch/>
        </p:blipFill>
        <p:spPr>
          <a:xfrm>
            <a:off x="428760" y="1643040"/>
            <a:ext cx="4071960" cy="450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:\рисунки\Изображение 052.jpg"/>
          <p:cNvPicPr/>
          <p:nvPr/>
        </p:nvPicPr>
        <p:blipFill>
          <a:blip r:embed="rId4"/>
          <a:stretch/>
        </p:blipFill>
        <p:spPr>
          <a:xfrm>
            <a:off x="4643280" y="1643040"/>
            <a:ext cx="4286520" cy="450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0280" y="28584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КЛАССИФИКАЦИЯ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О ПРОДОЛЖИ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0280" y="3500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ратковременные       Продолжи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тние                              облож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«слепой дождик»         «мокрые дожд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Прямая со стрелкой 4"/>
          <p:cNvCxnSpPr/>
          <p:nvPr/>
        </p:nvCxnSpPr>
        <p:spPr>
          <a:xfrm flipH="1">
            <a:off x="2714760" y="1857240"/>
            <a:ext cx="643320" cy="1929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6"/>
          <p:cNvCxnSpPr/>
          <p:nvPr/>
        </p:nvCxnSpPr>
        <p:spPr>
          <a:xfrm>
            <a:off x="5286240" y="1785960"/>
            <a:ext cx="572400" cy="200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356760"/>
            <a:ext cx="40402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4f81bd"/>
                </a:solidFill>
                <a:latin typeface="Calibri"/>
              </a:rPr>
              <a:t>Слоистые обл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4720" y="428400"/>
            <a:ext cx="404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Осенний  дожд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J:\рисунки\Изображение 044.jpg"/>
          <p:cNvPicPr/>
          <p:nvPr/>
        </p:nvPicPr>
        <p:blipFill>
          <a:blip r:embed="rId2"/>
          <a:stretch/>
        </p:blipFill>
        <p:spPr>
          <a:xfrm>
            <a:off x="4714920" y="1500120"/>
            <a:ext cx="4143240" cy="500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J:\рисунки\Изображение 046.jpg"/>
          <p:cNvPicPr/>
          <p:nvPr/>
        </p:nvPicPr>
        <p:blipFill>
          <a:blip r:embed="rId3"/>
          <a:stretch/>
        </p:blipFill>
        <p:spPr>
          <a:xfrm>
            <a:off x="488880" y="1500120"/>
            <a:ext cx="401184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1-01-13T10:19:12Z</dcterms:modified>
  <cp:revision>81</cp:revision>
  <dc:subject/>
  <dc:title>PowerPoint Presentation</dc:title>
</cp:coreProperties>
</file>