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0.png" ContentType="image/png"/>
  <Override PartName="/ppt/media/image10.jpeg" ContentType="image/jpeg"/>
  <Override PartName="/ppt/media/image29.jpeg" ContentType="image/jpeg"/>
  <Override PartName="/ppt/media/image31.jpeg" ContentType="image/jpeg"/>
  <Override PartName="/ppt/media/image34.png" ContentType="image/png"/>
  <Override PartName="/ppt/media/image42.jpeg" ContentType="image/jpeg"/>
  <Override PartName="/ppt/media/image37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49.png" ContentType="image/png"/>
  <Override PartName="/ppt/media/image12.png" ContentType="image/png"/>
  <Override PartName="/ppt/media/image48.png" ContentType="image/png"/>
  <Override PartName="/ppt/media/image13.png" ContentType="image/png"/>
  <Override PartName="/ppt/media/image11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6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88FF-2771-4300-A71D-24D47B1035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81EB-C22F-4118-B57E-AB1FC9B7E0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4FD7-5400-4FC1-AA25-12A0164FA3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CE94-4EC3-45F7-BD27-2B04523828D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1C0-29F2-4C0D-B227-DCBCE59B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ABC-B208-4884-BC66-0E79E8A2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3D313-C0DC-424D-B851-BD3D7611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A3AA8-E2E8-4FB2-9C1C-C97923A4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CB547-9565-46A7-93BA-3969BD96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56796-BC40-4719-9667-2F2BF6F7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8B731-65B3-4EFA-BA46-59C60BA7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41A91-6B87-4241-AF6E-4854177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BDE89-961E-4F5A-A4C3-6049FBC1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C9535-2624-4EAE-8144-9F51B466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506BA-DEB1-4D09-8BF8-818CCC25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04B-7C89-44F4-90C9-EF3231FA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CB2-3E14-4CB2-BD93-45E6A805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4DEE-B517-40C3-B7CD-C8A604B8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DCEE-E3CD-4899-9584-B6D8AE56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0829-BB7D-4CDA-8A0D-7D2184E4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87FB-4D50-4C49-8E9C-C551F8A5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BB8E-63F9-4C5D-8AD0-7592938D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BEFF-B66B-4A9B-B9F7-F9C7FEFD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FABF-9A7B-456B-93F8-EDB3D1A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17E-B075-4818-AA1D-7EE20B90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3CB1-A96F-4E82-9AE1-7BA41179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7005-2AB5-4CED-A7E7-C8E309E8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DD06-367D-418F-8A7E-C1BF7786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137F-694B-45D5-9FBD-B9944592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C3C8-E36F-4542-94AB-AD793D0E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EA3B-334D-4CA3-B62A-48736AFD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E104-C294-42FC-9069-3F866237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52AEB-6ED6-4F53-979A-3E3B5AE0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59FA-F9F7-4ED0-AE90-00C1E2A0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21F24-03FD-4C35-8543-BC7FDA45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3DC-94B8-45BD-A85B-31E7761C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E124-4174-4746-882F-BCD8CEE3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66DA-9559-4CFB-86A6-3C461B38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F088F-BBC8-410F-8450-0C4E0FF2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8218-8306-41BE-ADDA-D0B5CAD1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DA809-6A2E-4277-956E-5F387755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39E1A-FA5F-47ED-B6C3-7C6F6227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4E08-6C68-4AA7-86F8-114799BE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4E27B-724C-40B6-9C56-0B0C590C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BE65D-C29A-4895-A659-8C559489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DA247-B453-4EBE-AB3C-2305E891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12D-A9F6-4AFD-98AB-F8D76311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DAA9D-F29D-47E2-8A6D-142E4017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337EF-97A3-4FAD-9A8F-39C9045E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1005B-99C2-41AB-971E-2CA9D3F0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50DD3-BA5B-4F88-BEC6-4FEE4891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30CE4-61AB-46DB-888C-430B2508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3EBDE-41D6-4633-8230-864116D6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B3BD-FBDA-4842-9765-4D043AC7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7B777-A003-4F8D-A4A6-B8A30456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8ADF-9B98-4010-9399-CAF287F0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E71C7-5163-4EF3-8667-85ABE16E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F54-5DC3-4E7F-A37C-EEBA15B4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95A31-FDF5-4DB7-B74E-E5D01D3D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98555-6582-4822-83FF-F72FB118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2266E-0AE6-48A8-8786-92A8ECD2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A8825-F9CD-441F-AAE6-5059A015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7DEF0-6087-4C93-A284-B2887643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1DF92-B872-435D-A997-E5ADA1ED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ED6E2-3A94-44C7-9A03-1C85E180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244CF-99EF-44BF-B9F4-E9F2D273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36EC0-F553-4008-BF7D-8E74BDE8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04836-4C5C-4C77-9C56-A00EC4CF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1DD-8FFE-40F5-9E13-52642A2B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BE18D-1050-494A-B74D-E5945635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40D29-04B0-49BA-B18C-97C027E6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5DEB3-867F-4235-AADC-48CB9B8F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C3810-D607-4385-AAEE-3798724F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8EBA2-0401-4F74-9AAF-AC4BE955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37F21-41CA-4AAC-9F25-12982E3E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9B1B1-976D-4125-BD17-9B1DD174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3FAB8-3EA8-4800-A85A-142FA162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010FB-DA59-498B-8D04-130589B4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639A9-D87E-4B6A-9322-3EC23ABF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2FD-D6CD-432A-8AB0-AD90A9C4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13538-CEEB-4524-97F5-9F900501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22707-7D73-46B8-8997-82B579D2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0BD35-10BA-479C-A527-1D37EF2D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669B4-0CD6-4927-8FE4-72067C8D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6F11B-B359-4D46-8F7B-E7248655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F0990-E0EE-4CA2-AAD5-88ADCFBB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A3C36-2E88-449B-B8F5-5A93857E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78276-9627-47DD-AE49-8E4994D0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F0B59-3BB9-4C11-8A2F-7B4CD4FA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66D22-A727-4B3D-A01B-ACFF9C9B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DAE-FC05-4E0C-A555-4DF75CC9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342F3-F1A5-4A2C-B039-0DDB2518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AACFB-8BCC-4EA4-8DD1-C9976DE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2CA13-15D7-4BF9-B117-ABE22CAB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E08B9-A284-4C7B-91F5-16538EB9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42907-9170-48CF-A0D7-516884C6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1D482-362F-455F-ABFD-70BE971D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CEB65-78C7-42D0-8396-E284FB2F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C00F5-E8E2-457B-B22B-3904CA60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D2B44-CC55-4059-A895-DDC7D5F0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ED0DE-242F-408E-9F3C-7CB85566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AE7-1268-4E8E-8615-61D22C01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A61F6-3501-4347-86A2-2AB40329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384BB-0CB5-485D-9F97-9CCC3320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1A78B-4ED5-44CF-ABE6-70D1EE92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FB3BD-C7F0-40AD-884B-709DD31C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F33C5-F188-474B-A392-52BE8641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5D3BB-BBD0-4C05-9960-42DC886F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A9485-1D8F-4A92-9ABA-1C786A3E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9A2ED-6AC8-4DCD-B37B-E78CC6B3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03CA4-32A6-4B25-8D77-6DA19E31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114D4-277F-4B4B-876B-58726700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9C22-47DA-4960-9E30-0B2909F9F8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4435-A855-4A85-A9F0-C11A1890C8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7912-64A5-4808-B634-14E8A523AA4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0832-FCB3-4506-A9ED-AD57E32FFE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B60A-5BBB-43EE-8413-18EFB0C2F3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1483-99D2-40B1-998E-62D873288F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7DF1-1AF7-4320-A3D1-C5A44FF2D3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5A7F-447F-4C63-96D3-D645E380B9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B51D-3ED6-453D-8C53-686A46B53A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allwomens.ru/uploads/posts/2010-04/1271425846_znachenie_chisel_v_zhizni_cheloveka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571680" y="476280"/>
            <a:ext cx="8115120" cy="738000"/>
          </a:xfrm>
          <a:prstGeom prst="rect">
            <a:avLst/>
          </a:prstGeom>
          <a:solidFill>
            <a:srgbClr val="c87d0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МОУ «Средняя общеобразовательная школа п. Заволжский Пугачевского района Саратовской области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WordArt 4"/>
          <p:cNvSpPr txBox="1"/>
          <p:nvPr/>
        </p:nvSpPr>
        <p:spPr>
          <a:xfrm>
            <a:off x="0" y="1700280"/>
            <a:ext cx="88106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endParaRPr b="0" i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5429160" y="4643280"/>
            <a:ext cx="3500640" cy="15717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ыполнила : Большакова О.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Научный руководитель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Локтионова Л.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Прямоугольник 7" descr=""/>
          <p:cNvPicPr/>
          <p:nvPr/>
        </p:nvPicPr>
        <p:blipFill>
          <a:blip r:embed="rId1"/>
          <a:stretch/>
        </p:blipFill>
        <p:spPr>
          <a:xfrm>
            <a:off x="353880" y="1504800"/>
            <a:ext cx="8083800" cy="284184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9"/>
          <p:cNvSpPr/>
          <p:nvPr/>
        </p:nvSpPr>
        <p:spPr>
          <a:xfrm>
            <a:off x="2643120" y="6215040"/>
            <a:ext cx="2571840" cy="4287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2010-2011г.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WordArt 8"/>
          <p:cNvSpPr txBox="1"/>
          <p:nvPr/>
        </p:nvSpPr>
        <p:spPr>
          <a:xfrm>
            <a:off x="1258920" y="3146400"/>
            <a:ext cx="66978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7" name="Прямоугольник 4"/>
          <p:cNvSpPr/>
          <p:nvPr/>
        </p:nvSpPr>
        <p:spPr>
          <a:xfrm>
            <a:off x="857160" y="642960"/>
            <a:ext cx="800100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ссмертны          творения  Данте,Шекспира, Петрарки, Боккаччо,Рабле,  Сервантеса     в литератур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жотт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да Винч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фаэль и Микеланджело, Тициан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ронезе 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йден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рейгель и Дюрер в живописи утверждали идеал красоты и   гармонии в математи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Прямоугольник 6"/>
          <p:cNvSpPr/>
          <p:nvPr/>
        </p:nvSpPr>
        <p:spPr>
          <a:xfrm>
            <a:off x="785880" y="100008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Кеплер сказал: "Математика есть прообраз красоты мира"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702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660033"/>
              </a:solidFill>
              <a:latin typeface="Franklin Gothic Medium"/>
            </a:endParaRPr>
          </a:p>
        </p:txBody>
      </p:sp>
      <p:pic>
        <p:nvPicPr>
          <p:cNvPr id="480" name="Picture 6" descr="botticelli00"/>
          <p:cNvPicPr/>
          <p:nvPr/>
        </p:nvPicPr>
        <p:blipFill>
          <a:blip r:embed="rId1"/>
          <a:stretch/>
        </p:blipFill>
        <p:spPr>
          <a:xfrm>
            <a:off x="6267600" y="3860640"/>
            <a:ext cx="2876400" cy="2997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raffaello00"/>
          <p:cNvPicPr/>
          <p:nvPr/>
        </p:nvPicPr>
        <p:blipFill>
          <a:blip r:embed="rId2"/>
          <a:stretch/>
        </p:blipFill>
        <p:spPr>
          <a:xfrm>
            <a:off x="0" y="3860640"/>
            <a:ext cx="2452680" cy="299736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9"/>
          <p:cNvSpPr/>
          <p:nvPr/>
        </p:nvSpPr>
        <p:spPr>
          <a:xfrm>
            <a:off x="179280" y="2852640"/>
            <a:ext cx="2376720" cy="792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фаэ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Мадонн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443640" y="2997360"/>
            <a:ext cx="2376360" cy="7189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ттичел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Весн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4" name="Picture 11" descr="botticelli04_small"/>
          <p:cNvPicPr/>
          <p:nvPr/>
        </p:nvPicPr>
        <p:blipFill>
          <a:blip r:embed="rId3"/>
          <a:stretch/>
        </p:blipFill>
        <p:spPr>
          <a:xfrm>
            <a:off x="0" y="0"/>
            <a:ext cx="2556000" cy="23734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2" descr="raffaello01_small"/>
          <p:cNvPicPr/>
          <p:nvPr/>
        </p:nvPicPr>
        <p:blipFill>
          <a:blip r:embed="rId4"/>
          <a:stretch/>
        </p:blipFill>
        <p:spPr>
          <a:xfrm>
            <a:off x="6443640" y="0"/>
            <a:ext cx="2554200" cy="24145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0" descr="http://tbn0.google.com/images?q=tbn:l9gKrVfqf-e0eM:http://www.cnr.ru/_mod_files/ce_images/articles/fi_madonna.jpg"/>
          <p:cNvPicPr/>
          <p:nvPr/>
        </p:nvPicPr>
        <p:blipFill>
          <a:blip r:embed="rId5"/>
          <a:stretch/>
        </p:blipFill>
        <p:spPr>
          <a:xfrm>
            <a:off x="3143160" y="1357200"/>
            <a:ext cx="299736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Парфенон (фотография)"/>
          <p:cNvPicPr/>
          <p:nvPr/>
        </p:nvPicPr>
        <p:blipFill>
          <a:blip r:embed="rId1"/>
          <a:stretch/>
        </p:blipFill>
        <p:spPr>
          <a:xfrm>
            <a:off x="428760" y="714240"/>
            <a:ext cx="4105080" cy="2538720"/>
          </a:xfrm>
          <a:prstGeom prst="rect">
            <a:avLst/>
          </a:prstGeom>
          <a:ln w="0">
            <a:noFill/>
          </a:ln>
        </p:spPr>
      </p:pic>
      <p:pic>
        <p:nvPicPr>
          <p:cNvPr id="488" name="Rectangle 18" descr=""/>
          <p:cNvPicPr/>
          <p:nvPr/>
        </p:nvPicPr>
        <p:blipFill>
          <a:blip r:embed="rId2"/>
          <a:stretch/>
        </p:blipFill>
        <p:spPr>
          <a:xfrm>
            <a:off x="847800" y="201600"/>
            <a:ext cx="3309840" cy="755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Смольный собор в Санкт-Петербурге"/>
          <p:cNvPicPr/>
          <p:nvPr/>
        </p:nvPicPr>
        <p:blipFill>
          <a:blip r:embed="rId3"/>
          <a:stretch/>
        </p:blipFill>
        <p:spPr>
          <a:xfrm>
            <a:off x="428760" y="4022640"/>
            <a:ext cx="4392360" cy="28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0" name="Rectangle 4"/>
          <p:cNvSpPr/>
          <p:nvPr/>
        </p:nvSpPr>
        <p:spPr>
          <a:xfrm>
            <a:off x="428760" y="3214800"/>
            <a:ext cx="3887640" cy="647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мольный собор 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анкт-Петербург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1" name="Picture 11" descr="Собор Парижской Богоматери. Золотое сечение"/>
          <p:cNvPicPr/>
          <p:nvPr/>
        </p:nvPicPr>
        <p:blipFill>
          <a:blip r:embed="rId4"/>
          <a:stretch/>
        </p:blipFill>
        <p:spPr>
          <a:xfrm>
            <a:off x="5000760" y="1500120"/>
            <a:ext cx="3857400" cy="496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2" name="Rectangle 5"/>
          <p:cNvSpPr/>
          <p:nvPr/>
        </p:nvSpPr>
        <p:spPr>
          <a:xfrm>
            <a:off x="5286240" y="428760"/>
            <a:ext cx="3167280" cy="792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рижской Богоматер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94" name="Picture 4" descr="no1_13"/>
          <p:cNvPicPr/>
          <p:nvPr/>
        </p:nvPicPr>
        <p:blipFill>
          <a:blip r:embed="rId1"/>
          <a:stretch/>
        </p:blipFill>
        <p:spPr>
          <a:xfrm>
            <a:off x="0" y="1268280"/>
            <a:ext cx="3205080" cy="558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5" name="Picture 5" descr="no1_14"/>
          <p:cNvPicPr/>
          <p:nvPr/>
        </p:nvPicPr>
        <p:blipFill>
          <a:blip r:embed="rId2"/>
          <a:stretch/>
        </p:blipFill>
        <p:spPr>
          <a:xfrm>
            <a:off x="6262560" y="1341360"/>
            <a:ext cx="2881440" cy="551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6" name="Picture 6" descr="no1_17"/>
          <p:cNvPicPr/>
          <p:nvPr/>
        </p:nvPicPr>
        <p:blipFill>
          <a:blip r:embed="rId3"/>
          <a:stretch/>
        </p:blipFill>
        <p:spPr>
          <a:xfrm>
            <a:off x="3564000" y="1341360"/>
            <a:ext cx="2344680" cy="551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7" name="Прямоугольник 8"/>
          <p:cNvSpPr/>
          <p:nvPr/>
        </p:nvSpPr>
        <p:spPr>
          <a:xfrm>
            <a:off x="324000" y="0"/>
            <a:ext cx="84247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людается золотая пропорция в скульптуре: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ост изображенного    человека   делится   пупочной   линией  в золотом сечен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9208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1979640" y="692280"/>
            <a:ext cx="489744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Verdana"/>
              </a:rPr>
              <a:t>“</a:t>
            </a:r>
            <a:r>
              <a:rPr b="0" lang="ru-RU" sz="1800" spc="-1" strike="noStrike">
                <a:solidFill>
                  <a:srgbClr val="4e3b30"/>
                </a:solidFill>
                <a:latin typeface="Verdana"/>
              </a:rPr>
              <a:t>Из Пиндемонти” А.С. Пушки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0" y="1052640"/>
            <a:ext cx="4932360" cy="5472000"/>
          </a:xfrm>
          <a:prstGeom prst="verticalScroll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вая ч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дорого ценю я громкие права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 коих не одна кружится голо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 не ропщу о том, что отказал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ог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не в сладкой участи оспаривать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логи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ли мешать царям, друг с друго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ева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мало горя мне, свободно л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ч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рочит олухов иль чутка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ензур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журнальных замыслах стесняе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алагу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се это, видите ль, слова, слова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ло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ые, лучшие мне дороги прав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ая, лучшая потребна мн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вобод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висеть от властей, зависеть о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рода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все ли нам равно? Бог с ни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иком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5081040" y="1632960"/>
            <a:ext cx="3482640" cy="4311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84000"/>
          </a:bodyPr>
          <a:p>
            <a:pPr marL="288000" indent="-28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торая част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Отчета не давать, себе лишь самому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Служить и угождать; для власти, для ливре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Не гнуть ни совести, ни помыслов, ни шеи;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По прихоти своей скитаться здесь и там,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Дивясь божественным природы красотам,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И пред созданиями искусств и вдохновень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Трепеща радостно в восторгах умиленья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Book"/>
              </a:rPr>
              <a:t>- Вот счастье! Вот права...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Стихотворение делится на две части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Franklin Gothic Book"/>
              </a:rPr>
              <a:t>“</a:t>
            </a:r>
            <a:r>
              <a:rPr b="1" lang="ru-RU" sz="1600" spc="-1" strike="noStrike">
                <a:solidFill>
                  <a:srgbClr val="ff0000"/>
                </a:solidFill>
                <a:latin typeface="Franklin Gothic Book"/>
              </a:rPr>
              <a:t>Их ценности”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- низость земного раболепия (13 строк),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Franklin Gothic Book"/>
              </a:rPr>
              <a:t>“</a:t>
            </a:r>
            <a:r>
              <a:rPr b="1" lang="ru-RU" sz="1600" spc="-1" strike="noStrike">
                <a:solidFill>
                  <a:srgbClr val="ff0000"/>
                </a:solidFill>
                <a:latin typeface="Franklin Gothic Book"/>
              </a:rPr>
              <a:t>Мои ценности”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- высота духовной свободы (8 строк)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369"/>
                </a:solidFill>
                <a:latin typeface="Franklin Gothic Book"/>
              </a:rPr>
              <a:t>8/13- “золотое сечение”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Rectangle 2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169200" cy="14698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ань “золотому сечению” отдали также композиторы и поэты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Еще в 1925 году искусствовед Л.Л. Сабанеев, проанализировав 1770 музыкальных произведений 42 авторов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показал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что подавляющее большинство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ыдающихся сочинений можн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легко разделить на части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ли по теме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ли по интонационному строю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ли по ладовому строю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Эти части находятся между собой в отношении “золотого сечения”.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чем, чем талантливее композитор, тем в большем количестве его произведений найдено “золотых сечений”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У Бетховена, Бородина, Гайдна, Моцарта, Скрябина, Шопена и Шуберта “золотые сечения” найдены 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90% всех произведений.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2"/>
          <a:stretch/>
        </p:blipFill>
        <p:spPr>
          <a:xfrm>
            <a:off x="6500880" y="1714680"/>
            <a:ext cx="2313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0" descr="00019066"/>
          <p:cNvPicPr/>
          <p:nvPr/>
        </p:nvPicPr>
        <p:blipFill>
          <a:blip r:embed="rId1"/>
          <a:stretch/>
        </p:blipFill>
        <p:spPr>
          <a:xfrm>
            <a:off x="214200" y="4429080"/>
            <a:ext cx="2382840" cy="1785960"/>
          </a:xfrm>
          <a:prstGeom prst="rect">
            <a:avLst/>
          </a:prstGeom>
          <a:ln w="0">
            <a:noFill/>
          </a:ln>
        </p:spPr>
      </p:pic>
      <p:pic>
        <p:nvPicPr>
          <p:cNvPr id="507" name="Rectangle 8" descr=""/>
          <p:cNvPicPr/>
          <p:nvPr/>
        </p:nvPicPr>
        <p:blipFill>
          <a:blip r:embed="rId2"/>
          <a:stretch/>
        </p:blipFill>
        <p:spPr>
          <a:xfrm>
            <a:off x="420840" y="493560"/>
            <a:ext cx="8326440" cy="44024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0" descr="00019113"/>
          <p:cNvPicPr/>
          <p:nvPr/>
        </p:nvPicPr>
        <p:blipFill>
          <a:blip r:embed="rId3"/>
          <a:stretch/>
        </p:blipFill>
        <p:spPr>
          <a:xfrm>
            <a:off x="6572160" y="4500720"/>
            <a:ext cx="1860480" cy="2077920"/>
          </a:xfrm>
          <a:prstGeom prst="rect">
            <a:avLst/>
          </a:prstGeom>
          <a:ln w="0">
            <a:noFill/>
          </a:ln>
        </p:spPr>
      </p:pic>
      <p:sp>
        <p:nvSpPr>
          <p:cNvPr id="509" name="Прямоугольник 4"/>
          <p:cNvSpPr/>
          <p:nvPr/>
        </p:nvSpPr>
        <p:spPr>
          <a:xfrm>
            <a:off x="1080360" y="285840"/>
            <a:ext cx="60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Математика в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моей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0" name="Picture 4" descr="00036097"/>
          <p:cNvPicPr/>
          <p:nvPr/>
        </p:nvPicPr>
        <p:blipFill>
          <a:blip r:embed="rId4"/>
          <a:stretch/>
        </p:blipFill>
        <p:spPr>
          <a:xfrm>
            <a:off x="3071880" y="4572000"/>
            <a:ext cx="2786040" cy="20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4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687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14" name="Picture 2" descr="F:\Конкурс математики\2010-09-18\вопросы.JPG"/>
          <p:cNvPicPr/>
          <p:nvPr/>
        </p:nvPicPr>
        <p:blipFill>
          <a:blip r:embed="rId1"/>
          <a:stretch/>
        </p:blipFill>
        <p:spPr>
          <a:xfrm rot="20254800">
            <a:off x="623520" y="331920"/>
            <a:ext cx="2486160" cy="3762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F:\Конкурс математики\2010-09-18\вопросы0001.JPG"/>
          <p:cNvPicPr/>
          <p:nvPr/>
        </p:nvPicPr>
        <p:blipFill>
          <a:blip r:embed="rId2"/>
          <a:stretch/>
        </p:blipFill>
        <p:spPr>
          <a:xfrm rot="1196400">
            <a:off x="5824440" y="557280"/>
            <a:ext cx="2714760" cy="40212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F:\Конкурс математики\2010-09-18\математ.jpg"/>
          <p:cNvPicPr/>
          <p:nvPr/>
        </p:nvPicPr>
        <p:blipFill>
          <a:blip r:embed="rId3"/>
          <a:stretch/>
        </p:blipFill>
        <p:spPr>
          <a:xfrm>
            <a:off x="2357280" y="3500280"/>
            <a:ext cx="428652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225360" y="165240"/>
            <a:ext cx="8467920" cy="1261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285840" y="1428480"/>
            <a:ext cx="5857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Был век биологии, век физики был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Космической эру назвали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А математику никогда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Так громко не называл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Есть нечто гордое в скромности той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И в тишине своих кабинетов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Ученые мыслят им трудно порой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В поисках трудных ответов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Нагромождение цифр, матрицы чисел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Плюсы, минусы, интегралы,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Математики решают задачи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Будто врубаются в скалы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За славой не гонятся </a:t>
            </a:r>
            <a:r>
              <a:rPr b="1" i="1" lang="ru-RU" sz="1800" spc="-1" strike="noStrike">
                <a:solidFill>
                  <a:srgbClr val="4e3b30"/>
                </a:solidFill>
                <a:latin typeface="Times New Roman"/>
              </a:rPr>
              <a:t>–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Пусть лавры другим!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Но если есть что-то вечное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То лишь математика, лишь только она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Знает секрет бесконечности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Рисунок 15" descr="Значение чисел в жизни челове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72120" y="1214280"/>
            <a:ext cx="2768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16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4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68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4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4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Заголовок 1" descr=""/>
          <p:cNvPicPr/>
          <p:nvPr/>
        </p:nvPicPr>
        <p:blipFill>
          <a:blip r:embed="rId1"/>
          <a:stretch/>
        </p:blipFill>
        <p:spPr>
          <a:xfrm>
            <a:off x="195120" y="49320"/>
            <a:ext cx="9004320" cy="62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1" descr=""/>
          <p:cNvPicPr/>
          <p:nvPr/>
        </p:nvPicPr>
        <p:blipFill>
          <a:blip r:embed="rId1"/>
          <a:stretch/>
        </p:blipFill>
        <p:spPr>
          <a:xfrm>
            <a:off x="195120" y="450720"/>
            <a:ext cx="8852040" cy="63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71480" y="457200"/>
            <a:ext cx="6419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e3b30"/>
                </a:solidFill>
                <a:latin typeface="Monotype Corsiva"/>
              </a:rPr>
              <a:t>«Математика нужна для изучения многих наук,</a:t>
            </a:r>
            <a:br>
              <a:rPr sz="2200"/>
            </a:br>
            <a:r>
              <a:rPr b="0" i="1" lang="ru-RU" sz="2200" spc="-1" strike="noStrike">
                <a:solidFill>
                  <a:srgbClr val="4e3b30"/>
                </a:solidFill>
                <a:latin typeface="Monotype Corsiva"/>
              </a:rPr>
              <a:t> но сама она не нуждается ни в какой науке».</a:t>
            </a:r>
            <a:br>
              <a:rPr sz="2200"/>
            </a:br>
            <a:r>
              <a:rPr b="0" lang="ru-RU" sz="2200" spc="-1" strike="noStrike">
                <a:solidFill>
                  <a:srgbClr val="4e3b30"/>
                </a:solidFill>
                <a:latin typeface="Monotype Corsiva"/>
              </a:rPr>
              <a:t>П. Каптерев</a:t>
            </a:r>
            <a:endParaRPr b="0" lang="en-US" sz="2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6" descr="㿷ᛟɔ"/>
          <p:cNvPicPr/>
          <p:nvPr/>
        </p:nvPicPr>
        <p:blipFill>
          <a:blip r:embed="rId1"/>
          <a:stretch/>
        </p:blipFill>
        <p:spPr>
          <a:xfrm>
            <a:off x="714240" y="142920"/>
            <a:ext cx="2357640" cy="1873080"/>
          </a:xfrm>
          <a:prstGeom prst="rect">
            <a:avLst/>
          </a:prstGeom>
          <a:ln w="0">
            <a:noFill/>
          </a:ln>
        </p:spPr>
      </p:pic>
      <p:sp>
        <p:nvSpPr>
          <p:cNvPr id="417" name="Блок-схема: перфолента 4"/>
          <p:cNvSpPr/>
          <p:nvPr/>
        </p:nvSpPr>
        <p:spPr>
          <a:xfrm>
            <a:off x="785880" y="1285920"/>
            <a:ext cx="7858080" cy="5429160"/>
          </a:xfrm>
          <a:prstGeom prst="flowChartPunchedTap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з знания математики вся современная жизнь была бы невозможна. Например, у нас не было бы хороших домов, потому что строители должны уметь измерять, считать и сооружать. Наша одежда была бы очень грубой, так как ее нужно хорошо скроить, а для этого точно все измерить. Не было бы ни железных дорог, ни кораблей, ни самолетов, никакой большой промышленности. И, конечно, не было бы радио, телевидения, кино, телефона и тысячи других вещей, составляющих часть нашей цивилизации. Использование математики, измерение «насколько?», «как долго?» являются жизненно необходимой частью мира, в котором мы живе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матика неисчерпаема и многогранна. Кого-то покоряет в математике ее логическая стройность, другого – ее абстрактный метод, третий ценит в ней ее величайшую полезност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еликий немецкий математик Гаусс назвал математику царицей наук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213840"/>
            <a:ext cx="86868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Скругленный прямоугольник 3"/>
          <p:cNvSpPr/>
          <p:nvPr/>
        </p:nvSpPr>
        <p:spPr>
          <a:xfrm>
            <a:off x="357120" y="285840"/>
            <a:ext cx="8286840" cy="12142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менно тесная связь математики с другими науками, ее роль в создании новых дисциплин и теорий на стыке наук придает ей красоту и цен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Прямоугольник с одним вырезанным углом 5"/>
          <p:cNvSpPr/>
          <p:nvPr/>
        </p:nvSpPr>
        <p:spPr>
          <a:xfrm>
            <a:off x="285840" y="1785960"/>
            <a:ext cx="4214880" cy="228600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атематика и физ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«Для современного физи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математика всё равно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что  абсолютн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слух для композитора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Ю. Нагиб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Прямоугольник с одним вырезанным углом 6"/>
          <p:cNvSpPr/>
          <p:nvPr/>
        </p:nvSpPr>
        <p:spPr>
          <a:xfrm>
            <a:off x="4714920" y="1714680"/>
            <a:ext cx="4214880" cy="24285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атематика и хим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«Если математики из сопоставления нескольких линий выводят очень многие истины, то и для химиков я не виж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никакой иной причины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вследствие котор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они не могли бы выве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большезакономерносте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из такого обилия имеющихс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опытов, кром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незнания математики»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М.В.Ломонос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Прямоугольник с одним вырезанным углом 7"/>
          <p:cNvSpPr/>
          <p:nvPr/>
        </p:nvSpPr>
        <p:spPr>
          <a:xfrm>
            <a:off x="214200" y="4286160"/>
            <a:ext cx="4214880" cy="228600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атематика и астроном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«Математи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следят за солнце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и луной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а не видят того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что у них под ногами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иоге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Прямоугольник с одним вырезанным углом 8"/>
          <p:cNvSpPr/>
          <p:nvPr/>
        </p:nvSpPr>
        <p:spPr>
          <a:xfrm>
            <a:off x="5000760" y="4286160"/>
            <a:ext cx="4143240" cy="221472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1828800" algn="just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just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just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У людей, усвоивших великие принципы  математики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r">
              <a:lnSpc>
                <a:spcPct val="8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одним органом чувств больше, чем у простых смертных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Ч.Дарв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5" name="Picture 11" descr=""/>
          <p:cNvPicPr/>
          <p:nvPr/>
        </p:nvPicPr>
        <p:blipFill>
          <a:blip r:embed="rId1"/>
          <a:stretch/>
        </p:blipFill>
        <p:spPr>
          <a:xfrm>
            <a:off x="642960" y="2278080"/>
            <a:ext cx="1219320" cy="13651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㿷ᛟɔ"/>
          <p:cNvPicPr/>
          <p:nvPr/>
        </p:nvPicPr>
        <p:blipFill>
          <a:blip r:embed="rId2"/>
          <a:stretch/>
        </p:blipFill>
        <p:spPr>
          <a:xfrm>
            <a:off x="4857840" y="2500200"/>
            <a:ext cx="1266840" cy="15717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"/>
          <p:cNvPicPr/>
          <p:nvPr/>
        </p:nvPicPr>
        <p:blipFill>
          <a:blip r:embed="rId3"/>
          <a:stretch/>
        </p:blipFill>
        <p:spPr>
          <a:xfrm>
            <a:off x="428760" y="4714920"/>
            <a:ext cx="1744560" cy="1693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㿷ᛟɔ"/>
          <p:cNvPicPr/>
          <p:nvPr/>
        </p:nvPicPr>
        <p:blipFill>
          <a:blip r:embed="rId4"/>
          <a:stretch/>
        </p:blipFill>
        <p:spPr>
          <a:xfrm>
            <a:off x="5072040" y="4786200"/>
            <a:ext cx="1533600" cy="15717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4"/>
          <p:cNvSpPr/>
          <p:nvPr/>
        </p:nvSpPr>
        <p:spPr>
          <a:xfrm>
            <a:off x="5143680" y="435780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атематика и биолог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Прямоугольник с одним вырезанным углом 5"/>
          <p:cNvSpPr/>
          <p:nvPr/>
        </p:nvSpPr>
        <p:spPr>
          <a:xfrm>
            <a:off x="214200" y="1857240"/>
            <a:ext cx="4429080" cy="2357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Природа – это сочетание самых просты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математических идей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. Эйнштей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Прямоугольник с одним вырезанным углом 6"/>
          <p:cNvSpPr/>
          <p:nvPr/>
        </p:nvSpPr>
        <p:spPr>
          <a:xfrm>
            <a:off x="5214960" y="1863720"/>
            <a:ext cx="3619440" cy="242892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 algn="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«Поэзия – это разновидность вдохновенной математики 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которая даёт нам 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уравнения  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человеческих эмоций».</a:t>
            </a:r>
            <a:r>
              <a:rPr b="1" i="1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Эзра Паунд, поэ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Прямоугольник с одним вырезанным углом 7"/>
          <p:cNvSpPr/>
          <p:nvPr/>
        </p:nvSpPr>
        <p:spPr>
          <a:xfrm>
            <a:off x="214200" y="4572000"/>
            <a:ext cx="4643640" cy="228600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 algn="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«Математика выявляет порядок, симметрию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определённость, а это – важнейшие вид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прекрасного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Прямоугольник с одним вырезанным углом 8"/>
          <p:cNvSpPr/>
          <p:nvPr/>
        </p:nvSpPr>
        <p:spPr>
          <a:xfrm>
            <a:off x="5143680" y="4572000"/>
            <a:ext cx="3643200" cy="228600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«Музыка есть таинственная арифметика душ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она вычисляет, сама  того не подозревая».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5" name="Picture 6" descr=""/>
          <p:cNvPicPr/>
          <p:nvPr/>
        </p:nvPicPr>
        <p:blipFill>
          <a:blip r:embed="rId1"/>
          <a:stretch/>
        </p:blipFill>
        <p:spPr>
          <a:xfrm>
            <a:off x="714240" y="2571840"/>
            <a:ext cx="1357560" cy="142884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2"/>
          <p:cNvSpPr/>
          <p:nvPr/>
        </p:nvSpPr>
        <p:spPr>
          <a:xfrm>
            <a:off x="714240" y="21430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атематика и географ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7" name="Picture 6" descr="Эзра Паунд"/>
          <p:cNvPicPr/>
          <p:nvPr/>
        </p:nvPicPr>
        <p:blipFill>
          <a:blip r:embed="rId2"/>
          <a:stretch/>
        </p:blipFill>
        <p:spPr>
          <a:xfrm>
            <a:off x="5357880" y="242892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4"/>
          <p:cNvSpPr/>
          <p:nvPr/>
        </p:nvSpPr>
        <p:spPr>
          <a:xfrm>
            <a:off x="5357880" y="19288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атематика и литератур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6" descr="Аристотель"/>
          <p:cNvPicPr/>
          <p:nvPr/>
        </p:nvPicPr>
        <p:blipFill>
          <a:blip r:embed="rId3"/>
          <a:stretch/>
        </p:blipFill>
        <p:spPr>
          <a:xfrm>
            <a:off x="214200" y="5143680"/>
            <a:ext cx="1143000" cy="150012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2"/>
          <p:cNvSpPr/>
          <p:nvPr/>
        </p:nvSpPr>
        <p:spPr>
          <a:xfrm>
            <a:off x="456480" y="4714920"/>
            <a:ext cx="42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атематика и изобразительное искус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5" descr="Лейбниц"/>
          <p:cNvPicPr/>
          <p:nvPr/>
        </p:nvPicPr>
        <p:blipFill>
          <a:blip r:embed="rId4"/>
          <a:stretch/>
        </p:blipFill>
        <p:spPr>
          <a:xfrm>
            <a:off x="5214960" y="5143680"/>
            <a:ext cx="1500120" cy="15714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4"/>
          <p:cNvSpPr/>
          <p:nvPr/>
        </p:nvSpPr>
        <p:spPr>
          <a:xfrm>
            <a:off x="5576760" y="47149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атематика и музы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63960" y="273240"/>
            <a:ext cx="8568720" cy="10965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txBody>
          <a:bodyPr anchor="ctr">
            <a:normAutofit/>
          </a:bodyPr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менно тесная связь математики с другими науками, ее роль в создании новых дисциплин и теорий на стыке наук придает ей красоту и ц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8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98440" y="4932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45" name="Скругленный прямоугольник 3"/>
          <p:cNvSpPr/>
          <p:nvPr/>
        </p:nvSpPr>
        <p:spPr>
          <a:xfrm>
            <a:off x="4643280" y="2071800"/>
            <a:ext cx="4214880" cy="2143080"/>
          </a:xfrm>
          <a:prstGeom prst="roundRect">
            <a:avLst>
              <a:gd name="adj" fmla="val 16667"/>
            </a:avLst>
          </a:prstGeom>
          <a:solidFill>
            <a:srgbClr val="f3cd6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Воспитательная роль математики состоит, в частности, в том, что изучение и применение математики вырабатывает исследовательский, творческий подход к делу; настойчивость, терпение и трудолюбие; аккуратность; логичность и строгость суждений; умение выделять главное и игнорировать второстепенное, не влияющее на суть проблемы; умение ставить новые задачи и др.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Скругленный прямоугольник 4"/>
          <p:cNvSpPr/>
          <p:nvPr/>
        </p:nvSpPr>
        <p:spPr>
          <a:xfrm>
            <a:off x="214200" y="4429080"/>
            <a:ext cx="4214880" cy="2143080"/>
          </a:xfrm>
          <a:prstGeom prst="roundRect">
            <a:avLst>
              <a:gd name="adj" fmla="val 16667"/>
            </a:avLst>
          </a:prstGeom>
          <a:solidFill>
            <a:srgbClr val="c87d0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Культурная роль математики состоит, в частности, в том, что повышение общематематической культуры естественным образом, в соответствии с функциями математики, содействует повышению и профессиональной и общей культуры (мышления, поведения, выбора)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531360" y="1317240"/>
            <a:ext cx="8429040" cy="580320"/>
          </a:xfrm>
          <a:prstGeom prst="rect">
            <a:avLst/>
          </a:prstGeom>
          <a:solidFill>
            <a:srgbClr val="ff9900"/>
          </a:solidFill>
          <a:ln w="25560">
            <a:solidFill>
              <a:srgbClr val="b0761f"/>
            </a:solidFill>
            <a:miter/>
          </a:ln>
        </p:spPr>
        <p:txBody>
          <a:bodyPr anchor="ctr">
            <a:normAutofit fontScale="49000"/>
          </a:bodyPr>
          <a:p>
            <a:pPr marL="167760" indent="-16776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167760" indent="-16776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Математика реализует не только мировоззренческие, но воспитательные, культурные и эстетические функци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Скругленный прямоугольник 7"/>
          <p:cNvSpPr/>
          <p:nvPr/>
        </p:nvSpPr>
        <p:spPr>
          <a:xfrm>
            <a:off x="4857840" y="4429080"/>
            <a:ext cx="4000320" cy="2214720"/>
          </a:xfrm>
          <a:prstGeom prst="roundRect">
            <a:avLst>
              <a:gd name="adj" fmla="val 16667"/>
            </a:avLst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Эстетическая роль математики состоит, в частности, в том, что она сводит разрозненные элементы и связи системы в целостную композицию, обладающую эстетическими качествами (красота, обаяние, цвет, форма, пропорция, симметрия, гармония, единство частей целого, полезность, удовольствие и др.)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Скругленный прямоугольник 8"/>
          <p:cNvSpPr/>
          <p:nvPr/>
        </p:nvSpPr>
        <p:spPr>
          <a:xfrm>
            <a:off x="285840" y="2143080"/>
            <a:ext cx="4071960" cy="207180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Мировоззренческая роль математики состоит, в частности, в том, что она помогает вникать в суть явлений и процессов, происходящих в окружающем нас мире, выявлять, описывать и исследовать как внешние связи, так и внутренние связи системы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706320" y="781200"/>
            <a:ext cx="7785360" cy="130968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2743200" y="4797360"/>
            <a:ext cx="6400800" cy="14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43329"/>
                </a:solidFill>
                <a:latin typeface="Times New Roman"/>
              </a:rPr>
              <a:t>«Послушайте, что смертным сделал я …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43329"/>
                </a:solidFill>
                <a:latin typeface="Times New Roman"/>
              </a:rPr>
              <a:t>                                                           </a:t>
            </a:r>
            <a:r>
              <a:rPr b="1" i="1" lang="ru-RU" sz="2000" spc="-1" strike="noStrike">
                <a:solidFill>
                  <a:srgbClr val="443329"/>
                </a:solidFill>
                <a:latin typeface="Times New Roman"/>
              </a:rPr>
              <a:t>Число им подари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43329"/>
                </a:solidFill>
                <a:latin typeface="Times New Roman"/>
              </a:rPr>
              <a:t>И буквы научил соединять…»</a:t>
            </a:r>
            <a:r>
              <a:rPr b="0" lang="ru-RU" sz="1800" spc="-1" strike="noStrike">
                <a:solidFill>
                  <a:srgbClr val="443329"/>
                </a:solidFill>
                <a:latin typeface="Franklin Gothic Book"/>
              </a:rPr>
              <a:t>                                                                                                     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Franklin Gothic Book"/>
              </a:rPr>
              <a:t>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443329"/>
                </a:solidFill>
                <a:latin typeface="Times New Roman"/>
              </a:rPr>
              <a:t>Эсхил, «Закованный Прометей»</a:t>
            </a:r>
            <a:r>
              <a:rPr b="0" lang="ru-RU" sz="1800" spc="-1" strike="noStrike">
                <a:solidFill>
                  <a:srgbClr val="443329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Picture 4" descr="http://www.fos.ru/matemat/image/9258/image004.gif"/>
          <p:cNvPicPr/>
          <p:nvPr/>
        </p:nvPicPr>
        <p:blipFill>
          <a:blip r:embed="rId2"/>
          <a:stretch/>
        </p:blipFill>
        <p:spPr>
          <a:xfrm>
            <a:off x="468360" y="2492280"/>
            <a:ext cx="38876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28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88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84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920"/>
                            </p:stCondLst>
                            <p:childTnLst>
                              <p:par>
                                <p:cTn id="187" nodeType="afterEffect" fill="hold" presetClass="emph" presetID="1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53880" y="291960"/>
            <a:ext cx="8643960" cy="1000440"/>
          </a:xfrm>
          <a:prstGeom prst="rect">
            <a:avLst/>
          </a:prstGeom>
          <a:ln w="0">
            <a:noFill/>
          </a:ln>
        </p:spPr>
      </p:pic>
      <p:sp>
        <p:nvSpPr>
          <p:cNvPr id="454" name="Овал 4"/>
          <p:cNvSpPr/>
          <p:nvPr/>
        </p:nvSpPr>
        <p:spPr>
          <a:xfrm>
            <a:off x="0" y="5072040"/>
            <a:ext cx="2857680" cy="1000080"/>
          </a:xfrm>
          <a:prstGeom prst="ellipse">
            <a:avLst/>
          </a:prstGeom>
          <a:solidFill>
            <a:srgbClr val="197614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Семь (7)--проявление гармонии, удачливости в жизн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Овал 5"/>
          <p:cNvSpPr/>
          <p:nvPr/>
        </p:nvSpPr>
        <p:spPr>
          <a:xfrm>
            <a:off x="214200" y="2214720"/>
            <a:ext cx="2786040" cy="1285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Franklin Gothic Book"/>
              </a:rPr>
              <a:t>Единица (1)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Franklin Gothic Book"/>
              </a:rPr>
              <a:t>– это число подразумевает понятие единоличности, «Эго», то есть я один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297080" y="1065960"/>
            <a:ext cx="6264000" cy="1010520"/>
          </a:xfrm>
          <a:prstGeom prst="rect">
            <a:avLst/>
          </a:prstGeom>
          <a:solidFill>
            <a:srgbClr val="f2f2f2"/>
          </a:solidFill>
          <a:ln w="25560">
            <a:solidFill>
              <a:srgbClr val="b0761f"/>
            </a:solidFill>
            <a:miter/>
          </a:ln>
        </p:spPr>
        <p:txBody>
          <a:bodyPr anchor="ctr">
            <a:normAutofit fontScale="85000"/>
          </a:bodyPr>
          <a:p>
            <a:pPr marL="291600" indent="-291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Franklin Gothic Book"/>
              </a:rPr>
              <a:t>Что такое число? Число – это набор определённых цифр, если рассматривать с математической точки зрения. Кроме того, эти наборы </a:t>
            </a:r>
            <a:r>
              <a:rPr b="1" lang="ru-RU" sz="1400" spc="-1" strike="noStrike">
                <a:solidFill>
                  <a:srgbClr val="ffffff"/>
                </a:solidFill>
                <a:latin typeface="Franklin Gothic Book"/>
              </a:rPr>
              <a:t>определённых</a:t>
            </a:r>
            <a:r>
              <a:rPr b="1" lang="ru-RU" sz="1400" spc="-1" strike="noStrike">
                <a:solidFill>
                  <a:srgbClr val="002060"/>
                </a:solidFill>
                <a:latin typeface="Franklin Gothic Book"/>
              </a:rPr>
              <a:t> цифр постоянно фигурируют в нашей жизни, начиная с даты рождения и продолжая ежедневным непрерывным потоком: дата, время, деньги, номер телефон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Овал 8"/>
          <p:cNvSpPr/>
          <p:nvPr/>
        </p:nvSpPr>
        <p:spPr>
          <a:xfrm>
            <a:off x="3714840" y="3500280"/>
            <a:ext cx="2643120" cy="135756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Пять (5)- знак отличия говорит о везучести, о гармонии материального и духовного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Овал 9"/>
          <p:cNvSpPr/>
          <p:nvPr/>
        </p:nvSpPr>
        <p:spPr>
          <a:xfrm>
            <a:off x="571680" y="3714840"/>
            <a:ext cx="2714400" cy="1143000"/>
          </a:xfrm>
          <a:prstGeom prst="ellipse">
            <a:avLst/>
          </a:prstGeom>
          <a:solidFill>
            <a:srgbClr val="00ff9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Franklin Gothic Book"/>
              </a:rPr>
              <a:t>Четыре  (4)-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Franklin Gothic Book"/>
              </a:rPr>
              <a:t>в жизни говорит о стремлении заработать как можно больше материальных бла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Овал 10"/>
          <p:cNvSpPr/>
          <p:nvPr/>
        </p:nvSpPr>
        <p:spPr>
          <a:xfrm>
            <a:off x="3071880" y="5286240"/>
            <a:ext cx="3000240" cy="1357560"/>
          </a:xfrm>
          <a:prstGeom prst="ellipse">
            <a:avLst/>
          </a:prstGeom>
          <a:solidFill>
            <a:srgbClr val="e2ac76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Franklin Gothic Book"/>
              </a:rPr>
              <a:t>Восемь (8)- число бесконечности, понимание законов Вселенной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Овал 11"/>
          <p:cNvSpPr/>
          <p:nvPr/>
        </p:nvSpPr>
        <p:spPr>
          <a:xfrm>
            <a:off x="3143160" y="2286000"/>
            <a:ext cx="2928960" cy="1071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Franklin Gothic Book"/>
              </a:rPr>
              <a:t>Пара (2)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Franklin Gothic Book"/>
              </a:rPr>
              <a:t> – проявляется в виде гармоничных отно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Овал 12"/>
          <p:cNvSpPr/>
          <p:nvPr/>
        </p:nvSpPr>
        <p:spPr>
          <a:xfrm>
            <a:off x="6429240" y="3786120"/>
            <a:ext cx="2714760" cy="13575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Шестёрка (6) –число негатива, символизирует гнев и раздражени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Овал 14"/>
          <p:cNvSpPr/>
          <p:nvPr/>
        </p:nvSpPr>
        <p:spPr>
          <a:xfrm>
            <a:off x="6429240" y="5429160"/>
            <a:ext cx="2714760" cy="11430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Девять( 9) – число идеала, благодати и божественной любв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Овал 16"/>
          <p:cNvSpPr/>
          <p:nvPr/>
        </p:nvSpPr>
        <p:spPr>
          <a:xfrm>
            <a:off x="6143760" y="2286000"/>
            <a:ext cx="3000240" cy="1071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Тройка, духовность (3)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тройки, то это значит, что вы стремитесь к творчеству, к гармонии души и те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Rectangle 29"/>
          <p:cNvSpPr/>
          <p:nvPr/>
        </p:nvSpPr>
        <p:spPr>
          <a:xfrm flipH="1" rot="11025000">
            <a:off x="852480" y="5094000"/>
            <a:ext cx="1135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1420920" y="-92160"/>
            <a:ext cx="7326360" cy="15242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214200" y="999720"/>
            <a:ext cx="8686800" cy="7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</a:rPr>
              <a:t>У русского народа, как и у любого другого, существует бесчисленное множество пословиц и поговорок. Эти маленькие мудрые изречения создавались и накапливались народом в течение многовековой истори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Пятиугольник 3"/>
          <p:cNvSpPr/>
          <p:nvPr/>
        </p:nvSpPr>
        <p:spPr>
          <a:xfrm>
            <a:off x="214200" y="1928880"/>
            <a:ext cx="2643480" cy="928800"/>
          </a:xfrm>
          <a:custGeom>
            <a:avLst/>
            <a:gdLst>
              <a:gd name="textAreaLeft" fmla="*/ 0 w 2643480"/>
              <a:gd name="textAreaRight" fmla="*/ 2643840 w 26434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5" y="0"/>
                </a:lnTo>
                <a:lnTo>
                  <a:pt x="21600" y="10800"/>
                </a:lnTo>
                <a:lnTo>
                  <a:pt x="178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ль без палоч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ль вним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бсолютный нол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Пятиугольник 4"/>
          <p:cNvSpPr/>
          <p:nvPr/>
        </p:nvSpPr>
        <p:spPr>
          <a:xfrm>
            <a:off x="500040" y="3500280"/>
            <a:ext cx="2857680" cy="135756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70" y="0"/>
                </a:lnTo>
                <a:lnTo>
                  <a:pt x="21600" y="10800"/>
                </a:lnTo>
                <a:lnTo>
                  <a:pt x="164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ин в поле не вои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 нога тут, другая - т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 солгал - навек лгуном ст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Пятиугольник 5"/>
          <p:cNvSpPr/>
          <p:nvPr/>
        </p:nvSpPr>
        <p:spPr>
          <a:xfrm>
            <a:off x="3429000" y="4572000"/>
            <a:ext cx="2857680" cy="135720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70" y="0"/>
                </a:lnTo>
                <a:lnTo>
                  <a:pt x="21600" y="10800"/>
                </a:lnTo>
                <a:lnTo>
                  <a:pt x="164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з четырех углов изба не рубит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свои пять пальце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стое чув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Пятиугольник 6"/>
          <p:cNvSpPr/>
          <p:nvPr/>
        </p:nvSpPr>
        <p:spPr>
          <a:xfrm>
            <a:off x="500040" y="5214960"/>
            <a:ext cx="2857680" cy="135720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70" y="0"/>
                </a:lnTo>
                <a:lnTo>
                  <a:pt x="21600" y="10800"/>
                </a:lnTo>
                <a:lnTo>
                  <a:pt x="164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ва сапога - па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двух огн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горшка два вер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бить двух зайце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Пятиугольник 7"/>
          <p:cNvSpPr/>
          <p:nvPr/>
        </p:nvSpPr>
        <p:spPr>
          <a:xfrm>
            <a:off x="6429240" y="4643280"/>
            <a:ext cx="2714760" cy="178596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95" y="0"/>
                </a:lnTo>
                <a:lnTo>
                  <a:pt x="21600" y="10800"/>
                </a:lnTo>
                <a:lnTo>
                  <a:pt x="144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9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сна да осен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дню пог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ем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Пятиугольник 8"/>
          <p:cNvSpPr/>
          <p:nvPr/>
        </p:nvSpPr>
        <p:spPr>
          <a:xfrm>
            <a:off x="3071880" y="2071800"/>
            <a:ext cx="2786040" cy="171432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54" y="0"/>
                </a:lnTo>
                <a:lnTo>
                  <a:pt x="21600" y="10800"/>
                </a:lnTo>
                <a:lnTo>
                  <a:pt x="149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3cd6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блудиться в трех сосна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три короб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тьего дн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ещанного три года жду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Пятиугольник 9"/>
          <p:cNvSpPr/>
          <p:nvPr/>
        </p:nvSpPr>
        <p:spPr>
          <a:xfrm>
            <a:off x="6000840" y="2214720"/>
            <a:ext cx="3143160" cy="171432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09" y="0"/>
                </a:lnTo>
                <a:lnTo>
                  <a:pt x="21600" y="10800"/>
                </a:lnTo>
                <a:lnTo>
                  <a:pt x="157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6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 седьмого коле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седьмом неб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ь смертных грех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еро одного не жду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ь бед - один отв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9:18:34Z</dcterms:created>
  <dc:creator>Alena</dc:creator>
  <dc:description/>
  <dc:language>en-US</dc:language>
  <cp:lastModifiedBy>Конусова</cp:lastModifiedBy>
  <dcterms:modified xsi:type="dcterms:W3CDTF">2010-09-18T07:51:49Z</dcterms:modified>
  <cp:revision>375</cp:revision>
  <dc:subject/>
  <dc:title>Слайд 1</dc:title>
</cp:coreProperties>
</file>