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89B4-B232-4C99-8A53-271D10927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A1EB-DE09-4E16-80CF-2D1685501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90E4-C935-4555-838A-1472CF1C9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F169-2B90-4067-B7E3-5DE3D65C2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2F136-5B18-48F7-9004-0CC6984F0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C14DB-1F7D-40E5-A9AD-D2F054544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F3762-27C1-4808-97E1-66F74A75F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117E5-6AC8-4485-B380-5B59870D8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DA2C3-F49A-41DF-8222-3CEF5323B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76AAC-7323-48C7-AB0F-1538552C6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21EA2-72F1-42DF-9895-B98CF9422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161A-D447-44AB-9980-C7D07605F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57518-0EE4-4D21-AFB6-73FBB495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6944B-7552-4566-9CDC-56F4313B4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F0CB2-0E4B-44D4-807F-59FAE1562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906C5-C81C-44C2-BE50-03ADA08F1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A3E5C-A41B-4BF8-BD08-AF4E53FE8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3803-5601-44F4-8BCA-073894385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7FDF-8355-4410-95EF-01E6663AD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3C52-FB19-40EE-8C1B-AC4820423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0AF7-3AC0-4AD3-BC98-140B81743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BB36-1D51-43FC-BD94-90D4E3280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6D54-4A63-4F17-86A5-061A3AB41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4951-7340-4104-BC8D-12812FEC1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8080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8080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67FC2-DE13-4B88-9402-F033664E5A98}" type="slidenum">
              <a:rPr b="0" lang="ru-RU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8080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8080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E54DD-7B4C-4E2F-9B76-4A215196BEE0}" type="slidenum">
              <a:rPr b="0" lang="ru-RU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50560" y="476280"/>
            <a:ext cx="6178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Tahoma"/>
              </a:rPr>
              <a:t>НРМОУ «Салымская СОШ №2»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724360" y="3933360"/>
            <a:ext cx="28800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Tahoma"/>
              </a:rPr>
              <a:t>Выполнил: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Tahoma"/>
              </a:rPr>
              <a:t>Ученик 4-А класса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Tahoma"/>
              </a:rPr>
              <a:t>Черепанов Игорь.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Tahoma"/>
              </a:rPr>
              <a:t>Руководитель: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Tahoma"/>
              </a:rPr>
              <a:t>Учитель </a:t>
            </a:r>
            <a:r>
              <a:rPr b="0" lang="en-US" sz="1800" spc="-1" strike="noStrike">
                <a:solidFill>
                  <a:srgbClr val="080808"/>
                </a:solidFill>
                <a:latin typeface="Tahoma"/>
              </a:rPr>
              <a:t>I </a:t>
            </a:r>
            <a:r>
              <a:rPr b="0" lang="ru-RU" sz="1800" spc="-1" strike="noStrike">
                <a:solidFill>
                  <a:srgbClr val="080808"/>
                </a:solidFill>
                <a:latin typeface="Tahoma"/>
              </a:rPr>
              <a:t>категории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Tahoma"/>
              </a:rPr>
              <a:t>Мамедова Л.Г.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132000" y="1484280"/>
            <a:ext cx="525636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Самолёты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50920" y="2997360"/>
            <a:ext cx="3556080" cy="35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1640" y="1341000"/>
            <a:ext cx="43434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ГИДРОСАМОЛЕТ (гидроплан), самолет для взлета с воды и посадки на нее. Различают летающую лодку (корпус имеет форму лодки; обеспечивает взлет, посадку и поддержание гидросамолета на воде), амфибию (с колесным шасси для посадки на сушу) и поплавковый гидросамолет (вместо колес установлены поплавки).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427500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219640" y="1268280"/>
            <a:ext cx="369576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0808"/>
                </a:solidFill>
                <a:latin typeface="Tahoma"/>
              </a:rPr>
              <a:t>Летающая лодка может совершать взлет и посадку только с водной поверхности. У самолетов этого типа нет посадочного шасси, однако, этот недостаток с лихвой компенсируется способностью летающих лодок переносить на борту большое количество груза и пассажиров. Самолеты такого типа просто незаменимы в областях, где невозможно построить взлетно-посадочные полосы, но есть достаточно большой водоем.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4826160" cy="46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219640" y="1294920"/>
            <a:ext cx="36957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0808"/>
                </a:solidFill>
                <a:latin typeface="Tahoma"/>
              </a:rPr>
              <a:t>Самолет - амфибия. Специальная конструкция фюзеляжа позволяет этому самолету взлетать с воды и приземляться на воду, а убирающиеся колеса - на сушу. Силовая установка вынесена за пределы фюзеляжа. За счет этого удалось уменьшить высоту корпуса, тем самым, увеличив площадь соприкосновения с поверхностью воды и повысить устойчивость амфибии на воде.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4969080" cy="44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932360" y="1294920"/>
            <a:ext cx="3983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Поплавковый гидросамолет — это наиболее простое решение, которое позволяет с минимальными затратами превратить обычный самолет в гидроплан. У серийной модели колесное шасси заменяют на поплавки, и самолет получает возможность приводняться, лишь бы хватило длины водоема. 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79280" y="476280"/>
            <a:ext cx="464364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523880" y="4653000"/>
            <a:ext cx="739152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0808"/>
                </a:solidFill>
                <a:latin typeface="Tahoma"/>
              </a:rPr>
              <a:t>Турбореактивный самолет Ил-62:                                                             1 — передняя стойка шасси; 2 — кабина экипажа; 3 — входная дверь; 4 — фюзеляж; 5 — передний пассажирский салон; 6 — основная стойка шасси; 7 — крыло; 8 — двигатели; 9 — технический отсек; 10 — стабилизатор; 11 — антенна; 12 — киль; 13 — задний пассажирский салон; 14 — буфет; 15 — гардероб.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908000" y="189000"/>
            <a:ext cx="6264360" cy="44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755640" y="333360"/>
            <a:ext cx="763272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403280" y="189000"/>
            <a:ext cx="73440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Tahoma"/>
              </a:rPr>
              <a:t>Многоцелевые истребители</a:t>
            </a:r>
            <a:r>
              <a:rPr b="0" lang="ru-RU" sz="4400" spc="-1" strike="noStrike">
                <a:solidFill>
                  <a:srgbClr val="080808"/>
                </a:solidFill>
                <a:latin typeface="Tahoma"/>
              </a:rPr>
              <a:t> СУ-35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79280" y="1052640"/>
            <a:ext cx="5400720" cy="31716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4390920" y="3500280"/>
            <a:ext cx="4753080" cy="30448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47640" y="1267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23880" y="3789000"/>
            <a:ext cx="7391520" cy="27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ИСТРЕБИТЕЛЬ, боевой самолет для уничтожения самолетов и беспилотных средств противника. Современный истребитель — реактивный сверхзвуковой всепогодный самолет, имеет хорошую маневренность, большой практический потолок полета, мощное ракетное, стрелково-пушечное и бомбардировочное вооружение.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195640" y="260280"/>
            <a:ext cx="536400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Tahoma"/>
              </a:rPr>
              <a:t>ИСТРЕБИТЕЛЬНАЯ АВИАЦИЯ, род военной авиации, одно из основных средств борьбы с воздушным противником. Имеет на вооружении самолеты-истребители (в России — МиГ-29, МиГ-31, Су-27). Предназначена для поражения самолетов, вертолетов, крылатых ракет и беспилотных средств противника в воздухе. Может решать задачи по поражению наземных (морских) объектов противника в тактической и ближайшей оперативной глубине, а также по ведению воздушной разведки.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Tahoma"/>
              </a:rPr>
              <a:t>Цель:</a:t>
            </a:r>
            <a:r>
              <a:rPr b="0" lang="ru-RU" sz="4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80808"/>
                </a:solidFill>
                <a:latin typeface="Tahoma"/>
              </a:rPr>
              <a:t>создание модели самолёта.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Tahoma"/>
              </a:rPr>
              <a:t>Задачи: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Tahoma"/>
              </a:rPr>
              <a:t>Познакомиться с историей воздухоплавания.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Tahoma"/>
              </a:rPr>
              <a:t>Изучить виды самолётов по предназначению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Tahoma"/>
              </a:rPr>
              <a:t>Изготовление модели военного самолёта.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Tahoma"/>
              </a:rPr>
              <a:t>ИСТРЕБИТЕЛЬ-БОМБАРДИОВЩИК, реактивный сверхзвуковой боевой самолет фронтовой (тактической) авиации, сочетает качества истребителя и бомбардировщика; мощное вооружение.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Tahoma"/>
              </a:rPr>
              <a:t>ИСТРЕБИТЕЛЬНО-БОМБАРДИРОВОЧНАЯ АВИАЦИЯ, род военной авиации; предназначен для поражения воздушных и наземных средств противника. Имеет на вооружении реактивные сверхзвуковые истребители-бомбардировщики.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920" y="75960"/>
            <a:ext cx="8655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Tahoma"/>
              </a:rPr>
              <a:t>Изготовление модели военного самолёта.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Tahoma"/>
              </a:rPr>
              <a:t>Материалы: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Tahoma"/>
              </a:rPr>
              <a:t>Пенопласт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Tahoma"/>
              </a:rPr>
              <a:t>Пластилин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Tahoma"/>
              </a:rPr>
              <a:t>Фольга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050920" y="1628640"/>
            <a:ext cx="669636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Спасибо за внимание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523880" y="3500280"/>
            <a:ext cx="7391520" cy="30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Tahoma"/>
              </a:rPr>
              <a:t>САМОЛЕТ, летательный аппарат тяжелее воздуха для полетов в атмосфере с помощью силовой установки и крыльев (в ряде случаев с изменяемой геометрией).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419640" y="189000"/>
            <a:ext cx="5184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АВИАЦИЯ (франц. aviation, от лат. avis — птица), понятие, связанное с полетами в атмосфере аппаратов тяжелее воздуха. Авиацией называют также организацию (службу), использующую для полетов эти аппараты. Различают гражданскую авиацию и военную авиацию.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Практически авиация стала развиваться в нач. 20 в. Первый успешный полет самолета американских механиков братьев У. и О. Райт с двигателем внутреннего сгорания — 17 декабря 1903. Вслед за этим в Европе, главным образом во Франции, строят самолеты А. Сантос-Дюмон, Ф. Фербер и др. В России в 1909-1914 появились самолеты Я. М. Гаккеля, Д. П. Григоровича, И. И. Сикорского и др.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С сер. 20-х гг. в самолетостроении начали использовать дуралюмин (первые советские цельнометаллические самолеты построены А. Н. Туполевым в 1924-1925); к сер. 30-х гг. произошел окончательный переход от биплана к моноплану. В конце 1930-х гг. появился реактивный двигатель в СССР. В 1942 был совершен первый полет на самолете с жидкостным ракетным двигателем.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С начала 1950-х гг. реактивные самолеты стали использовать и в гражданской авиации (в СССР Ту-104, 1955), широко развивалось вертолетостроение, в ВВС появились сверхзвуковые самолеты. К началу 1990-х гг. серийные самолеты достигли скорости 3000-3500 км/ч, потолка св. 30 км и дальности до 15 тыс км.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Tahoma"/>
              </a:rPr>
              <a:t>ЛЕТАТЕЛЬНЫЙ АППАРАТ, устройство для полетов в атмосфере или космическом пространстве. Различают летательные аппараты легче воздуха (аэростаты), тяжелее воздуха и космические летательные аппараты.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Tahoma"/>
              </a:rPr>
              <a:t>Различают: гражданские, военные; винтовые, реактивные, поршневые, турбовинтовые, турбореактивные, ракетные; до-, сверх-, гиперзвуковые; сухопутные, корабельные, гидросамолеты; вертикального, короткого, обычного взлета и посадки; экспериментальные, опытные, серийные.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8T18:57:19Z</dcterms:created>
  <dc:creator>Лорочка</dc:creator>
  <dc:description/>
  <cp:keywords/>
  <dc:language>en-US</dc:language>
  <cp:lastModifiedBy>1</cp:lastModifiedBy>
  <dcterms:modified xsi:type="dcterms:W3CDTF">2011-01-29T08:55:36Z</dcterms:modified>
  <cp:revision>3</cp:revision>
  <dc:subject/>
  <dc:title>НРМОУ «Салымская СОШ №2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341049</vt:lpwstr>
  </property>
</Properties>
</file>