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073-3490-4DAC-8F2F-35754BE3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513-1E70-43DA-83AD-CEAEEB3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181-AC94-4412-A14A-38D00B4C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7A0-6116-40CA-9D35-653C6AA7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8C5-19C3-409F-9715-2B7F09E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D02-844C-41E0-B597-1487A7C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6FD-3B3E-44D7-B102-0D09E972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3D1-BF66-4433-A83B-E1B84C66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D4A-E24A-48FB-910D-422A5225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85-A296-4497-AB6F-6EFADE8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D3F-7E10-41A9-B8BF-38EDB8DD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72A-3773-4F2C-B1E9-0CE1249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24EC-8AA5-4079-8A6F-86CB02C0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7532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836640"/>
            <a:ext cx="6264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ф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дин рубль не равен 100 копее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р=100 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р=1000 к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им обе части этих верных равенств, получ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р=100000 коп, откуда след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р=1000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Сидящий встал; кто встал, тот стоит; следовательно, сидящий стоит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Сократ - человек; человек - не то же самое, что Сократ; значит, Сократ - это нечто иное, чем Сократ». 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Для того чтобы видеть, вовсе необязательно иметь глаза, ведь без правого глаза мы видим, без левого тоже видим; кроме правого и левого, других глаз у нас нет; поэтому ясно, что глаза не являются необходимыми для зрения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Если какой-нибудь человек говорит, что он лжет, то лжет ли он или говорит правду?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:4= 5:5- верное равен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вынесения за скобки общего множителя из каждой части равенства будем им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∙(1:1)=5∙(1:1) или(2∙2)(1:1)=5(1:1) Наконец, зная, что 1:1=1, мы из соотношения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1:1)=5(1:1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авливаем: 2∙2=5.   Где ошиб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54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&gt;-В и В&gt;-В.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1382040"/>
            <a:ext cx="77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ножив оба этих неравенства почленно, получим неравенство А*В&gt;В*В, а после его деления на В, что вполне законно, ведь В&gt;0, придем к выводу, ч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&gt;В. (2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в же два других столь же бесспорных неравенств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&gt;-А и А&gt;-А, (3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о предыдущему получим, что В*А&gt;А*А, а разделив на А&gt;0, придем к неравенств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&gt;В. (4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число А, равное числу В, одновременно и больше, и меньше его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7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, а дм- длина спички и b дм - длина столба. Разность между b и a обозначим через c . Имеем b - a = c, b = a + c. Перемножаем два эти равенства по частям, нахо-дим: b2 - ab = ca + c2. Вычтем из обеих частей bc. Получим: b2- ab - bc = ca + c2 - bc, или b(b - a - c) = - c(b - a - c), откуда b = - c, но c = b - a, поэтому b = a - b, или a = 2b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ошибка??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468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5 есть 2 + 3 («два и три»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— число чётно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— нечётное, выходит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ять — число и чётное и нечётное. В чем ошиб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3 = 4-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в к обеим частям этого равенства число , получим новое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3 + = 4-6+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тором, как нетрудно заметить, правая и левая части представляют собой полные квадраты, т.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)=(2-)Извлекая из правой и левой частей предыдущего равенства квадратный корень, получаем 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=2-откуда следуе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Полупустое и полуполное»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лупустое есть то же, что и полуполное. Если равны половины, значит, равны и целые. Следовательно, пустое есть то же, что и полно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Рога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5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«Самое быстрое не догонит самое медленн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строногий Ахиллес никогда не настигнет черепаху. Пока Ахиллес добежит до черепахи, она продвинется немного вперед. Он быстро преодолеет это расстояние, но черепаха уйдет еще чуточку вперед. И так до бесконечности. Всякий раз, когда Ахиллес будет достигать места, где была перед этим черепаха, она будет оказываться хотя бы немного, но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07:19Z</dcterms:created>
  <dc:creator>Home</dc:creator>
  <dc:description/>
  <dc:language>en-US</dc:language>
  <cp:lastModifiedBy>Home</cp:lastModifiedBy>
  <dcterms:modified xsi:type="dcterms:W3CDTF">2011-01-30T13:46:55Z</dcterms:modified>
  <cp:revision>2</cp:revision>
  <dc:subject/>
  <dc:title>Слайд 1</dc:title>
</cp:coreProperties>
</file>