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E54A-E8F5-437D-B5D4-E917438E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1505-EBBB-46F2-9162-617640F2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8436-8275-49EB-8A9E-26C8268E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24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24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F887-7C9A-4E37-8E22-D90977749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8346-1077-4078-B6FC-B948A16AF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722A-3FFA-4C74-B238-FA519C15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F17D-F572-4494-8872-45E0D6AC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E06F-EFF2-49BD-B485-088754CC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6DDF-B50B-4886-B5F4-654444BF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4674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2BC2-FA43-4C34-B297-ED4481D5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1E90-3043-4D59-9058-5B42A875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B839-73A7-48C6-8813-62C46A9E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49AB-6096-40D8-AB69-1D7A7B7B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6976-5BF2-45CF-B639-4C1E4447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6836-751B-41EF-864E-E2B8DC3B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87EF-CE2C-465C-BD01-C585D233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992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124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992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124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33C6-C0E3-4662-975D-414AEC0B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78F1-6B60-450E-B21E-10C2D9E8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2D59-FB30-4D49-9D85-2F6DCE91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425E-5A79-44E4-97B7-6F32A9D9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4674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C4D4-ACD1-44DE-91BA-B189F824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787D-0E08-4914-8D68-E1740300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69CD-D2FE-4CB7-ABB8-529EC7DC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7380-A233-4D2C-8760-7E20BBB4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8CB9-6486-4D8F-B529-882C84ECC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3886200"/>
            <a:ext cx="86104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8923-72D9-4A76-92CC-30E5CDBE3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egabook.ru/MediaViewer.asp?AID=685945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80880" y="380880"/>
            <a:ext cx="4876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Georgia"/>
              </a:rPr>
              <a:t>НОУ СОШ "СВЕТ"</a:t>
            </a:r>
            <a:endParaRPr b="0" i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Georgia"/>
              </a:rPr>
              <a:t>предмет: ХИМИЯ</a:t>
            </a:r>
            <a:endParaRPr b="0" i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Georgia"/>
              </a:rPr>
              <a:t>преподаватель: Горелова И.И</a:t>
            </a:r>
            <a:endParaRPr b="0" i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Georgia"/>
              <a:ea typeface="Georgi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4038480"/>
            <a:ext cx="8352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Удивительный цинк 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и его уникальная роль в организме.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6237360"/>
            <a:ext cx="8083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2362320"/>
            <a:ext cx="495288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Georgia"/>
              </a:rPr>
              <a:t>Денисова Екатерина</a:t>
            </a:r>
            <a:endParaRPr b="0" i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Georgia"/>
              </a:rPr>
              <a:t>9 класс</a:t>
            </a:r>
            <a:endParaRPr b="0" i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048120" y="6248520"/>
            <a:ext cx="281916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Georgia"/>
              </a:rPr>
              <a:t>Москва 2011 год</a:t>
            </a:r>
            <a:endParaRPr b="0" lang="en-US" sz="20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7415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447920"/>
            <a:ext cx="8264520" cy="44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ahoma"/>
              </a:rPr>
              <a:t>Цинк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ahoma"/>
              </a:rPr>
              <a:t>— голубовато-белый метал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ahoma"/>
              </a:rPr>
              <a:t>Обладает </a:t>
            </a:r>
            <a:r>
              <a:rPr b="1" i="1" lang="ru-RU" sz="2000" spc="-1" strike="noStrike">
                <a:solidFill>
                  <a:srgbClr val="000066"/>
                </a:solidFill>
                <a:latin typeface="Tahoma"/>
                <a:ea typeface="Tahoma"/>
              </a:rPr>
              <a:t>гексагонально</a:t>
            </a:r>
            <a:r>
              <a:rPr b="1" i="1" lang="ru-RU" sz="2000" spc="-1" strike="noStrike">
                <a:solidFill>
                  <a:srgbClr val="000066"/>
                </a:solidFill>
                <a:latin typeface="Tahoma"/>
              </a:rPr>
              <a:t>й плотноупакованной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ahoma"/>
              </a:rPr>
              <a:t>решет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ahoma"/>
              </a:rPr>
              <a:t>Температура плавления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ahoma"/>
              </a:rPr>
              <a:t>419,58°C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Т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ahoma"/>
              </a:rPr>
              <a:t>емпература кипения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ahoma"/>
              </a:rPr>
              <a:t>906,2°C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П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ahoma"/>
              </a:rPr>
              <a:t>лотность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ahoma"/>
              </a:rPr>
              <a:t>7,133 кг/дм</a:t>
            </a:r>
            <a:r>
              <a:rPr b="1" i="1" lang="ru-RU" sz="2000" spc="-1" strike="noStrike" baseline="30000">
                <a:solidFill>
                  <a:srgbClr val="ff0000"/>
                </a:solidFill>
                <a:latin typeface="Times New Roman"/>
                <a:ea typeface="Tahoma"/>
              </a:rPr>
              <a:t>3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ahoma"/>
              </a:rPr>
              <a:t>.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ahoma"/>
              </a:rPr>
              <a:t>При комнатной температуре хруп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ahoma"/>
              </a:rPr>
              <a:t>При 100-150°C пластич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ahoma"/>
              </a:rPr>
              <a:t>Стандартный электродный потенциал –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ahoma"/>
              </a:rPr>
              <a:t>0,76 В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ahoma"/>
              </a:rPr>
              <a:t>в ряду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ahoma"/>
              </a:rPr>
              <a:t>стандартных потенциалов расположен до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ahoma"/>
              </a:rPr>
              <a:t>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340000" y="260280"/>
            <a:ext cx="554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sq"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Физические свойства Zn</a:t>
            </a:r>
            <a:endParaRPr b="0" i="1" lang="en-US" sz="1800" spc="1" strike="noStrike">
              <a:ln cap="sq"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172200" y="2971800"/>
          <a:ext cx="2419200" cy="2041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72200" y="2971800"/>
                    <a:ext cx="241920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7415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1447920"/>
            <a:ext cx="87980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828800" y="304920"/>
            <a:ext cx="69166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sq"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Химические свойства Zn</a:t>
            </a:r>
            <a:endParaRPr b="0" i="1" lang="en-US" sz="1800" spc="1" strike="noStrike">
              <a:ln cap="sq"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676520"/>
            <a:ext cx="9144000" cy="55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 –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типичный металл и его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главным химическим свойством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является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восстановление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Являясь восстановителем,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в реакциях с кислотами легко отдает 2 валентных электрона и переходит в заряженные ионы. Отсюда вытекают его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характерные химические свойства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вытесняет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1" i="1" lang="en-US" sz="1600" spc="-1" strike="noStrike" baseline="-25000">
                <a:solidFill>
                  <a:srgbClr val="000066"/>
                </a:solidFill>
                <a:latin typeface="Times New Roman"/>
              </a:rPr>
              <a:t>2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из растворов кислот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, с которыми активно взаимодействует с образованием соответствующих солей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       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+ 2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Cl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=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ZnCl</a:t>
            </a:r>
            <a:r>
              <a:rPr b="1" i="1" lang="ru-RU" sz="16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2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+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</a:t>
            </a:r>
            <a:r>
              <a:rPr b="1" i="1" lang="ru-RU" sz="16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2</a:t>
            </a:r>
            <a:r>
              <a:rPr b="1" i="1" lang="ru-RU" sz="1600" spc="-1" strike="noStrike" baseline="-30000">
                <a:solidFill>
                  <a:srgbClr val="000066"/>
                </a:solidFill>
                <a:latin typeface="Times New Roman"/>
              </a:rPr>
              <a:t> 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(хлорид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baseline="-30000">
                <a:solidFill>
                  <a:srgbClr val="000066"/>
                </a:solidFill>
                <a:latin typeface="Times New Roman"/>
              </a:rPr>
              <a:t>                                                                                                       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+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</a:t>
            </a:r>
            <a:r>
              <a:rPr b="1" i="1" lang="ru-RU" sz="16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2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O</a:t>
            </a:r>
            <a:r>
              <a:rPr b="1" i="1" lang="ru-RU" sz="16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4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=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ZnSO</a:t>
            </a:r>
            <a:r>
              <a:rPr b="1" i="1" lang="ru-RU" sz="16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4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+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</a:t>
            </a:r>
            <a:r>
              <a:rPr b="1" i="1" lang="ru-RU" sz="16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2</a:t>
            </a:r>
            <a:r>
              <a:rPr b="1" i="1" lang="en-US" sz="16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сульфат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66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вытесняет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из раствора солей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другие металлы, стоящие правее него в ряду напряженност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+ CuSO</a:t>
            </a:r>
            <a:r>
              <a:rPr b="1" i="1" lang="ru-RU" sz="16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4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=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ZnSO</a:t>
            </a:r>
            <a:r>
              <a:rPr b="1" i="1" lang="ru-RU" sz="16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4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+ Cu</a:t>
            </a:r>
            <a:r>
              <a:rPr b="1" i="1" lang="en-US" sz="16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3.  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– амфотерный металл, который растворяется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в водных растворах щелочей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с образованием ионов </a:t>
            </a:r>
            <a:r>
              <a:rPr b="1" i="1" lang="en-US" sz="1600" spc="-1" strike="noStrike">
                <a:solidFill>
                  <a:srgbClr val="000066"/>
                </a:solidFill>
                <a:latin typeface="Georgia"/>
                <a:ea typeface="Times New Roman"/>
              </a:rPr>
              <a:t>[Zn(OH)</a:t>
            </a:r>
            <a:r>
              <a:rPr b="1" i="1" lang="en-US" sz="1600" spc="-1" strike="noStrike" baseline="-30000">
                <a:solidFill>
                  <a:srgbClr val="000066"/>
                </a:solidFill>
                <a:latin typeface="Georgia"/>
                <a:ea typeface="Times New Roman"/>
              </a:rPr>
              <a:t>4</a:t>
            </a:r>
            <a:r>
              <a:rPr b="1" i="1" lang="en-US" sz="1600" spc="-1" strike="noStrike">
                <a:solidFill>
                  <a:srgbClr val="000066"/>
                </a:solidFill>
                <a:latin typeface="Georgia"/>
                <a:ea typeface="Times New Roman"/>
              </a:rPr>
              <a:t>] </a:t>
            </a:r>
            <a:r>
              <a:rPr b="1" i="1" lang="en-US" sz="1600" spc="-1" strike="noStrike" baseline="30000">
                <a:solidFill>
                  <a:srgbClr val="000066"/>
                </a:solidFill>
                <a:latin typeface="Georgia"/>
                <a:ea typeface="Times New Roman"/>
              </a:rPr>
              <a:t>2–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-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гидроксоцинкатов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                    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Zn + 2NaOH + 2H</a:t>
            </a:r>
            <a:r>
              <a:rPr b="1" i="1" lang="en-US" sz="16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2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 = Na</a:t>
            </a:r>
            <a:r>
              <a:rPr b="1" i="1" lang="en-US" sz="16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2 </a:t>
            </a:r>
            <a:r>
              <a:rPr b="1" i="1" lang="en-US" sz="1600" spc="-1" strike="noStrike">
                <a:solidFill>
                  <a:srgbClr val="000066"/>
                </a:solidFill>
                <a:latin typeface="Georgia"/>
                <a:ea typeface="Times New Roman"/>
              </a:rPr>
              <a:t>[Zn(OH)</a:t>
            </a:r>
            <a:r>
              <a:rPr b="1" i="1" lang="en-US" sz="1600" spc="-1" strike="noStrike" baseline="-30000">
                <a:solidFill>
                  <a:srgbClr val="000066"/>
                </a:solidFill>
                <a:latin typeface="Georgia"/>
                <a:ea typeface="Times New Roman"/>
              </a:rPr>
              <a:t>4</a:t>
            </a:r>
            <a:r>
              <a:rPr b="1" i="1" lang="en-US" sz="1600" spc="-1" strike="noStrike">
                <a:solidFill>
                  <a:srgbClr val="000066"/>
                </a:solidFill>
                <a:latin typeface="Georgia"/>
                <a:ea typeface="Times New Roman"/>
              </a:rPr>
              <a:t>]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+ H</a:t>
            </a:r>
            <a:r>
              <a:rPr b="1" i="1" lang="en-US" sz="16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baseline="-30000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Взаимодействуя с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кристаллической щелочью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при нагревании,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образует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цинкат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Zn + 2NaOH = Na</a:t>
            </a:r>
            <a:r>
              <a:rPr b="1" i="1" lang="en-US" sz="16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2 </a:t>
            </a:r>
            <a:r>
              <a:rPr b="1" i="1" lang="en-US" sz="1600" spc="-1" strike="noStrike">
                <a:solidFill>
                  <a:srgbClr val="000066"/>
                </a:solidFill>
                <a:latin typeface="Georgia"/>
                <a:ea typeface="Times New Roman"/>
              </a:rPr>
              <a:t>ZnO</a:t>
            </a:r>
            <a:r>
              <a:rPr b="1" i="1" lang="ru-RU" sz="1600" spc="-1" strike="noStrike">
                <a:solidFill>
                  <a:srgbClr val="000066"/>
                </a:solidFill>
                <a:latin typeface="Georgia"/>
              </a:rPr>
              <a:t>2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+ H</a:t>
            </a:r>
            <a:r>
              <a:rPr b="1" i="1" lang="en-US" sz="16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2</a:t>
            </a:r>
            <a:r>
              <a:rPr b="1" i="1" lang="ru-RU" sz="1600" spc="-1" strike="noStrike" baseline="-30000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сплавление)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4.    При растворении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в растворе аммиака образуется аммиачный комплекс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Arial"/>
              </a:rPr>
              <a:t>Zn + 4NH</a:t>
            </a:r>
            <a:r>
              <a:rPr b="1" i="1" lang="en-US" sz="1600" spc="-1" strike="noStrike" baseline="-30000">
                <a:solidFill>
                  <a:srgbClr val="000066"/>
                </a:solidFill>
                <a:latin typeface="Times New Roman"/>
                <a:ea typeface="Arial"/>
              </a:rPr>
              <a:t>3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Arial"/>
              </a:rPr>
              <a:t>·H</a:t>
            </a:r>
            <a:r>
              <a:rPr b="1" i="1" lang="en-US" sz="1600" spc="-1" strike="noStrike" baseline="-30000">
                <a:solidFill>
                  <a:srgbClr val="000066"/>
                </a:solidFill>
                <a:latin typeface="Times New Roman"/>
                <a:ea typeface="Arial"/>
              </a:rPr>
              <a:t>2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Arial"/>
              </a:rPr>
              <a:t>O = [Zn(NH</a:t>
            </a:r>
            <a:r>
              <a:rPr b="1" i="1" lang="en-US" sz="1600" spc="-1" strike="noStrike" baseline="-30000">
                <a:solidFill>
                  <a:srgbClr val="000066"/>
                </a:solidFill>
                <a:latin typeface="Times New Roman"/>
                <a:ea typeface="Arial"/>
              </a:rPr>
              <a:t>3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Arial"/>
              </a:rPr>
              <a:t>)</a:t>
            </a:r>
            <a:r>
              <a:rPr b="1" i="1" lang="en-US" sz="1600" spc="-1" strike="noStrike" baseline="-30000">
                <a:solidFill>
                  <a:srgbClr val="000066"/>
                </a:solidFill>
                <a:latin typeface="Times New Roman"/>
                <a:ea typeface="Arial"/>
              </a:rPr>
              <a:t>4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Arial"/>
              </a:rPr>
              <a:t>](OH)</a:t>
            </a:r>
            <a:r>
              <a:rPr b="1" i="1" lang="en-US" sz="1600" spc="-1" strike="noStrike" baseline="-30000">
                <a:solidFill>
                  <a:srgbClr val="000066"/>
                </a:solidFill>
                <a:latin typeface="Times New Roman"/>
                <a:ea typeface="Arial"/>
              </a:rPr>
              <a:t>2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Arial"/>
              </a:rPr>
              <a:t> + 2H</a:t>
            </a:r>
            <a:r>
              <a:rPr b="1" i="1" lang="en-US" sz="1600" spc="-1" strike="noStrike" baseline="-30000">
                <a:solidFill>
                  <a:srgbClr val="000066"/>
                </a:solidFill>
                <a:latin typeface="Times New Roman"/>
                <a:ea typeface="Arial"/>
              </a:rPr>
              <a:t>2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Arial"/>
              </a:rPr>
              <a:t>O + H</a:t>
            </a:r>
            <a:r>
              <a:rPr b="1" i="1" lang="en-US" sz="1600" spc="-1" strike="noStrike" baseline="-30000">
                <a:solidFill>
                  <a:srgbClr val="000066"/>
                </a:solidFill>
                <a:latin typeface="Times New Roman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7415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1447920"/>
            <a:ext cx="87980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828800" y="304920"/>
            <a:ext cx="69166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sq"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Химические свойства Zn</a:t>
            </a:r>
            <a:endParaRPr b="0" i="1" lang="en-US" sz="1800" spc="1" strike="noStrike">
              <a:ln cap="sq"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676520"/>
            <a:ext cx="9144000" cy="55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Взаимодействие со сложными веществами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(водой, кислотами и щелочами)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реагирует по разному, в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зависимости от услов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обычной чистоты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реагирует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с ними активно, но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очень чистый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–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не взаимодействует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, реакция начинается только при добавлении нескольких капель раствора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uSO</a:t>
            </a:r>
            <a:r>
              <a:rPr b="1" i="1" lang="ru-RU" sz="16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4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С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водой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при обычной </a:t>
            </a:r>
            <a:r>
              <a:rPr b="1" i="1" lang="en-US" sz="1600" spc="-1" strike="noStrike" u="sng">
                <a:solidFill>
                  <a:srgbClr val="000066"/>
                </a:solidFill>
                <a:uFillTx/>
                <a:latin typeface="Times New Roman"/>
              </a:rPr>
              <a:t>t</a:t>
            </a:r>
            <a:r>
              <a:rPr b="1" i="1" lang="ru-RU" sz="1600" spc="-1" strike="noStrike" u="sng" baseline="30000">
                <a:solidFill>
                  <a:srgbClr val="000066"/>
                </a:solidFill>
                <a:uFillTx/>
                <a:latin typeface="Times New Roman"/>
              </a:rPr>
              <a:t>0</a:t>
            </a:r>
            <a:r>
              <a:rPr b="1" i="1" lang="ru-RU" sz="16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не взаимодействует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, но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при повышении </a:t>
            </a:r>
            <a:r>
              <a:rPr b="1" i="1" lang="en-US" sz="1600" spc="-1" strike="noStrike" u="sng">
                <a:solidFill>
                  <a:srgbClr val="000066"/>
                </a:solidFill>
                <a:uFillTx/>
                <a:latin typeface="Times New Roman"/>
              </a:rPr>
              <a:t>t</a:t>
            </a:r>
            <a:r>
              <a:rPr b="1" i="1" lang="ru-RU" sz="1600" spc="-1" strike="noStrike" u="sng" baseline="30000">
                <a:solidFill>
                  <a:srgbClr val="000066"/>
                </a:solidFill>
                <a:uFillTx/>
                <a:latin typeface="Times New Roman"/>
              </a:rPr>
              <a:t>0</a:t>
            </a:r>
            <a:r>
              <a:rPr b="1" i="1" lang="ru-RU" sz="16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становится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более активным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и в реакциях с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ahoma"/>
              </a:rPr>
              <a:t>H</a:t>
            </a:r>
            <a:r>
              <a:rPr b="1" i="1" lang="en-US" sz="1600" spc="-1" strike="noStrike" baseline="-30000">
                <a:solidFill>
                  <a:srgbClr val="000066"/>
                </a:solidFill>
                <a:latin typeface="Times New Roman"/>
                <a:ea typeface="Tahoma"/>
              </a:rPr>
              <a:t>2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ahoma"/>
              </a:rPr>
              <a:t>O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вытесняет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</a:t>
            </a:r>
            <a:r>
              <a:rPr b="1" i="1" lang="en-US" sz="16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2</a:t>
            </a:r>
            <a:r>
              <a:rPr b="1" i="1" lang="ru-RU" sz="1600" spc="-1" strike="noStrike" baseline="-30000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, образуя в результате реакци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  <a:ea typeface="Tahoma"/>
              </a:rPr>
              <a:t>Zn +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ahoma"/>
              </a:rPr>
              <a:t>H</a:t>
            </a:r>
            <a:r>
              <a:rPr b="1" i="1" lang="en-US" sz="1600" spc="-1" strike="noStrike" baseline="-30000">
                <a:solidFill>
                  <a:srgbClr val="000066"/>
                </a:solidFill>
                <a:latin typeface="Times New Roman"/>
                <a:ea typeface="Tahoma"/>
              </a:rPr>
              <a:t>2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ahoma"/>
              </a:rPr>
              <a:t>O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  <a:ea typeface="Tahoma"/>
              </a:rPr>
              <a:t> = ZnO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+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</a:t>
            </a:r>
            <a:r>
              <a:rPr b="1" i="1" lang="en-US" sz="16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2</a:t>
            </a:r>
            <a:r>
              <a:rPr b="1" i="1" lang="ru-RU" sz="1600" spc="-1" strike="noStrike" baseline="-30000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i="1" lang="ru-RU" sz="1600" spc="-1" strike="noStrike" baseline="-30000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оксид цинка, обладающий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амфотерными свойствами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В водных растворах ионы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образуют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аквакомплексы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[Zn(H</a:t>
            </a:r>
            <a:r>
              <a:rPr b="1" i="1" lang="ru-RU" sz="1600" spc="-1" strike="noStrike" u="sng" baseline="-30000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O)</a:t>
            </a:r>
            <a:r>
              <a:rPr b="1" i="1" lang="ru-RU" sz="1600" spc="-1" strike="noStrike" u="sng" baseline="-30000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4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]</a:t>
            </a:r>
            <a:r>
              <a:rPr b="1" i="1" lang="ru-RU" sz="1600" spc="-1" strike="noStrike" u="sng" baseline="30000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2+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 и [Zn(H</a:t>
            </a:r>
            <a:r>
              <a:rPr b="1" i="1" lang="ru-RU" sz="1600" spc="-1" strike="noStrike" u="sng" baseline="-30000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O)</a:t>
            </a:r>
            <a:r>
              <a:rPr b="1" i="1" lang="ru-RU" sz="1600" spc="-1" strike="noStrike" u="sng" baseline="-30000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]</a:t>
            </a:r>
            <a:r>
              <a:rPr b="1" i="1" lang="ru-RU" sz="1600" spc="-1" strike="noStrike" u="sng" baseline="30000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Взаимодействие </a:t>
            </a: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Zn</a:t>
            </a: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 с простыми веществами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При нагревании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взаимодействует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 с неметаллами: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  галогенами, кислородом, серой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с образованием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галогенидов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(оксидов и сульфидов):   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Zn + Cl</a:t>
            </a:r>
            <a:r>
              <a:rPr b="1" i="1" lang="ru-RU" sz="16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= ZnCl</a:t>
            </a:r>
            <a:r>
              <a:rPr b="1" i="1" lang="en-US" sz="16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2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(хлорид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Zn + O</a:t>
            </a:r>
            <a:r>
              <a:rPr b="1" i="1" lang="ru-RU" sz="16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2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= 2ZnO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 (оксид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ahoma"/>
              </a:rPr>
              <a:t>Zn + S = ZnS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 (сульфид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7415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1447920"/>
            <a:ext cx="87980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828800" y="304920"/>
            <a:ext cx="69166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sq"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Химические свойства Zn</a:t>
            </a:r>
            <a:endParaRPr b="0" i="1" lang="en-US" sz="1800" spc="1" strike="noStrike">
              <a:ln cap="sq"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905120"/>
            <a:ext cx="914400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при нагревании реагирует с </a:t>
            </a: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теллуром и селеном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,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образуя соединения –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халькогениды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  <a:ea typeface="Tahoma"/>
              </a:rPr>
              <a:t>ZnS, ZnSe, ZnSe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  <a:ea typeface="Tahoma"/>
              </a:rPr>
              <a:t> Z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С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водородом, азотом, углеродом, кремнием и бором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непосредственно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не реагирует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При взаимодействии с </a:t>
            </a: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фосфором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дает –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фосфиды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Zn</a:t>
            </a:r>
            <a:r>
              <a:rPr b="1" i="1" lang="ru-RU" sz="16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3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</a:t>
            </a:r>
            <a:r>
              <a:rPr b="1" i="1" lang="ru-RU" sz="16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2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и ZnP</a:t>
            </a:r>
            <a:r>
              <a:rPr b="1" i="1" lang="ru-RU" sz="16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2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Нитрид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получают при взаимодействии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с </a:t>
            </a: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аммиаком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Arial"/>
              </a:rPr>
              <a:t>NH</a:t>
            </a:r>
            <a:r>
              <a:rPr b="1" i="1" lang="en-US" sz="1600" spc="-1" strike="noStrike" baseline="-30000">
                <a:solidFill>
                  <a:srgbClr val="000066"/>
                </a:solidFill>
                <a:latin typeface="Times New Roman"/>
                <a:ea typeface="Arial"/>
              </a:rPr>
              <a:t>3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) при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1" i="1" lang="ru-RU" sz="1600" spc="-1" strike="noStrike" baseline="30000">
                <a:solidFill>
                  <a:srgbClr val="000066"/>
                </a:solidFill>
                <a:latin typeface="Times New Roman"/>
              </a:rPr>
              <a:t>0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=550-600</a:t>
            </a:r>
            <a:r>
              <a:rPr b="1" i="1" lang="ru-RU" sz="1600" spc="-1" strike="noStrike" baseline="30000">
                <a:solidFill>
                  <a:srgbClr val="000066"/>
                </a:solidFill>
                <a:latin typeface="Times New Roman"/>
              </a:rPr>
              <a:t>0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С</a:t>
            </a:r>
            <a:r>
              <a:rPr b="1" i="1" lang="ru-RU" sz="16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Мы видим, что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Zn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 u="sng">
                <a:solidFill>
                  <a:srgbClr val="000066"/>
                </a:solidFill>
                <a:uFillTx/>
                <a:latin typeface="Times New Roman"/>
              </a:rPr>
              <a:t>обладает двойственной природой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, его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оксид и гидрооксид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 u="sng">
                <a:solidFill>
                  <a:srgbClr val="000066"/>
                </a:solidFill>
                <a:uFillTx/>
                <a:latin typeface="Times New Roman"/>
              </a:rPr>
              <a:t>амфотер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Как металл, образующий амфотерные гидроксиды, цинк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легко растворяется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в кислотах и щелочах, а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при нагревании до 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ru-RU" sz="1600" spc="-1" strike="noStrike" baseline="30000">
                <a:solidFill>
                  <a:srgbClr val="ff0000"/>
                </a:solidFill>
                <a:latin typeface="Times New Roman"/>
              </a:rPr>
              <a:t>0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кипения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его пары на воздухе воспламеняются и сгорают зеленовато-белым пламенем,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образуя окись 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7415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1447920"/>
            <a:ext cx="87980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28600"/>
            <a:ext cx="7391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cap="sq"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Применение Zn</a:t>
            </a:r>
            <a:endParaRPr b="0" i="1" lang="en-US" sz="3200" spc="1" strike="noStrike">
              <a:ln cap="sq"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286000"/>
            <a:ext cx="3124080" cy="1143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50000">
                <a:srgbClr val="b2eafe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на изготов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антикоррозийных покры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3505320"/>
            <a:ext cx="3886200" cy="13716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50000">
                <a:srgbClr val="c2eefe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для получ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технически важных сплав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с медью, аллюминие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никелем и титано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4800600"/>
            <a:ext cx="8686800" cy="17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Сплавы цинка с  титаном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(цинк-титановые покрыти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(титан придает прочность, а медь и алюминий обеспечивает пластичность покрыти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Сплавы меди и цинка - латунь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(изготавливают конденсаторные трубки, патронные гильзы, радиаторы, арматуру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Сплав цинка, меди и олова – бронза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(используется для архитектурных украшений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1676520"/>
            <a:ext cx="2057400" cy="1066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5400000"/>
          </a:gra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40% мирового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д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2057400"/>
            <a:ext cx="3886200" cy="2362320"/>
          </a:xfrm>
          <a:prstGeom prst="cloudCallout">
            <a:avLst>
              <a:gd name="adj1" fmla="val 14217"/>
              <a:gd name="adj2" fmla="val 6787"/>
            </a:avLst>
          </a:prstGeom>
          <a:gradFill rotWithShape="0">
            <a:gsLst>
              <a:gs pos="0">
                <a:srgbClr val="ffffcc"/>
              </a:gs>
              <a:gs pos="50000">
                <a:srgbClr val="66ffff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Уникальное свойство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Zn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защита металла от корроз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используется в</a:t>
            </a: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промышленности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2286000"/>
            <a:ext cx="609840" cy="76320"/>
          </a:xfrm>
          <a:prstGeom prst="leftArrow">
            <a:avLst>
              <a:gd name="adj1" fmla="val 50000"/>
              <a:gd name="adj2" fmla="val 199764"/>
            </a:avLst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2743200"/>
            <a:ext cx="76320" cy="838080"/>
          </a:xfrm>
          <a:prstGeom prst="downArrow">
            <a:avLst>
              <a:gd name="adj1" fmla="val 50000"/>
              <a:gd name="adj2" fmla="val 274528"/>
            </a:avLst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7415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1447920"/>
            <a:ext cx="87980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600200" y="228600"/>
            <a:ext cx="7391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cap="sq"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Применение Zn</a:t>
            </a:r>
            <a:endParaRPr b="0" i="1" lang="en-US" sz="3200" spc="1" strike="noStrike">
              <a:ln cap="sq"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676520"/>
            <a:ext cx="3733920" cy="1447560"/>
          </a:xfrm>
          <a:prstGeom prst="cloudCallout">
            <a:avLst>
              <a:gd name="adj1" fmla="val 32398"/>
              <a:gd name="adj2" fmla="val -27412"/>
            </a:avLst>
          </a:prstGeom>
          <a:gradFill rotWithShape="0">
            <a:gsLst>
              <a:gs pos="0">
                <a:srgbClr val="ffffcc"/>
              </a:gs>
              <a:gs pos="50000">
                <a:srgbClr val="66ffff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Типографские сплавы и листовой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широко используется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в типографском деле.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3581280"/>
            <a:ext cx="3505320" cy="2057400"/>
          </a:xfrm>
          <a:prstGeom prst="cloudCallout">
            <a:avLst>
              <a:gd name="adj1" fmla="val -32925"/>
              <a:gd name="adj2" fmla="val -117439"/>
            </a:avLst>
          </a:prstGeom>
          <a:gradFill rotWithShape="0">
            <a:gsLst>
              <a:gs pos="0">
                <a:srgbClr val="ffffcc"/>
              </a:gs>
              <a:gs pos="50000">
                <a:srgbClr val="66ffff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Литейные свойства </a:t>
            </a: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Zn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и низкие температуры плавления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цинкосодержащих сплав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позволяют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отливать тонкостенные детали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352680"/>
            <a:ext cx="3276720" cy="2514600"/>
          </a:xfrm>
          <a:prstGeom prst="cloudCallout">
            <a:avLst>
              <a:gd name="adj1" fmla="val 93796"/>
              <a:gd name="adj2" fmla="val -135541"/>
            </a:avLst>
          </a:prstGeom>
          <a:gradFill rotWithShape="0">
            <a:gsLst>
              <a:gs pos="0">
                <a:srgbClr val="ffffcc"/>
              </a:gs>
              <a:gs pos="50000">
                <a:srgbClr val="66ffff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Другое свойство </a:t>
            </a:r>
            <a:r>
              <a:rPr b="1" i="1" lang="en-US" sz="1600" spc="-1" strike="noStrike" u="sng">
                <a:solidFill>
                  <a:srgbClr val="000066"/>
                </a:solidFill>
                <a:uFillTx/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–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низкая температура кипения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– используется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для защиты от перегрева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 стартовых комплексов космодромов.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1600200"/>
            <a:ext cx="3352680" cy="1295280"/>
          </a:xfrm>
          <a:prstGeom prst="cloudCallout">
            <a:avLst>
              <a:gd name="adj1" fmla="val -33050"/>
              <a:gd name="adj2" fmla="val -34805"/>
            </a:avLst>
          </a:prstGeom>
          <a:gradFill rotWithShape="0">
            <a:gsLst>
              <a:gs pos="0">
                <a:srgbClr val="ffffcc"/>
              </a:gs>
              <a:gs pos="50000">
                <a:srgbClr val="66ffff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Отлитые под давлением детали из цинка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используются в авто и авиостроении.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71800" y="2895480"/>
            <a:ext cx="3124080" cy="16002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50000">
                <a:srgbClr val="66ffff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Zn</a:t>
            </a: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 применяю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для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цинк-уголь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гальванических элемен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(в электрических часах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радиоаппаратур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5715000"/>
            <a:ext cx="85341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Потребление 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Zn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 в России около 200 тыс. тонн в го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(в том числе 90 тыс. тонн на ицнкование, 24 тыс. на латунно-цинковый прокат, 29 тыс. тон – химическая промышленность, лакокрасочные и резинотехнические изделия, 24 тыс. тонн на литейные цинковые сплавы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14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523880"/>
            <a:ext cx="91440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752480"/>
            <a:ext cx="9144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676520" y="304920"/>
            <a:ext cx="7391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sq"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Неорганические соединения Zn и </a:t>
            </a:r>
            <a:endParaRPr b="0" i="1" lang="en-US" sz="1800" spc="1" strike="noStrike">
              <a:ln cap="sq"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sq"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их промышленное применение</a:t>
            </a:r>
            <a:endParaRPr b="0" i="1" lang="en-US" sz="1800" spc="1" strike="noStrike">
              <a:ln cap="sq"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55" name="PubRRectCallout"/>
          <p:cNvSpPr/>
          <p:nvPr/>
        </p:nvSpPr>
        <p:spPr>
          <a:xfrm>
            <a:off x="152280" y="2895480"/>
            <a:ext cx="5257800" cy="1981440"/>
          </a:xfrm>
          <a:custGeom>
            <a:avLst/>
            <a:gdLst>
              <a:gd name="textAreaLeft" fmla="*/ 35280 w 5257800"/>
              <a:gd name="textAreaRight" fmla="*/ 5211360 w 5257800"/>
              <a:gd name="textAreaTop" fmla="*/ 12960 h 1981440"/>
              <a:gd name="textAreaBottom" fmla="*/ 1569240 h 19814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10735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ZnO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(оксид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) - тонкий белый порошок, получают сжиганием на воздухе паров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, образующих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-  при плавке руды: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Zn + O</a:t>
            </a:r>
            <a:r>
              <a:rPr b="1" i="1" lang="ru-RU" sz="16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2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= 2ZnO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-  при прокаливании 2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ahoma"/>
              </a:rPr>
              <a:t>Zn(NO</a:t>
            </a:r>
            <a:r>
              <a:rPr b="1" i="1" lang="en-US" sz="1600" spc="-1" strike="noStrike" baseline="-30000">
                <a:solidFill>
                  <a:srgbClr val="000066"/>
                </a:solidFill>
                <a:latin typeface="Times New Roman"/>
                <a:ea typeface="Tahoma"/>
              </a:rPr>
              <a:t>3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ahoma"/>
              </a:rPr>
              <a:t>)</a:t>
            </a:r>
            <a:r>
              <a:rPr b="1" i="1" lang="en-US" sz="1600" spc="-1" strike="noStrike" baseline="-30000">
                <a:solidFill>
                  <a:srgbClr val="000066"/>
                </a:solidFill>
                <a:latin typeface="Times New Roman"/>
                <a:ea typeface="Tahoma"/>
              </a:rPr>
              <a:t>2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ahoma"/>
              </a:rPr>
              <a:t> =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ahoma"/>
              </a:rPr>
              <a:t>ZnO +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4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ahoma"/>
              </a:rPr>
              <a:t> NO</a:t>
            </a:r>
            <a:r>
              <a:rPr b="1" i="1" lang="en-US" sz="1600" spc="-1" strike="noStrike" baseline="-30000">
                <a:solidFill>
                  <a:srgbClr val="000066"/>
                </a:solidFill>
                <a:latin typeface="Times New Roman"/>
                <a:ea typeface="Tahoma"/>
              </a:rPr>
              <a:t>2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ahoma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+ O</a:t>
            </a:r>
            <a:r>
              <a:rPr b="1" i="1" lang="ru-RU" sz="16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2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952880"/>
            <a:ext cx="5867280" cy="17528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ZnO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обладает амфотерными свойств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Он легко растворяется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в кислотах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ahoma"/>
              </a:rPr>
              <a:t>ZnO + 2HNO</a:t>
            </a:r>
            <a:r>
              <a:rPr b="1" i="1" lang="en-US" sz="1600" spc="-1" strike="noStrike" baseline="-30000">
                <a:solidFill>
                  <a:srgbClr val="000066"/>
                </a:solidFill>
                <a:latin typeface="Times New Roman"/>
                <a:ea typeface="Tahoma"/>
              </a:rPr>
              <a:t>3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ahoma"/>
              </a:rPr>
              <a:t> = Zn(NO</a:t>
            </a:r>
            <a:r>
              <a:rPr b="1" i="1" lang="en-US" sz="1600" spc="-1" strike="noStrike" baseline="-30000">
                <a:solidFill>
                  <a:srgbClr val="000066"/>
                </a:solidFill>
                <a:latin typeface="Times New Roman"/>
                <a:ea typeface="Tahoma"/>
              </a:rPr>
              <a:t>3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ahoma"/>
              </a:rPr>
              <a:t>)</a:t>
            </a:r>
            <a:r>
              <a:rPr b="1" i="1" lang="en-US" sz="1600" spc="-1" strike="noStrike" baseline="-30000">
                <a:solidFill>
                  <a:srgbClr val="000066"/>
                </a:solidFill>
                <a:latin typeface="Times New Roman"/>
                <a:ea typeface="Tahoma"/>
              </a:rPr>
              <a:t>2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ahoma"/>
              </a:rPr>
              <a:t> + H</a:t>
            </a:r>
            <a:r>
              <a:rPr b="1" i="1" lang="en-US" sz="1600" spc="-1" strike="noStrike" baseline="-30000">
                <a:solidFill>
                  <a:srgbClr val="000066"/>
                </a:solidFill>
                <a:latin typeface="Times New Roman"/>
                <a:ea typeface="Tahoma"/>
              </a:rPr>
              <a:t>2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ahoma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в избытке щелочей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  <a:ea typeface="Arial"/>
              </a:rPr>
              <a:t>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Arial"/>
              </a:rPr>
              <a:t>ZnO + 2OH</a:t>
            </a:r>
            <a:r>
              <a:rPr b="1" i="1" lang="en-US" sz="1600" spc="-1" strike="noStrike" baseline="30000">
                <a:solidFill>
                  <a:srgbClr val="000066"/>
                </a:solidFill>
                <a:latin typeface="Times New Roman"/>
                <a:ea typeface="Arial"/>
              </a:rPr>
              <a:t>–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Arial"/>
              </a:rPr>
              <a:t> + H</a:t>
            </a:r>
            <a:r>
              <a:rPr b="1" i="1" lang="en-US" sz="1600" spc="-1" strike="noStrike" baseline="-30000">
                <a:solidFill>
                  <a:srgbClr val="000066"/>
                </a:solidFill>
                <a:latin typeface="Times New Roman"/>
                <a:ea typeface="Arial"/>
              </a:rPr>
              <a:t>2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Arial"/>
              </a:rPr>
              <a:t>O = [Zn(OH)</a:t>
            </a:r>
            <a:r>
              <a:rPr b="1" i="1" lang="en-US" sz="1600" spc="-1" strike="noStrike" baseline="-30000">
                <a:solidFill>
                  <a:srgbClr val="000066"/>
                </a:solidFill>
                <a:latin typeface="Times New Roman"/>
                <a:ea typeface="Arial"/>
              </a:rPr>
              <a:t>4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Arial"/>
              </a:rPr>
              <a:t>]</a:t>
            </a:r>
            <a:r>
              <a:rPr b="1" i="1" lang="en-US" sz="1600" spc="-1" strike="noStrike" baseline="30000">
                <a:solidFill>
                  <a:srgbClr val="000066"/>
                </a:solidFill>
                <a:latin typeface="Times New Roman"/>
                <a:ea typeface="Arial"/>
              </a:rPr>
              <a:t>2–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образуя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гидроксоцинкаты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, такие как: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[Zn(OH)</a:t>
            </a:r>
            <a:r>
              <a:rPr b="1" i="1" lang="ru-RU" sz="1600" spc="-1" strike="noStrike" baseline="-30000">
                <a:solidFill>
                  <a:srgbClr val="ff0000"/>
                </a:solidFill>
                <a:latin typeface="Times New Roman"/>
                <a:ea typeface="Arial"/>
              </a:rPr>
              <a:t>3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]</a:t>
            </a:r>
            <a:r>
              <a:rPr b="1" i="1" lang="ru-RU" sz="1600" spc="-1" strike="noStrike" baseline="30000">
                <a:solidFill>
                  <a:srgbClr val="ff0000"/>
                </a:solidFill>
                <a:latin typeface="Times New Roman"/>
                <a:ea typeface="Arial"/>
              </a:rPr>
              <a:t>–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 и [Zn(OH)</a:t>
            </a:r>
            <a:r>
              <a:rPr b="1" i="1" lang="ru-RU" sz="1600" spc="-1" strike="noStrike" baseline="-30000">
                <a:solidFill>
                  <a:srgbClr val="ff0000"/>
                </a:solidFill>
                <a:latin typeface="Times New Roman"/>
                <a:ea typeface="Arial"/>
              </a:rPr>
              <a:t>4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]</a:t>
            </a:r>
            <a:r>
              <a:rPr b="1" i="1" lang="ru-RU" sz="1600" spc="-1" strike="noStrike" baseline="30000">
                <a:solidFill>
                  <a:srgbClr val="ff0000"/>
                </a:solidFill>
                <a:latin typeface="Times New Roman"/>
                <a:ea typeface="Arial"/>
              </a:rPr>
              <a:t>2–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1752480"/>
            <a:ext cx="3200400" cy="4724640"/>
          </a:xfrm>
          <a:prstGeom prst="foldedCorner">
            <a:avLst>
              <a:gd name="adj" fmla="val 6694"/>
            </a:avLst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Примен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1.</a:t>
            </a: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В производстве красок</a:t>
            </a: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(цинковые белила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2.</a:t>
            </a: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В стекольной промышленности</a:t>
            </a: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для получения «молочного стекла»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эмалей  и глазур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3.</a:t>
            </a: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В производстве резины, линолеу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как наполнител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4.</a:t>
            </a: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Очень чистый </a:t>
            </a: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ZnO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 применяется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парфюмерный, в фармацевтичес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промышл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(Цинковая мазь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5.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В химической промышл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для получения других соединен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используемые в качеств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отвердителей красок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стабилизаторов пластмас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и фунгицид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6.</a:t>
            </a: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В производстве цинковых ферри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1600200"/>
            <a:ext cx="1981080" cy="83808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Z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95480" y="2438280"/>
            <a:ext cx="76320" cy="4572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1981080"/>
            <a:ext cx="2209680" cy="76320"/>
          </a:xfrm>
          <a:prstGeom prst="rightArrow">
            <a:avLst>
              <a:gd name="adj1" fmla="val 50000"/>
              <a:gd name="adj2" fmla="val 723821"/>
            </a:avLst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14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523880"/>
            <a:ext cx="91440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676520" y="304920"/>
            <a:ext cx="7391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sq"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Неорганические соединения Zn и </a:t>
            </a:r>
            <a:endParaRPr b="0" i="1" lang="en-US" sz="1800" spc="1" strike="noStrike">
              <a:ln cap="sq"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sq"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их промышленное применение</a:t>
            </a:r>
            <a:endParaRPr b="0" i="1" lang="en-US" sz="1800" spc="1" strike="noStrike">
              <a:ln cap="sq"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523880"/>
            <a:ext cx="1981080" cy="83844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Zn(OH)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2514600"/>
            <a:ext cx="5105520" cy="327672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Zn(OH)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1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гидроксид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) –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аморфный осадок, белы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малорастворим в воде, но раствори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в кислотах и щелоча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Arial"/>
              </a:rPr>
              <a:t>Zn(OH)</a:t>
            </a:r>
            <a:r>
              <a:rPr b="1" i="1" lang="en-US" sz="1600" spc="-1" strike="noStrike" baseline="-30000">
                <a:solidFill>
                  <a:srgbClr val="000066"/>
                </a:solidFill>
                <a:latin typeface="Times New Roman"/>
                <a:ea typeface="Arial"/>
              </a:rPr>
              <a:t>2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Arial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+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Cl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=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ZnCl</a:t>
            </a:r>
            <a:r>
              <a:rPr b="1" i="1" lang="ru-RU" sz="16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2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+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ahoma"/>
              </a:rPr>
              <a:t>H</a:t>
            </a:r>
            <a:r>
              <a:rPr b="1" i="1" lang="en-US" sz="1600" spc="-1" strike="noStrike" baseline="-30000">
                <a:solidFill>
                  <a:srgbClr val="000066"/>
                </a:solidFill>
                <a:latin typeface="Times New Roman"/>
                <a:ea typeface="Tahoma"/>
              </a:rPr>
              <a:t>2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ahoma"/>
              </a:rPr>
              <a:t>O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Arial"/>
              </a:rPr>
              <a:t>Zn(OH)</a:t>
            </a:r>
            <a:r>
              <a:rPr b="1" i="1" lang="en-US" sz="1600" spc="-1" strike="noStrike" baseline="-30000">
                <a:solidFill>
                  <a:srgbClr val="000066"/>
                </a:solidFill>
                <a:latin typeface="Times New Roman"/>
                <a:ea typeface="Arial"/>
              </a:rPr>
              <a:t>2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Arial"/>
              </a:rPr>
              <a:t>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+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aOH = Na</a:t>
            </a:r>
            <a:r>
              <a:rPr b="1" i="1" lang="en-US" sz="16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2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ZnO</a:t>
            </a:r>
            <a:r>
              <a:rPr b="1" i="1" lang="ru-RU" sz="16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+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ahoma"/>
              </a:rPr>
              <a:t>H</a:t>
            </a:r>
            <a:r>
              <a:rPr b="1" i="1" lang="en-US" sz="1600" spc="-1" strike="noStrike" baseline="-30000">
                <a:solidFill>
                  <a:srgbClr val="000066"/>
                </a:solidFill>
                <a:latin typeface="Times New Roman"/>
                <a:ea typeface="Tahoma"/>
              </a:rPr>
              <a:t>2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ahoma"/>
              </a:rPr>
              <a:t>O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Zn(OH)</a:t>
            </a:r>
            <a:r>
              <a:rPr b="1" i="1" lang="en-US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ru-RU" sz="1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выделяется из растворов солей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при действии на них щелочей. При избытке щелоч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могут образовываться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цинкаты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: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Arial"/>
              </a:rPr>
              <a:t>Zn(OH)</a:t>
            </a:r>
            <a:r>
              <a:rPr b="1" i="1" lang="en-US" sz="1600" spc="-1" strike="noStrike" baseline="-30000">
                <a:solidFill>
                  <a:srgbClr val="000066"/>
                </a:solidFill>
                <a:latin typeface="Times New Roman"/>
                <a:ea typeface="Arial"/>
              </a:rPr>
              <a:t>2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Arial"/>
              </a:rPr>
              <a:t> + 2OH</a:t>
            </a:r>
            <a:r>
              <a:rPr b="1" i="1" lang="en-US" sz="1600" spc="-1" strike="noStrike" baseline="30000">
                <a:solidFill>
                  <a:srgbClr val="000066"/>
                </a:solidFill>
                <a:latin typeface="Times New Roman"/>
                <a:ea typeface="Arial"/>
              </a:rPr>
              <a:t>–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Arial"/>
              </a:rPr>
              <a:t> = [Zn(OH)</a:t>
            </a:r>
            <a:r>
              <a:rPr b="1" i="1" lang="en-US" sz="1600" spc="-1" strike="noStrike" baseline="-30000">
                <a:solidFill>
                  <a:srgbClr val="000066"/>
                </a:solidFill>
                <a:latin typeface="Times New Roman"/>
                <a:ea typeface="Arial"/>
              </a:rPr>
              <a:t>4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Arial"/>
              </a:rPr>
              <a:t>]</a:t>
            </a:r>
            <a:r>
              <a:rPr b="1" i="1" lang="en-US" sz="1600" spc="-1" strike="noStrike" baseline="30000">
                <a:solidFill>
                  <a:srgbClr val="000066"/>
                </a:solidFill>
                <a:latin typeface="Times New Roman"/>
                <a:ea typeface="Arial"/>
              </a:rPr>
              <a:t>2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095880"/>
            <a:ext cx="4191120" cy="762120"/>
          </a:xfrm>
          <a:prstGeom prst="flowChartTerminator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Основное применение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Zn(OH)</a:t>
            </a:r>
            <a:r>
              <a:rPr b="1" i="1" lang="en-US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ru-RU" sz="1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синте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различных соединений </a:t>
            </a: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19520" y="236232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5791320"/>
            <a:ext cx="75960" cy="304560"/>
          </a:xfrm>
          <a:prstGeom prst="downArrow">
            <a:avLst>
              <a:gd name="adj1" fmla="val 50000"/>
              <a:gd name="adj2" fmla="val 100237"/>
            </a:avLst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2514600"/>
            <a:ext cx="3657600" cy="27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0000"/>
                </a:solidFill>
                <a:uFillTx/>
                <a:latin typeface="Times New Roman"/>
              </a:rPr>
              <a:t>ZnSO</a:t>
            </a:r>
            <a:r>
              <a:rPr b="1" i="1" lang="en-US" sz="1400" spc="-1" strike="noStrike" u="sng" baseline="-25000">
                <a:solidFill>
                  <a:srgbClr val="ff0000"/>
                </a:solidFill>
                <a:uFillTx/>
                <a:latin typeface="Times New Roman"/>
              </a:rPr>
              <a:t>4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i="1" lang="ru-RU" sz="1400" spc="-1" strike="noStrike" u="sng">
                <a:solidFill>
                  <a:srgbClr val="000066"/>
                </a:solidFill>
                <a:uFillTx/>
                <a:latin typeface="Times New Roman"/>
              </a:rPr>
              <a:t>(сульфат </a:t>
            </a:r>
            <a:r>
              <a:rPr b="1" i="1" lang="en-US" sz="1400" spc="-1" strike="noStrike" u="sng">
                <a:solidFill>
                  <a:srgbClr val="000066"/>
                </a:solidFill>
                <a:uFillTx/>
                <a:latin typeface="Times New Roman"/>
              </a:rPr>
              <a:t>Zn</a:t>
            </a:r>
            <a:r>
              <a:rPr b="1" i="1" lang="ru-RU" sz="1400" spc="-1" strike="noStrike" u="sng">
                <a:solidFill>
                  <a:srgbClr val="000066"/>
                </a:solidFill>
                <a:uFillTx/>
                <a:latin typeface="Times New Roman"/>
              </a:rPr>
              <a:t>) получают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- При растворении  </a:t>
            </a: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 в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i="1" lang="ru-RU" sz="14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</a:t>
            </a:r>
            <a:r>
              <a:rPr b="1" i="1" lang="ru-RU" sz="14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i="1" lang="ru-RU" sz="1400" spc="-1" strike="noStrike" baseline="-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. Он кристаллизуется из водных растворов с 7 молекулами воды: </a:t>
            </a:r>
            <a:r>
              <a:rPr b="1" i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ZnSO</a:t>
            </a:r>
            <a:r>
              <a:rPr b="1" i="1" lang="ru-RU" sz="1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4 </a:t>
            </a:r>
            <a:r>
              <a:rPr b="1" i="1" lang="en-US" sz="1400" spc="-1" strike="noStrike">
                <a:solidFill>
                  <a:srgbClr val="000066"/>
                </a:solidFill>
                <a:latin typeface="Times New Roman"/>
                <a:ea typeface="Arial"/>
              </a:rPr>
              <a:t>·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 7</a:t>
            </a:r>
            <a:r>
              <a:rPr b="1" i="1" lang="en-US" sz="1400" spc="-1" strike="noStrike">
                <a:solidFill>
                  <a:srgbClr val="000066"/>
                </a:solidFill>
                <a:latin typeface="Times New Roman"/>
                <a:ea typeface="Arial"/>
              </a:rPr>
              <a:t>H</a:t>
            </a:r>
            <a:r>
              <a:rPr b="1" i="1" lang="en-US" sz="1400" spc="-1" strike="noStrike" baseline="-30000">
                <a:solidFill>
                  <a:srgbClr val="000066"/>
                </a:solidFill>
                <a:latin typeface="Times New Roman"/>
                <a:ea typeface="Arial"/>
              </a:rPr>
              <a:t>2</a:t>
            </a:r>
            <a:r>
              <a:rPr b="1" i="1" lang="en-US" sz="1400" spc="-1" strike="noStrike">
                <a:solidFill>
                  <a:srgbClr val="000066"/>
                </a:solidFill>
                <a:latin typeface="Times New Roman"/>
                <a:ea typeface="Arial"/>
              </a:rPr>
              <a:t>O 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(кристаллогидрат - цинковым купорос). Он хорошо растворим в вод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- Безводный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ZnSO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можно получить медленно нагревая кристаллогидрат до </a:t>
            </a: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1" i="1" lang="ru-RU" sz="1400" spc="-1" strike="noStrike" baseline="30000">
                <a:solidFill>
                  <a:srgbClr val="000066"/>
                </a:solidFill>
                <a:latin typeface="Times New Roman"/>
              </a:rPr>
              <a:t>0 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более 238</a:t>
            </a:r>
            <a:r>
              <a:rPr b="1" i="1" lang="ru-RU" sz="1400" spc="-1" strike="noStrike" baseline="30000">
                <a:solidFill>
                  <a:srgbClr val="000066"/>
                </a:solidFill>
                <a:latin typeface="Times New Roman"/>
              </a:rPr>
              <a:t>0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С. - При </a:t>
            </a: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1" i="1" lang="ru-RU" sz="1400" spc="-1" strike="noStrike" baseline="30000">
                <a:solidFill>
                  <a:srgbClr val="000066"/>
                </a:solidFill>
                <a:latin typeface="Times New Roman"/>
              </a:rPr>
              <a:t>0 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=  600</a:t>
            </a:r>
            <a:r>
              <a:rPr b="1" i="1" lang="ru-RU" sz="1400" spc="-1" strike="noStrike" baseline="30000">
                <a:solidFill>
                  <a:srgbClr val="000066"/>
                </a:solidFill>
                <a:latin typeface="Times New Roman"/>
              </a:rPr>
              <a:t>0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С </a:t>
            </a: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ZnSO</a:t>
            </a:r>
            <a:r>
              <a:rPr b="1" i="1" lang="en-US" sz="1400" spc="-1" strike="noStrike" baseline="-25000">
                <a:solidFill>
                  <a:srgbClr val="000066"/>
                </a:solidFill>
                <a:latin typeface="Times New Roman"/>
              </a:rPr>
              <a:t>4</a:t>
            </a:r>
            <a:r>
              <a:rPr b="1" i="1" lang="ru-RU" sz="14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разлагается, образуя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ZnSO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i="1" lang="ru-RU" sz="1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  <a:ea typeface="Arial"/>
              </a:rPr>
              <a:t>·</a:t>
            </a: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ZnO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Times New Roman"/>
              </a:rPr>
              <a:t>? 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- При дальнейщем нагревании происходит полное разрушение соединения с выделением </a:t>
            </a: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SO</a:t>
            </a:r>
            <a:r>
              <a:rPr b="1" i="1" lang="en-US" sz="14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, SO</a:t>
            </a:r>
            <a:r>
              <a:rPr b="1" i="1" lang="en-US" sz="1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, O</a:t>
            </a:r>
            <a:r>
              <a:rPr b="1" i="1" lang="en-US" sz="1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86400" y="5257800"/>
            <a:ext cx="3657600" cy="1447920"/>
          </a:xfrm>
          <a:prstGeom prst="flowChartAlternateProcess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ZnSO</a:t>
            </a:r>
            <a:r>
              <a:rPr b="1" i="1" lang="en-US" sz="1600" spc="-1" strike="noStrike" u="sng" baseline="-25000">
                <a:solidFill>
                  <a:srgbClr val="ff0000"/>
                </a:solidFill>
                <a:uFillTx/>
                <a:latin typeface="Times New Roman"/>
              </a:rPr>
              <a:t>4</a:t>
            </a: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(сульфат </a:t>
            </a:r>
            <a:r>
              <a:rPr b="1" i="1" lang="en-US" sz="1600" spc="-1" strike="noStrike" u="sng">
                <a:solidFill>
                  <a:srgbClr val="000066"/>
                </a:solidFill>
                <a:uFillTx/>
                <a:latin typeface="Times New Roman"/>
              </a:rPr>
              <a:t>Zn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) применяется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0,25% раствор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ZnSO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используется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медицинской практике, как </a:t>
            </a:r>
            <a:r>
              <a:rPr b="1" i="1" lang="ru-RU" sz="1400" spc="-1" strike="noStrike" u="sng">
                <a:solidFill>
                  <a:srgbClr val="000066"/>
                </a:solidFill>
                <a:uFillTx/>
                <a:latin typeface="Times New Roman"/>
              </a:rPr>
              <a:t>глазные капли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Цинковая соль стеариновой кисло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применяется, как</a:t>
            </a:r>
            <a:r>
              <a:rPr b="1" i="1" lang="ru-RU" sz="1400" spc="-1" strike="noStrike" u="sng">
                <a:solidFill>
                  <a:srgbClr val="000066"/>
                </a:solidFill>
                <a:uFillTx/>
                <a:latin typeface="Times New Roman"/>
              </a:rPr>
              <a:t> присыпка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91520" y="4876920"/>
            <a:ext cx="75960" cy="304560"/>
          </a:xfrm>
          <a:prstGeom prst="downArrow">
            <a:avLst>
              <a:gd name="adj1" fmla="val 50000"/>
              <a:gd name="adj2" fmla="val 100237"/>
            </a:avLst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loud"/>
          <p:cNvSpPr/>
          <p:nvPr/>
        </p:nvSpPr>
        <p:spPr>
          <a:xfrm>
            <a:off x="6553080" y="1523880"/>
            <a:ext cx="1752840" cy="9543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939360" y="1752480"/>
            <a:ext cx="878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ZnSO</a:t>
            </a:r>
            <a:r>
              <a:rPr b="1" i="1" lang="en-US" sz="2000" spc="-1" strike="noStrike" u="sng" baseline="-25000">
                <a:solidFill>
                  <a:srgbClr val="ff0000"/>
                </a:solidFill>
                <a:uFillTx/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14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523880"/>
            <a:ext cx="91440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752480"/>
            <a:ext cx="9144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676520" y="304920"/>
            <a:ext cx="7391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sq"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Неорганические соединения Zn и </a:t>
            </a:r>
            <a:endParaRPr b="0" i="1" lang="en-US" sz="1800" spc="1" strike="noStrike">
              <a:ln cap="sq"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sq"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их промышленное применение</a:t>
            </a:r>
            <a:endParaRPr b="0" i="1" lang="en-US" sz="1800" spc="1" strike="noStrike">
              <a:ln cap="sq"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2590920"/>
            <a:ext cx="4191120" cy="4038480"/>
          </a:xfrm>
          <a:prstGeom prst="flowChartAlternateProcess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8100000"/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nCO</a:t>
            </a:r>
            <a:r>
              <a:rPr b="1" i="1" lang="ru-RU" sz="14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(карбонат </a:t>
            </a: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Z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-  белое кристаллическое веществ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Практически не растворимое в в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Вещество неустойчиво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В сухом воздухе разлагается при </a:t>
            </a: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1" i="1" lang="ru-RU" sz="1400" spc="-1" strike="noStrike" baseline="30000">
                <a:solidFill>
                  <a:srgbClr val="000066"/>
                </a:solidFill>
                <a:latin typeface="Times New Roman"/>
              </a:rPr>
              <a:t>0 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до 150</a:t>
            </a:r>
            <a:r>
              <a:rPr b="1" i="1" lang="ru-RU" sz="1400" spc="-1" strike="noStrike" baseline="30000">
                <a:solidFill>
                  <a:srgbClr val="000066"/>
                </a:solidFill>
                <a:latin typeface="Times New Roman"/>
              </a:rPr>
              <a:t>0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с выделением С</a:t>
            </a: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O</a:t>
            </a:r>
            <a:r>
              <a:rPr b="1" i="1" lang="en-US" sz="1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:  </a:t>
            </a:r>
            <a:r>
              <a:rPr b="1" i="1" lang="en-US" sz="1400" spc="-1" strike="noStrike">
                <a:solidFill>
                  <a:srgbClr val="000066"/>
                </a:solidFill>
                <a:latin typeface="Times New Roman"/>
                <a:ea typeface="Tahoma"/>
              </a:rPr>
              <a:t>Zn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С</a:t>
            </a:r>
            <a:r>
              <a:rPr b="1" i="1" lang="en-US" sz="1400" spc="-1" strike="noStrike">
                <a:solidFill>
                  <a:srgbClr val="000066"/>
                </a:solidFill>
                <a:latin typeface="Times New Roman"/>
                <a:ea typeface="Tahoma"/>
              </a:rPr>
              <a:t>O</a:t>
            </a:r>
            <a:r>
              <a:rPr b="1" i="1" lang="en-US" sz="1400" spc="-1" strike="noStrike" baseline="-30000">
                <a:solidFill>
                  <a:srgbClr val="000066"/>
                </a:solidFill>
                <a:latin typeface="Times New Roman"/>
                <a:ea typeface="Tahoma"/>
              </a:rPr>
              <a:t>3</a:t>
            </a:r>
            <a:r>
              <a:rPr b="1" i="1" lang="ru-RU" sz="1400" spc="-1" strike="noStrike" baseline="-30000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66"/>
                </a:solidFill>
                <a:latin typeface="Times New Roman"/>
                <a:ea typeface="Tahoma"/>
              </a:rPr>
              <a:t>= ZnO + 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С</a:t>
            </a: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O</a:t>
            </a:r>
            <a:r>
              <a:rPr b="1" i="1" lang="en-US" sz="1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В присутствии влаги медленно гидролизуетс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образуя карбона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Получить </a:t>
            </a: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ZnCO</a:t>
            </a:r>
            <a:r>
              <a:rPr b="1" i="1" lang="ru-RU" sz="1600" spc="-1" strike="noStrike" u="sng" baseline="-30000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3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  мож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5000"/>
              </a:lnSpc>
              <a:spcBef>
                <a:spcPts val="876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Действием карбоната </a:t>
            </a: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Na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 (соды) на раство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соли </a:t>
            </a: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, предварительно насыщ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углекислотой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5000"/>
              </a:lnSpc>
              <a:spcBef>
                <a:spcPts val="876"/>
              </a:spcBef>
              <a:buClr>
                <a:srgbClr val="000066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Пропуская  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</a:t>
            </a:r>
            <a:r>
              <a:rPr b="1" i="1" lang="ru-RU" sz="1400" spc="-1" strike="noStrike" baseline="-30000">
                <a:solidFill>
                  <a:srgbClr val="000066"/>
                </a:solidFill>
                <a:latin typeface="Times New Roman"/>
              </a:rPr>
              <a:t>2 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 через суспензию гидрокиси </a:t>
            </a: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62920" y="236232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2362320"/>
            <a:ext cx="75960" cy="304560"/>
          </a:xfrm>
          <a:prstGeom prst="downArrow">
            <a:avLst>
              <a:gd name="adj1" fmla="val 50000"/>
              <a:gd name="adj2" fmla="val 100237"/>
            </a:avLst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1523880"/>
            <a:ext cx="1981080" cy="83844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8100000"/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nCO</a:t>
            </a:r>
            <a:r>
              <a:rPr b="1" i="1" lang="en-US" sz="2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343400"/>
            <a:ext cx="4800600" cy="2209680"/>
          </a:xfrm>
          <a:prstGeom prst="flowChartAlternateProcess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13500000"/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i="1" lang="en-US" sz="1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COO)</a:t>
            </a:r>
            <a:r>
              <a:rPr b="1" i="1" lang="en-US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Zn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используется к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66"/>
                </a:solidFill>
                <a:uFillTx/>
                <a:latin typeface="Times New Roman"/>
              </a:rPr>
              <a:t>Фиксатор при крашении тканей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66"/>
                </a:solidFill>
                <a:uFillTx/>
                <a:latin typeface="Times New Roman"/>
              </a:rPr>
              <a:t>Консервант древесин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66"/>
                </a:solidFill>
                <a:uFillTx/>
                <a:latin typeface="Times New Roman"/>
              </a:rPr>
              <a:t>Противогрибковое средство 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(в медицине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Входит в состав зубных цемент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Применяется в </a:t>
            </a:r>
            <a:r>
              <a:rPr b="1" i="1" lang="ru-RU" sz="1400" spc="-1" strike="noStrike" u="sng">
                <a:solidFill>
                  <a:srgbClr val="000066"/>
                </a:solidFill>
                <a:uFillTx/>
                <a:latin typeface="Times New Roman"/>
              </a:rPr>
              <a:t>производстве глазурей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400" spc="-1" strike="noStrike" u="sng">
                <a:solidFill>
                  <a:srgbClr val="000066"/>
                </a:solidFill>
                <a:uFillTx/>
                <a:latin typeface="Times New Roman"/>
              </a:rPr>
              <a:t>и фарфор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Используют как </a:t>
            </a:r>
            <a:r>
              <a:rPr b="1" i="1" lang="ru-RU" sz="1400" spc="-1" strike="noStrike" u="sng">
                <a:solidFill>
                  <a:srgbClr val="000066"/>
                </a:solidFill>
                <a:uFillTx/>
                <a:latin typeface="Times New Roman"/>
              </a:rPr>
              <a:t>катализатор в органическом синтез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3962520"/>
            <a:ext cx="75960" cy="304560"/>
          </a:xfrm>
          <a:prstGeom prst="downArrow">
            <a:avLst>
              <a:gd name="adj1" fmla="val 50000"/>
              <a:gd name="adj2" fmla="val 100237"/>
            </a:avLst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2666880"/>
            <a:ext cx="426708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COO)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Zn </a:t>
            </a: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Ацетат </a:t>
            </a: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) – хорошо растворим в воде и во многих органических растворителя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При перегонке ацетата </a:t>
            </a: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 в пониженном давлении образуется основной ацетат, быстро гидролизующийся в в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loud"/>
          <p:cNvSpPr/>
          <p:nvPr/>
        </p:nvSpPr>
        <p:spPr>
          <a:xfrm>
            <a:off x="1066680" y="1447920"/>
            <a:ext cx="2057400" cy="95400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53440" y="1676520"/>
            <a:ext cx="1739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COO)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7415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1447920"/>
            <a:ext cx="87980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676520" y="304920"/>
            <a:ext cx="7391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sq"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Бескислородные  соединения Zn и </a:t>
            </a:r>
            <a:endParaRPr b="0" i="1" lang="en-US" sz="1800" spc="1" strike="noStrike">
              <a:ln cap="sq"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sq"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их промышленное применение</a:t>
            </a:r>
            <a:endParaRPr b="0" i="1" lang="en-US" sz="1800" spc="1" strike="noStrike">
              <a:ln cap="sq"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2514600"/>
            <a:ext cx="3581280" cy="3962520"/>
          </a:xfrm>
          <a:prstGeom prst="foldedCorner">
            <a:avLst>
              <a:gd name="adj" fmla="val 16578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n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</a:t>
            </a:r>
            <a:r>
              <a:rPr b="1" i="1" lang="en-US" sz="1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(хлорид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)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кристалличе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легкоплавкий порошок (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1" i="1" lang="ru-RU" sz="1600" spc="-1" strike="noStrike" baseline="30000">
                <a:solidFill>
                  <a:srgbClr val="000066"/>
                </a:solidFill>
                <a:latin typeface="Times New Roman"/>
              </a:rPr>
              <a:t>0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пл. - 318</a:t>
            </a:r>
            <a:r>
              <a:rPr b="1" i="1" lang="ru-RU" sz="1600" spc="-1" strike="noStrike" baseline="30000">
                <a:solidFill>
                  <a:srgbClr val="000066"/>
                </a:solidFill>
                <a:latin typeface="Times New Roman"/>
              </a:rPr>
              <a:t>0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С 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Получают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Zn</a:t>
            </a:r>
            <a:r>
              <a:rPr b="1" i="1" lang="en-US" sz="16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Cl</a:t>
            </a:r>
            <a:r>
              <a:rPr b="1" i="1" lang="en-US" sz="1600" spc="-1" strike="noStrike" u="sng" baseline="-25000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i="1" lang="ru-RU" sz="1600" spc="-1" strike="noStrike" u="sng" baseline="-25000">
                <a:solidFill>
                  <a:srgbClr val="000066"/>
                </a:solidFill>
                <a:uFillTx/>
                <a:latin typeface="Times New Roman"/>
              </a:rPr>
              <a:t>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действием соляной кислоты (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HCl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обожженную ру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Zn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l</a:t>
            </a:r>
            <a:r>
              <a:rPr b="1" i="1" lang="en-US" sz="16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2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очень гигроскопиче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Токсич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Концентрированные вод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растворы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Zn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l</a:t>
            </a:r>
            <a:r>
              <a:rPr b="1" i="1" lang="en-US" sz="16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2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растворяю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крахмал, целлюлозу и шел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00600" y="2666880"/>
            <a:ext cx="4191120" cy="36576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75480" y="3602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34120" y="2895480"/>
            <a:ext cx="3276360" cy="3218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В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производстве текстиля, пергамента, в металлургических флюсах.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С помощью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n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</a:t>
            </a:r>
            <a:r>
              <a:rPr b="1" i="1" lang="en-US" sz="1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очищают металлы перед пайк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Применяется  в магнезиальном цементе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для зубных плом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Как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компонент электролитов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для гальванических покрытий и в сухих элемент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n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</a:t>
            </a:r>
            <a:r>
              <a:rPr b="1" i="1" lang="en-US" sz="1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1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16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используется как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антисептик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, его раствором пропитывают елезнодорожные шпалы, предохраняя от гни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96720" y="2286000"/>
            <a:ext cx="218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66"/>
                </a:solidFill>
                <a:uFillTx/>
                <a:latin typeface="Times New Roman"/>
              </a:rPr>
              <a:t>Применяют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n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1800" spc="-1" strike="noStrike" u="sng">
                <a:solidFill>
                  <a:srgbClr val="000066"/>
                </a:solidFill>
                <a:uFillTx/>
                <a:latin typeface="Times New Roman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loud"/>
          <p:cNvSpPr/>
          <p:nvPr/>
        </p:nvSpPr>
        <p:spPr>
          <a:xfrm>
            <a:off x="3581280" y="1523880"/>
            <a:ext cx="2057400" cy="114300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96520" y="18288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n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7415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447920"/>
            <a:ext cx="895032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За всю историю название его менялось несколько р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Латинское название «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Zincum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»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встречается впервые у врач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естествоиспытателя Парацельса (1530г.)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у других исследователей 16-17 вв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переводится как «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белый налет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i="1" lang="ru-RU" sz="2000" spc="-1" strike="noStrike" u="sng">
                <a:solidFill>
                  <a:srgbClr val="000066"/>
                </a:solidFill>
                <a:uFillTx/>
                <a:latin typeface="Times New Roman"/>
              </a:rPr>
              <a:t>В России название «цинк» впервые ввел М.В.Ломоносов в 1742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Для обозначения этого металла раньше употреблялись названия: «спелтер», которое ввел Роберт Бойль, Шлаттер в 1736 г. назвал цинк «туцией». Самым распространенным во время Ломоносова было название «шпиаутер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Общеупотребительным названием «цинк» стало только в 1920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В 1906 г. Д.И.Менделеев во 2-ом издании «Основ химии» употребляет название «цинк», но в скобках помечает «шпиаутер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23880" y="304920"/>
            <a:ext cx="7315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sq"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Происхождение названия "цинк"</a:t>
            </a:r>
            <a:endParaRPr b="0" i="1" lang="en-US" sz="1800" spc="1" strike="noStrike">
              <a:ln cap="sq"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>
    <p:strips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7415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2280" y="1447920"/>
            <a:ext cx="87980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752480" y="30492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sq"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Бескислородные  соединения Zn и </a:t>
            </a:r>
            <a:endParaRPr b="0" i="1" lang="en-US" sz="1800" spc="1" strike="noStrike">
              <a:ln cap="sq"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sq"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их промышленное применение</a:t>
            </a:r>
            <a:endParaRPr b="0" i="1" lang="en-US" sz="1800" spc="1" strike="noStrike">
              <a:ln cap="sq"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523880"/>
            <a:ext cx="1828800" cy="60984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Z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209680"/>
            <a:ext cx="8610480" cy="2438640"/>
          </a:xfrm>
          <a:prstGeom prst="foldedCorner">
            <a:avLst>
              <a:gd name="adj" fmla="val 17291"/>
            </a:avLst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5400000"/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5029200"/>
            <a:ext cx="8153280" cy="1600200"/>
          </a:xfrm>
          <a:prstGeom prst="bracePair">
            <a:avLst>
              <a:gd name="adj" fmla="val 6745"/>
            </a:avLst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75480" y="3602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5148360"/>
            <a:ext cx="77724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66"/>
                </a:solidFill>
                <a:uFillTx/>
                <a:latin typeface="Times New Roman"/>
              </a:rPr>
              <a:t>Как пигмент для окраски детских игрушек, 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 из-за своей безвред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На его основе готовятся краски для </a:t>
            </a:r>
            <a:r>
              <a:rPr b="1" i="1" lang="ru-RU" sz="1400" spc="-1" strike="noStrike" u="sng">
                <a:solidFill>
                  <a:srgbClr val="000066"/>
                </a:solidFill>
                <a:uFillTx/>
                <a:latin typeface="Times New Roman"/>
              </a:rPr>
              <a:t>покрытия космических кораблей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Интересны </a:t>
            </a:r>
            <a:r>
              <a:rPr b="1" i="1" lang="ru-RU" sz="1400" spc="-1" strike="noStrike" u="sng">
                <a:solidFill>
                  <a:srgbClr val="000066"/>
                </a:solidFill>
                <a:uFillTx/>
                <a:latin typeface="Times New Roman"/>
              </a:rPr>
              <a:t>оптические свойства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ZnS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. 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ZnS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 вызывает </a:t>
            </a: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флюоресценцию и люминисценцию    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различных цветов. Этот эффект хорошо используется в промышленно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Синтетический </a:t>
            </a: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ZnS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400" spc="-1" strike="noStrike" u="sng">
                <a:solidFill>
                  <a:srgbClr val="000066"/>
                </a:solidFill>
                <a:uFillTx/>
                <a:latin typeface="Times New Roman"/>
              </a:rPr>
              <a:t>служит люминофором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 для экранов электронно-лучевых и рентгеновских трубок, экранов телевизоров, радаров, осцилограф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2286000"/>
            <a:ext cx="830592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Природный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ZnS</a:t>
            </a: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(сульфид </a:t>
            </a: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) 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66"/>
                </a:solidFill>
                <a:uFillTx/>
                <a:latin typeface="Times New Roman"/>
              </a:rPr>
              <a:t>практически не растворим в воде,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 но во влажном воздухе постепенно окисляется до сульфата. </a:t>
            </a: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ZnS</a:t>
            </a: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растворяется в сильных кислотах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но </a:t>
            </a:r>
            <a:r>
              <a:rPr b="1" i="1" lang="ru-RU" sz="1400" spc="-1" strike="noStrike" u="sng">
                <a:solidFill>
                  <a:srgbClr val="000066"/>
                </a:solidFill>
                <a:uFillTx/>
                <a:latin typeface="Times New Roman"/>
              </a:rPr>
              <a:t>не растворим в уксусной кислоте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, щелочах и гидроокиси аммония.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66"/>
                </a:solidFill>
                <a:uFillTx/>
                <a:latin typeface="Times New Roman"/>
              </a:rPr>
              <a:t>В лабораторных условиях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ZnS</a:t>
            </a:r>
            <a:r>
              <a:rPr b="1" i="1" lang="ru-RU" sz="1400" spc="-1" strike="noStrike" u="sng">
                <a:solidFill>
                  <a:srgbClr val="000066"/>
                </a:solidFill>
                <a:uFillTx/>
                <a:latin typeface="Times New Roman"/>
              </a:rPr>
              <a:t> получают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действием сернистого аммония на нейтральные растворы солей </a:t>
            </a: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Свежеосажденный </a:t>
            </a: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ZnS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 (в виде белого осадка) легко растворяется в минеральных кисло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</a:rPr>
              <a:t>с выделением сероводорода:   </a:t>
            </a:r>
            <a:r>
              <a:rPr b="1" i="1" lang="en-US" sz="1400" spc="-1" strike="noStrike">
                <a:solidFill>
                  <a:srgbClr val="000066"/>
                </a:solidFill>
                <a:latin typeface="Times New Roman"/>
                <a:ea typeface="Arial"/>
              </a:rPr>
              <a:t>ZnS + 2H</a:t>
            </a:r>
            <a:r>
              <a:rPr b="1" i="1" lang="en-US" sz="1400" spc="-1" strike="noStrike" baseline="-30000">
                <a:solidFill>
                  <a:srgbClr val="000066"/>
                </a:solidFill>
                <a:latin typeface="Times New Roman"/>
                <a:ea typeface="Arial"/>
              </a:rPr>
              <a:t>3</a:t>
            </a:r>
            <a:r>
              <a:rPr b="1" i="1" lang="en-US" sz="1400" spc="-1" strike="noStrike">
                <a:solidFill>
                  <a:srgbClr val="000066"/>
                </a:solidFill>
                <a:latin typeface="Times New Roman"/>
                <a:ea typeface="Arial"/>
              </a:rPr>
              <a:t>O</a:t>
            </a:r>
            <a:r>
              <a:rPr b="1" i="1" lang="en-US" sz="1400" spc="-1" strike="noStrike" baseline="30000">
                <a:solidFill>
                  <a:srgbClr val="000066"/>
                </a:solidFill>
                <a:latin typeface="Times New Roman"/>
                <a:ea typeface="Arial"/>
              </a:rPr>
              <a:t>+</a:t>
            </a:r>
            <a:r>
              <a:rPr b="1" i="1" lang="en-US" sz="1400" spc="-1" strike="noStrike">
                <a:solidFill>
                  <a:srgbClr val="000066"/>
                </a:solidFill>
                <a:latin typeface="Times New Roman"/>
                <a:ea typeface="Arial"/>
              </a:rPr>
              <a:t> = Zn</a:t>
            </a:r>
            <a:r>
              <a:rPr b="1" i="1" lang="en-US" sz="1400" spc="-1" strike="noStrike" baseline="30000">
                <a:solidFill>
                  <a:srgbClr val="000066"/>
                </a:solidFill>
                <a:latin typeface="Times New Roman"/>
                <a:ea typeface="Arial"/>
              </a:rPr>
              <a:t>2+</a:t>
            </a:r>
            <a:r>
              <a:rPr b="1" i="1" lang="en-US" sz="1400" spc="-1" strike="noStrike">
                <a:solidFill>
                  <a:srgbClr val="000066"/>
                </a:solidFill>
                <a:latin typeface="Times New Roman"/>
                <a:ea typeface="Arial"/>
              </a:rPr>
              <a:t> + H</a:t>
            </a:r>
            <a:r>
              <a:rPr b="1" i="1" lang="en-US" sz="1400" spc="-1" strike="noStrike" baseline="-30000">
                <a:solidFill>
                  <a:srgbClr val="000066"/>
                </a:solidFill>
                <a:latin typeface="Times New Roman"/>
                <a:ea typeface="Arial"/>
              </a:rPr>
              <a:t>2</a:t>
            </a:r>
            <a:r>
              <a:rPr b="1" i="1" lang="en-US" sz="1400" spc="-1" strike="noStrike">
                <a:solidFill>
                  <a:srgbClr val="000066"/>
                </a:solidFill>
                <a:latin typeface="Times New Roman"/>
                <a:ea typeface="Arial"/>
              </a:rPr>
              <a:t>S + 2H</a:t>
            </a:r>
            <a:r>
              <a:rPr b="1" i="1" lang="en-US" sz="1400" spc="-1" strike="noStrike" baseline="-30000">
                <a:solidFill>
                  <a:srgbClr val="000066"/>
                </a:solidFill>
                <a:latin typeface="Times New Roman"/>
                <a:ea typeface="Arial"/>
              </a:rPr>
              <a:t>2</a:t>
            </a:r>
            <a:r>
              <a:rPr b="1" i="1" lang="en-US" sz="1400" spc="-1" strike="noStrike">
                <a:solidFill>
                  <a:srgbClr val="000066"/>
                </a:solidFill>
                <a:latin typeface="Times New Roman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4800600"/>
            <a:ext cx="48765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Применяется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7415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2280" y="1447920"/>
            <a:ext cx="87980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676520" y="304920"/>
            <a:ext cx="7391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sq"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Бескислородные  соединения Zn и </a:t>
            </a:r>
            <a:endParaRPr b="0" i="1" lang="en-US" sz="1800" spc="1" strike="noStrike">
              <a:ln cap="sq"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sq"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их промышленное применение</a:t>
            </a:r>
            <a:endParaRPr b="0" i="1" lang="en-US" sz="1800" spc="1" strike="noStrike">
              <a:ln cap="sq"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2971800"/>
            <a:ext cx="3657600" cy="3581280"/>
          </a:xfrm>
          <a:prstGeom prst="roundRect">
            <a:avLst>
              <a:gd name="adj" fmla="val 13699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3200400"/>
            <a:ext cx="3581280" cy="32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n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(селенид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)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– вещество желто-лимонного цвета, плохо фильтруе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Влажный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Zn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e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очень чувствителен к воздуху, высушенный или полученный сухим путем устойчив на воздух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n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1800" spc="-1" strike="noStrike" u="sng">
                <a:solidFill>
                  <a:srgbClr val="000066"/>
                </a:solidFill>
                <a:uFillTx/>
                <a:latin typeface="Times New Roman"/>
              </a:rPr>
              <a:t>Использу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В качестве лазерного материала и компонента люминофо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loud"/>
          <p:cNvSpPr/>
          <p:nvPr/>
        </p:nvSpPr>
        <p:spPr>
          <a:xfrm>
            <a:off x="685800" y="1600200"/>
            <a:ext cx="2286000" cy="124452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39360" y="1995480"/>
            <a:ext cx="73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n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ubOvalCallout"/>
          <p:cNvSpPr/>
          <p:nvPr/>
        </p:nvSpPr>
        <p:spPr>
          <a:xfrm>
            <a:off x="5943600" y="1676520"/>
            <a:ext cx="2057400" cy="129528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142200 h 1295280"/>
              <a:gd name="textAreaBottom" fmla="*/ 829800 h 1295280"/>
            </a:gdLst>
            <a:ahLst/>
            <a:rect l="textAreaLeft" t="textAreaTop" r="textAreaRight" b="textAreaBottom"/>
            <a:pathLst>
              <a:path w="21600" h="21600">
                <a:moveTo>
                  <a:pt x="12983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57800" y="2971800"/>
            <a:ext cx="3657600" cy="3581280"/>
          </a:xfrm>
          <a:prstGeom prst="roundRect">
            <a:avLst>
              <a:gd name="adj" fmla="val 13699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10080" y="3200400"/>
            <a:ext cx="3200400" cy="32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n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Т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(теллурид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)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– серый порошок, краснеющий при растирании или красные кристал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n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Т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1800" spc="-1" strike="noStrike" u="sng">
                <a:solidFill>
                  <a:srgbClr val="000066"/>
                </a:solidFill>
                <a:uFillTx/>
                <a:latin typeface="Times New Roman"/>
              </a:rPr>
              <a:t>Используется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Как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материал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для фоторезисторов, приемников инфракрасного излу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Служит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люминофором и полупроводниковым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материалом, в т.ч. и в лазер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554520" y="190512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n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Т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990720" y="3962520"/>
            <a:ext cx="7010280" cy="26953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7415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1447920"/>
            <a:ext cx="87980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676520" y="304920"/>
            <a:ext cx="7391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sq"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Органические соединения Zn и </a:t>
            </a:r>
            <a:endParaRPr b="0" i="1" lang="en-US" sz="1800" spc="1" strike="noStrike">
              <a:ln cap="sq"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sq"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их промышленное применение</a:t>
            </a:r>
            <a:endParaRPr b="0" i="1" lang="en-US" sz="1800" spc="1" strike="noStrike">
              <a:ln cap="sq"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371600" y="4800600"/>
            <a:ext cx="6400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sq"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Цинкорганические соединения применяются</a:t>
            </a:r>
            <a:endParaRPr b="1" i="1" lang="en-US" sz="1800" spc="1" strike="noStrike">
              <a:ln cap="sq"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1828800"/>
            <a:ext cx="8229600" cy="22122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Органические соединения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(алкилы) можно получить нагревая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в кипящем соединении алкил-галоген в инертной атмосфере(диоксид углерода или азот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Ковалентные алкилы типа </a:t>
            </a:r>
            <a:r>
              <a:rPr b="1" i="1" lang="en-US" sz="1600" spc="-1" strike="noStrike" u="sng">
                <a:solidFill>
                  <a:srgbClr val="000066"/>
                </a:solidFill>
                <a:uFillTx/>
                <a:latin typeface="Times New Roman"/>
              </a:rPr>
              <a:t>ZnR</a:t>
            </a:r>
            <a:r>
              <a:rPr b="1" i="1" lang="en-US" sz="1600" spc="-1" strike="noStrike" u="sng" baseline="-25000">
                <a:solidFill>
                  <a:srgbClr val="000066"/>
                </a:solidFill>
                <a:uFillTx/>
                <a:latin typeface="Times New Roman"/>
              </a:rPr>
              <a:t>2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– неполярные жидкости или низкоплавкие твердые веще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Цинкорганические соединения очень чувствительны к действию воздуха. Соединения с малой массой самовоспламеняются,  образуя дым из оксида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Алкилы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взаимодействуют с диоксидом углерода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( это их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важное отличие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06120" y="5562720"/>
            <a:ext cx="70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В качестве промежуточных веществ при органическом синтез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7415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1447920"/>
            <a:ext cx="87980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600200" y="228600"/>
            <a:ext cx="7391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cap="sq"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Биологическая роль Zn</a:t>
            </a:r>
            <a:endParaRPr b="0" i="1" lang="en-US" sz="3200" spc="1" strike="noStrike">
              <a:ln cap="sq"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228" name=""/>
          <p:cNvSpPr/>
          <p:nvPr/>
        </p:nvSpPr>
        <p:spPr>
          <a:xfrm>
            <a:off x="3505320" y="1905120"/>
            <a:ext cx="2057400" cy="1066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5400000"/>
          </a:gra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90%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В цинковом де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2057400"/>
            <a:ext cx="2210040" cy="838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5400000"/>
          </a:gra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60%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в скелет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мускулату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53080" y="1981080"/>
            <a:ext cx="2057400" cy="838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5400000"/>
          </a:gra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40%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в орган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124080"/>
            <a:ext cx="86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Суточная потребность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 8-15 мг: у женщин – 8 мг, у мужчин – 11-12 мг, при нагрузке – 15 мг, у беременных и кормящих – 20-25 мг, у детей от 4-15 мг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08840" y="3733920"/>
            <a:ext cx="569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2% 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содержится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в сывороточной крови, а в плазме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–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0,1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28600" y="4191120"/>
            <a:ext cx="8763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иологическая роль – впечатляет! Она уникальна и  многообразна!</a:t>
            </a:r>
            <a:endParaRPr b="1" i="1" lang="en-US" sz="1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90720" y="1600200"/>
            <a:ext cx="708660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cap="sq" w="9360">
                  <a:solidFill>
                    <a:srgbClr val="000066"/>
                  </a:solidFill>
                  <a:miter/>
                </a:ln>
                <a:solidFill>
                  <a:srgbClr val="2660b6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Содержание Zn в организме взрослого человека от 1,5 до 2,5 </a:t>
            </a:r>
            <a:endParaRPr b="1" i="1" lang="en-US" sz="2000" spc="1" strike="noStrike">
              <a:ln cap="sq" w="9360">
                <a:solidFill>
                  <a:srgbClr val="000066"/>
                </a:solidFill>
                <a:miter/>
              </a:ln>
              <a:solidFill>
                <a:srgbClr val="2660b6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8320" y="4724280"/>
            <a:ext cx="864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66"/>
                </a:solidFill>
                <a:uFillTx/>
                <a:latin typeface="Times New Roman"/>
              </a:rPr>
              <a:t>Zn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 необходим и для роста, и для развития, и для нормального функционирования организм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5105520"/>
            <a:ext cx="3886200" cy="13107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 влияет на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: умственные и физические способности, на правильное формирование костного скелета, половое развитие, зрение, вкус, обоняние и другие системы организма и функ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29200" y="5105520"/>
            <a:ext cx="4114800" cy="15541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Дефицит 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вызывает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многие заболевания нервной системы, психические расстройства, шизофрения, слабоумие, эпилепсия, множественный склероз, депрессия, заболевания ССС, ЖКТ, язвенная болезнь, анемия, остеопороз, пищевая аллергия, нарушение слуха и зрения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5181480"/>
            <a:ext cx="1214280" cy="838440"/>
          </a:xfrm>
          <a:custGeom>
            <a:avLst/>
            <a:gdLst>
              <a:gd name="textAreaLeft" fmla="*/ 0 w 1214280"/>
              <a:gd name="textAreaRight" fmla="*/ 1214640 w 12142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3807" y="4371"/>
                </a:lnTo>
                <a:lnTo>
                  <a:pt x="12480" y="4371"/>
                </a:lnTo>
                <a:lnTo>
                  <a:pt x="12480" y="9120"/>
                </a:lnTo>
                <a:lnTo>
                  <a:pt x="17229" y="9120"/>
                </a:lnTo>
                <a:lnTo>
                  <a:pt x="17229" y="7793"/>
                </a:lnTo>
                <a:lnTo>
                  <a:pt x="21600" y="10800"/>
                </a:lnTo>
                <a:lnTo>
                  <a:pt x="17229" y="13807"/>
                </a:lnTo>
                <a:lnTo>
                  <a:pt x="17229" y="12480"/>
                </a:lnTo>
                <a:lnTo>
                  <a:pt x="4371" y="12480"/>
                </a:lnTo>
                <a:lnTo>
                  <a:pt x="4371" y="13807"/>
                </a:lnTo>
                <a:lnTo>
                  <a:pt x="0" y="10800"/>
                </a:lnTo>
                <a:lnTo>
                  <a:pt x="4371" y="7793"/>
                </a:lnTo>
                <a:lnTo>
                  <a:pt x="4371" y="9120"/>
                </a:lnTo>
                <a:lnTo>
                  <a:pt x="9120" y="9120"/>
                </a:lnTo>
                <a:lnTo>
                  <a:pt x="9120" y="4371"/>
                </a:lnTo>
                <a:lnTo>
                  <a:pt x="7793" y="4371"/>
                </a:lnTo>
                <a:close/>
              </a:path>
            </a:pathLst>
          </a:custGeom>
          <a:solidFill>
            <a:srgbClr val="ffcc99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2209680"/>
            <a:ext cx="976320" cy="486000"/>
          </a:xfrm>
          <a:prstGeom prst="rightArrow">
            <a:avLst>
              <a:gd name="adj1" fmla="val 27454"/>
              <a:gd name="adj2" fmla="val 36262"/>
            </a:avLst>
          </a:prstGeom>
          <a:solidFill>
            <a:srgbClr val="ffcc99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228600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solidFill>
            <a:srgbClr val="ffcc99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7415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52280" y="1447920"/>
            <a:ext cx="87980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600200" y="228600"/>
            <a:ext cx="7391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cap="sq"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Биологическая роль Zn</a:t>
            </a:r>
            <a:endParaRPr b="0" i="1" lang="en-US" sz="3200" spc="1" strike="noStrike">
              <a:ln cap="sq"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0880" y="1676520"/>
            <a:ext cx="8305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Поражает многообразие биологических эффектов Zn</a:t>
            </a:r>
            <a:endParaRPr b="1" lang="en-US" sz="20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5" name="Cloud"/>
          <p:cNvSpPr/>
          <p:nvPr/>
        </p:nvSpPr>
        <p:spPr>
          <a:xfrm>
            <a:off x="2590920" y="2057400"/>
            <a:ext cx="3657600" cy="129852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979000" y="2362320"/>
            <a:ext cx="265572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66"/>
                </a:solidFill>
                <a:uFillTx/>
                <a:latin typeface="Times New Roman"/>
              </a:rPr>
              <a:t>Zn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 влияет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становление иммунитет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он осуществля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2438280"/>
            <a:ext cx="1828800" cy="76212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3657600"/>
            <a:ext cx="2057400" cy="6858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0" y="228600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-186120" y="2666880"/>
            <a:ext cx="218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Имунные цеп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319560" y="3809880"/>
            <a:ext cx="26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Клеточные реа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092000" y="2362320"/>
            <a:ext cx="18082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Участ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в межклеточ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взаимодейств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905120" y="2666880"/>
            <a:ext cx="685800" cy="228600"/>
          </a:xfrm>
          <a:prstGeom prst="leftArrow">
            <a:avLst>
              <a:gd name="adj1" fmla="val 50000"/>
              <a:gd name="adj2" fmla="val 75000"/>
            </a:avLst>
          </a:prstGeom>
          <a:solidFill>
            <a:srgbClr val="ffcc99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48520" y="259092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cc99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48320" y="335268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ffcc99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4724280"/>
            <a:ext cx="1676520" cy="1447920"/>
          </a:xfrm>
          <a:prstGeom prst="donut">
            <a:avLst>
              <a:gd name="adj" fmla="val 25000"/>
            </a:avLst>
          </a:prstGeom>
          <a:solidFill>
            <a:srgbClr val="ffcc99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0920" y="52578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09680" y="4419720"/>
            <a:ext cx="6934320" cy="230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обеспечивая противовирусную защиту,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усиливает иммунный ответ и повышает сопротивляемость  организма ко многим заболеваниями и инфекция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является частью генетического аппарата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, представляя до 100 незаменимых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-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содержащих нуклеотидов, которые необходимы для нормального функционирования этого генетического аппара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эффективный стабилизатор компонентов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клеточных мембран и цитоскелета клетки, ДНК, РНК, нуклеиновых кислот, рибос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влияет на деление клетки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, является участником ключевых этапов клеточного роста и дифференциров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676520" y="5334120"/>
            <a:ext cx="533160" cy="304560"/>
          </a:xfrm>
          <a:prstGeom prst="rightArrow">
            <a:avLst>
              <a:gd name="adj1" fmla="val 50000"/>
              <a:gd name="adj2" fmla="val 43765"/>
            </a:avLst>
          </a:prstGeom>
          <a:solidFill>
            <a:srgbClr val="ffcc99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7415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52280" y="1447920"/>
            <a:ext cx="87980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600200" y="228600"/>
            <a:ext cx="7391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cap="sq"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Биологическая роль Zn</a:t>
            </a:r>
            <a:endParaRPr b="0" i="1" lang="en-US" sz="3200" spc="1" strike="noStrike">
              <a:ln cap="sq"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676520" y="1600200"/>
            <a:ext cx="6629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Georgia"/>
              </a:rPr>
              <a:t>Zn уникальный микроэлемент </a:t>
            </a:r>
            <a:endParaRPr b="0" lang="en-US" sz="2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264" name=""/>
          <p:cNvSpPr/>
          <p:nvPr/>
        </p:nvSpPr>
        <p:spPr>
          <a:xfrm>
            <a:off x="2895480" y="2057400"/>
            <a:ext cx="3886200" cy="7621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50000">
                <a:srgbClr val="c2eefe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42720" y="2209680"/>
            <a:ext cx="33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В организме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выполня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04920" y="2362320"/>
            <a:ext cx="2590560" cy="761760"/>
          </a:xfrm>
          <a:prstGeom prst="pie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6699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loud"/>
          <p:cNvSpPr/>
          <p:nvPr/>
        </p:nvSpPr>
        <p:spPr>
          <a:xfrm>
            <a:off x="2971800" y="2743200"/>
            <a:ext cx="2743200" cy="838080"/>
          </a:xfrm>
          <a:prstGeom prst="pie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6699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loud"/>
          <p:cNvSpPr/>
          <p:nvPr/>
        </p:nvSpPr>
        <p:spPr>
          <a:xfrm>
            <a:off x="6248520" y="2514600"/>
            <a:ext cx="2666880" cy="685800"/>
          </a:xfrm>
          <a:prstGeom prst="pie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6699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1880" y="2514600"/>
            <a:ext cx="23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Регуляторную функц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54600" y="3048120"/>
            <a:ext cx="266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Каталитическую функц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06200" y="2666880"/>
            <a:ext cx="23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Структурную функц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3886200"/>
            <a:ext cx="8686800" cy="241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– является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структурным компонентом около 200 металлопротеинов и более 300   металлоферментов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, обеспечивающих жизненноважные процессы в организ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Zn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– влияет на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все виды обмена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. Он активный участник многих метаболических процессов, связанных с расщеплением белков, жиров, углеводов с гидролизом некоторых эфиров и альдегидов. Особый интерес вызывает участие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в нуклеиновом обмене, синтезе ДНК, РНК, нуклеиновых кисло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–  мощный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противовоспалительный фактор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Очень ценное свойство 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– способность нормализовать уровень сахара и снизить уровень холестерина в крови у больных диабе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7415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2280" y="1447920"/>
            <a:ext cx="87980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600200" y="228600"/>
            <a:ext cx="7391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cap="sq"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Биологическая роль Zn</a:t>
            </a:r>
            <a:endParaRPr b="0" i="1" lang="en-US" sz="3200" spc="1" strike="noStrike">
              <a:ln cap="sq"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4724280" y="1752480"/>
          <a:ext cx="441972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752480"/>
                    <a:ext cx="44197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228600" y="1828800"/>
            <a:ext cx="4419720" cy="4527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Zn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важный элемент в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процессе регенерации тканей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, он способствует заживлению ран и яз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Паста из оксида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на 80% улучшает заживление ран и язв на кож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Прием цинкосодержащих препаратов показан до и после хирургических опера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Полоскания цинкосодержащим раствором быстро заживляет язвочки при стомати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Zn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– активно участвует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в синтезе кератина и колагена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, улучшающих состояние кожи, ногтей и волос. Поэтому цинк часто используется для лечения кожных заболева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– является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частью гормонов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, в том числе и половых; недостаток цинка приводит к  нарушениям в половой сфере: неправильное формирование, бесплодие и т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7415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52280" y="1447920"/>
            <a:ext cx="87980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600200" y="228600"/>
            <a:ext cx="7391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cap="sq"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Биологическая роль Zn</a:t>
            </a:r>
            <a:endParaRPr b="0" i="1" lang="en-US" sz="3200" spc="1" strike="noStrike">
              <a:ln cap="sq"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8001000" cy="46659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– входит в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состав инсулина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, участвующего в углеводном обме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–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стимулирует секрецию цинкосодержащего гормона щитовидной железы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– тимулина и синтез кортизола, оказывая антистрессовое действие при эмоциональных, физических и химических стресс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– один из элементов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противоопухолевой защиты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, он способству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активности противоопухолевых клеток-капилляр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Недостаток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приводит к опухолевым заболевания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Zn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– обладает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антитоксичным свойством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Он снижает восприимчивость к действию яд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Zn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 -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улучшает остроту зрения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6095880" y="4191120"/>
            <a:ext cx="281952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7415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52280" y="1447920"/>
            <a:ext cx="87980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514600" y="228600"/>
            <a:ext cx="5105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cap="sq"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Выводы:</a:t>
            </a:r>
            <a:endParaRPr b="0" i="1" lang="en-US" sz="3200" spc="1" strike="noStrike">
              <a:ln cap="sq"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1828800"/>
            <a:ext cx="8381880" cy="46850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Цинк действительно является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удивительным элементом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 по 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масштабам его применения в различных областях промышленности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 и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уникален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по 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своим биологическим свойствам в живом организме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Значимость этого химического элемента установлена почти 150 лет назад, 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но по сегодняшний день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 эффекты цинка в биологических системах и в промышленном производстве заслужен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привлекают внимание ученых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7209000" y="5029200"/>
            <a:ext cx="1935000" cy="1433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7415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52280" y="1447920"/>
            <a:ext cx="87980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057400" y="228600"/>
            <a:ext cx="6324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cap="sq"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Список литературы</a:t>
            </a:r>
            <a:endParaRPr b="0" i="1" lang="en-US" sz="3200" spc="1" strike="noStrike">
              <a:ln cap="sq"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292" name=""/>
          <p:cNvSpPr/>
          <p:nvPr/>
        </p:nvSpPr>
        <p:spPr>
          <a:xfrm>
            <a:off x="152280" y="1600200"/>
            <a:ext cx="8839440" cy="55695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66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Monotype Corsiva"/>
                <a:ea typeface="Times New Roman"/>
              </a:rPr>
              <a:t>Авцын А.П., Жаворонков А.А., Риш М.А., Строчкова Л.С. Микроэлементозы человека.</a:t>
            </a:r>
            <a:r>
              <a:rPr b="1" i="1" lang="ru-RU" sz="1600" spc="-1" strike="noStrike">
                <a:solidFill>
                  <a:srgbClr val="000066"/>
                </a:solidFill>
                <a:latin typeface="Monotype Corsiva"/>
              </a:rPr>
              <a:t>,</a:t>
            </a:r>
            <a:r>
              <a:rPr b="1" i="1" lang="ru-RU" sz="1600" spc="-1" strike="noStrike">
                <a:solidFill>
                  <a:srgbClr val="000066"/>
                </a:solidFill>
                <a:latin typeface="Monotype Corsiva"/>
                <a:ea typeface="Times New Roman"/>
              </a:rPr>
              <a:t> М., Медицина, 199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Ахметов Н.С. «Общая и неорганическая химия», В. школа, М., 1998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Венецкий С.И. «рассказы о металлах» М., Металлургия, 1198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Габриелян О.С. «Химия – 9,11», М., Дрофа,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Глинка Н.Л. «Общая химия», М., «Интеграл –Пресс», 2004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66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Monotype Corsiva"/>
                <a:ea typeface="Times New Roman"/>
              </a:rPr>
              <a:t>Живописцев В. П., Селезнева Е. А. Аналитическая химия цинка. М., 1975.</a:t>
            </a:r>
            <a:r>
              <a:rPr b="1" i="1" lang="ru-RU" sz="1600" spc="-1" strike="noStrike">
                <a:solidFill>
                  <a:srgbClr val="000066"/>
                </a:solidFill>
                <a:latin typeface="Monotype Corsiva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66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Monotype Corsiva"/>
                <a:ea typeface="Times New Roman"/>
              </a:rPr>
              <a:t>Зайцев В. Я., Маргулис Е. В. Металлургия свинца и цинка. М., 1985.</a:t>
            </a:r>
            <a:r>
              <a:rPr b="1" i="1" lang="ru-RU" sz="1600" spc="-1" strike="noStrike">
                <a:solidFill>
                  <a:srgbClr val="000066"/>
                </a:solidFill>
                <a:latin typeface="Monotype Corsiv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66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Monotype Corsiva"/>
                <a:ea typeface="Times New Roman"/>
              </a:rPr>
              <a:t>Ковальчук Л.В., Сусликов В.Л., Карзакова Л.М., Соколова Е.В. Иммунная реактивность организма в условиях естественного дефицита цинка</a:t>
            </a:r>
            <a:r>
              <a:rPr b="1" i="1" lang="ru-RU" sz="1600" spc="-1" strike="noStrike">
                <a:solidFill>
                  <a:srgbClr val="000066"/>
                </a:solidFill>
                <a:latin typeface="Monotype Corsiva"/>
              </a:rPr>
              <a:t>.</a:t>
            </a:r>
            <a:r>
              <a:rPr b="1" i="1" lang="ru-RU" sz="1600" spc="-1" strike="noStrike">
                <a:solidFill>
                  <a:srgbClr val="000066"/>
                </a:solidFill>
                <a:latin typeface="Monotype Corsiva"/>
                <a:ea typeface="Times New Roman"/>
              </a:rPr>
              <a:t> Иммунология. – 2004. – Т.25, №6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В.А.. Рабинович, З.Я.. Хавин. Краткий химический справочник «Химия», М., 198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А.М. Смолеговский «Энциклопедия для химических элементов», М., Дрофа. 200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Я.А. Угай «Общая и неорганическая химия», В. школа, М., 199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66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Monotype Corsiva"/>
                <a:ea typeface="Times New Roman"/>
              </a:rPr>
              <a:t>Хакимов Х.Х., Татарская А.З. Периодическая система и биологическая роль элементов. – Ташкент, Медицина, 1985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66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Monotype Corsiva"/>
                <a:ea typeface="Times New Roman"/>
              </a:rPr>
              <a:t>Цинк в педиатрической практике / Под ред. Л.А.Щеплягиной. – М., Медпрактика-М, 200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7238880" y="2362320"/>
            <a:ext cx="1905120" cy="16621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7415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523880"/>
            <a:ext cx="8950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268560" indent="-2685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ahoma"/>
              </a:rPr>
              <a:t>Цинк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ahoma"/>
              </a:rPr>
              <a:t>—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 металл древности, дата открытия которого теряется в веках.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 algn="just">
              <a:lnSpc>
                <a:spcPct val="7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Сплавы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с медью и оловом знали в Индии уже 1200 лет до н.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 algn="just">
              <a:lnSpc>
                <a:spcPct val="7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В Китае за 6 веков до н.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 algn="just">
              <a:lnSpc>
                <a:spcPct val="7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Дата палестинской латуни, содержащей до 23%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, приходится на 1500-1000 гг. до н.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 algn="just">
              <a:lnSpc>
                <a:spcPct val="7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Сплав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с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Cu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(латунь) был известен в глубокой древности и в Египте и в Гре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 algn="just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Так среди раскопок Древнего Египта были обнаружены латунные предме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 algn="just">
              <a:lnSpc>
                <a:spcPct val="7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В доисторических дакийских развалинах Трансильвании был найден идол, отлитый из   сплава, содержащего 87%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 algn="just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 algn="ctr">
              <a:lnSpc>
                <a:spcPct val="7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Получение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латуни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из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Zn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-содержащих руд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описывали в своих трудах Аристо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(384-322гг.до н.э.), Плитий-Старший (23-79 гг.н.э.), Гомер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 algn="ctr">
              <a:lnSpc>
                <a:spcPct val="7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Получение металлического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Zn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из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галмея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впервые описал римский гео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и историк Страбон (60-20 гг. до н.э.), назвав металл фальшив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(ложным ) сереб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 algn="ctr">
              <a:lnSpc>
                <a:spcPct val="7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Полагают, что в это же время на Кипре начали получать из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природ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карбоната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, держа способ его получения в строжайшей тайн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 algn="just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 algn="just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66"/>
                </a:solidFill>
                <a:uFillTx/>
                <a:latin typeface="Times New Roman"/>
              </a:rPr>
              <a:t>И древние греки, и египтяне умели изготавливать латунь, но получить чистый </a:t>
            </a: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Times New Roman"/>
              </a:rPr>
              <a:t>Zn</a:t>
            </a:r>
            <a:r>
              <a:rPr b="1" i="1" lang="ru-RU" sz="1800" spc="-1" strike="noStrike" u="sng">
                <a:solidFill>
                  <a:srgbClr val="000066"/>
                </a:solidFill>
                <a:uFillTx/>
                <a:latin typeface="Times New Roman"/>
              </a:rPr>
              <a:t> не могли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, т.к. при термическом восстановлении цинковых руд, образующийся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при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=1000</a:t>
            </a:r>
            <a:r>
              <a:rPr b="1" i="1" lang="ru-RU" sz="1800" spc="-1" strike="noStrike" baseline="30000">
                <a:solidFill>
                  <a:srgbClr val="000066"/>
                </a:solidFill>
                <a:latin typeface="Times New Roman"/>
              </a:rPr>
              <a:t>0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С переходил в пар, который при взаимодействии с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O</a:t>
            </a:r>
            <a:r>
              <a:rPr b="1" i="1" lang="en-US" sz="1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воздуха превращался в рыхлый оксид, </a:t>
            </a:r>
            <a:r>
              <a:rPr b="1" i="1" lang="ru-RU" sz="1800" spc="-1" strike="noStrike" u="sng">
                <a:solidFill>
                  <a:srgbClr val="000066"/>
                </a:solidFill>
                <a:uFillTx/>
                <a:latin typeface="Times New Roman"/>
              </a:rPr>
              <a:t>названный алхимиками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«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белой шерстью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743200" y="304920"/>
            <a:ext cx="48988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sq"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История Zn</a:t>
            </a:r>
            <a:endParaRPr b="0" i="1" lang="en-US" sz="1800" spc="1" strike="noStrike">
              <a:ln cap="sq"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7415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447920"/>
            <a:ext cx="899172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           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Об оксиде </a:t>
            </a:r>
            <a:r>
              <a:rPr b="1" i="1" lang="en-US" sz="1600" spc="-1" strike="noStrike" u="sng">
                <a:solidFill>
                  <a:srgbClr val="000066"/>
                </a:solidFill>
                <a:uFillTx/>
                <a:latin typeface="Times New Roman"/>
              </a:rPr>
              <a:t>Zn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, белом пушистом порошке, хорошо знали средневековые врачи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, применявшие его в лечебных целях (для лечения глазных болезней и заживления ран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В конце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XIII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в. венецианский путешественник Марко Поло описал способ получения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в Персии. О способах выплавки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говорили в своих сочинениях врач Теофраст Парацельс (1530 г.) и Георг Агрикола (1494-1555 гг.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В средневековой Европе специализированного производства </a:t>
            </a:r>
            <a:r>
              <a:rPr b="1" i="1" lang="en-US" sz="1600" spc="-1" strike="noStrike" u="sng">
                <a:solidFill>
                  <a:srgbClr val="000066"/>
                </a:solidFill>
                <a:uFillTx/>
                <a:latin typeface="Times New Roman"/>
              </a:rPr>
              <a:t>Zn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 не было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, т.к. из-за сложности производства в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X-XI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вв.н.э. искусство его получения было утрачено.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в Европу завозили из Индии и Китая Английская Восточно-Индийская комп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Впервые цинковая промышленность возникла в начале </a:t>
            </a: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XVIII</a:t>
            </a: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 в. в Англии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в районе Бристоля. В 1685 г. в Англии был открыт способ получения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, который применяли в Швеции для получения латуни. В 1739 г. англичанин Чемпион предложил дистилляционный способ получения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, на основе которого и начал работать первый завод в Бристоле в 1743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Мастера Индии и Китая в средние века,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научившись конденсировать пары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без доступа воздуха (дистилляционный способ),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овладели искусством выплавки </a:t>
            </a:r>
            <a:r>
              <a:rPr b="1" i="1" lang="en-US" sz="1600" spc="-1" strike="noStrike" u="sng">
                <a:solidFill>
                  <a:srgbClr val="000066"/>
                </a:solidFill>
                <a:uFillTx/>
                <a:latin typeface="Times New Roman"/>
              </a:rPr>
              <a:t>Zn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.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В индийских и китайских источниках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VII-XIII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вв.н.э. описывались металлургические процессы, тождественные современным процессам производства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. А в Китае, в годы правления династии Минь (1368-1644г.), широко использовались цинковые моне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В 1746 г. </a:t>
            </a: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немецким химиком А.С. Маргграфом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был разработан способ получения </a:t>
            </a: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Zn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 прокаливанием смеси </a:t>
            </a:r>
            <a:r>
              <a:rPr b="1" i="1" lang="en-US" sz="1600" spc="-1" strike="noStrike" u="sng">
                <a:solidFill>
                  <a:srgbClr val="000066"/>
                </a:solidFill>
                <a:uFillTx/>
                <a:latin typeface="Times New Roman"/>
              </a:rPr>
              <a:t>Zn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 с углеродом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без доступа воздуха в ретортах с последующей конденсацией паров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в холодильни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4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743200" y="304920"/>
            <a:ext cx="48988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sq"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История Zn</a:t>
            </a:r>
            <a:endParaRPr b="0" i="1" lang="en-US" sz="1800" spc="1" strike="noStrike">
              <a:ln cap="sq"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904760" y="1600200"/>
            <a:ext cx="70102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Химический символ элемента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– 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zincum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 – лат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Расположение в периодической системе химических элементов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IV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период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бочной подгруппы 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груп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Атомный номер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–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Относительная атомная масса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–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65,39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±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0,0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Электронная формула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000066"/>
                </a:solidFill>
                <a:uFillTx/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– </a:t>
            </a:r>
            <a:r>
              <a:rPr b="1" i="1" lang="ru-RU" sz="1600" spc="-1" strike="noStrike" baseline="-25000">
                <a:solidFill>
                  <a:srgbClr val="000066"/>
                </a:solidFill>
                <a:latin typeface="Times New Roman"/>
              </a:rPr>
              <a:t>+30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 Zn 1s</a:t>
            </a:r>
            <a:r>
              <a:rPr b="1" i="1" lang="en-US" sz="16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| 2s</a:t>
            </a:r>
            <a:r>
              <a:rPr b="1" i="1" lang="en-US" sz="1600" spc="-1" strike="noStrike" baseline="30000">
                <a:solidFill>
                  <a:srgbClr val="000066"/>
                </a:solidFill>
                <a:latin typeface="Times New Roman"/>
                <a:ea typeface="Times New Roman"/>
              </a:rPr>
              <a:t>2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p</a:t>
            </a:r>
            <a:r>
              <a:rPr b="1" i="1" lang="en-US" sz="1600" spc="-1" strike="noStrike" baseline="30000">
                <a:solidFill>
                  <a:srgbClr val="000066"/>
                </a:solidFill>
                <a:latin typeface="Times New Roman"/>
                <a:ea typeface="Times New Roman"/>
              </a:rPr>
              <a:t>6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| 3s</a:t>
            </a:r>
            <a:r>
              <a:rPr b="1" i="1" lang="en-US" sz="1600" spc="-1" strike="noStrike" baseline="30000">
                <a:solidFill>
                  <a:srgbClr val="000066"/>
                </a:solidFill>
                <a:latin typeface="Times New Roman"/>
                <a:ea typeface="Times New Roman"/>
              </a:rPr>
              <a:t>2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p</a:t>
            </a:r>
            <a:r>
              <a:rPr b="1" i="1" lang="en-US" sz="1600" spc="-1" strike="noStrike" baseline="30000">
                <a:solidFill>
                  <a:srgbClr val="000066"/>
                </a:solidFill>
                <a:latin typeface="Times New Roman"/>
                <a:ea typeface="Times New Roman"/>
              </a:rPr>
              <a:t>6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d</a:t>
            </a:r>
            <a:r>
              <a:rPr b="1" i="1" lang="en-US" sz="1600" spc="-1" strike="noStrike" baseline="30000">
                <a:solidFill>
                  <a:srgbClr val="000066"/>
                </a:solidFill>
                <a:latin typeface="Times New Roman"/>
                <a:ea typeface="Times New Roman"/>
              </a:rPr>
              <a:t>10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| 4s</a:t>
            </a:r>
            <a:r>
              <a:rPr b="1" i="1" lang="en-US" sz="1600" spc="-1" strike="noStrike" baseline="30000">
                <a:solidFill>
                  <a:srgbClr val="000066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Распределение электронов по слоям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–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2-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8-18-2.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Радиус атома</a:t>
            </a: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ahoma"/>
              </a:rPr>
              <a:t> Zn</a:t>
            </a: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  <a:ea typeface="Tahoma"/>
              </a:rPr>
              <a:t>0,139 н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Радиус ионна </a:t>
            </a: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ahoma"/>
              </a:rPr>
              <a:t> Zn</a:t>
            </a:r>
            <a:r>
              <a:rPr b="1" i="1" lang="ru-RU" sz="1600" spc="-1" strike="noStrike" u="sng" baseline="30000">
                <a:solidFill>
                  <a:srgbClr val="ff0000"/>
                </a:solidFill>
                <a:uFillTx/>
                <a:latin typeface="Times New Roman"/>
                <a:ea typeface="Tahoma"/>
              </a:rPr>
              <a:t>2+</a:t>
            </a:r>
            <a:r>
              <a:rPr b="1" i="1" lang="ru-RU" sz="16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  <a:ea typeface="Tahoma"/>
              </a:rPr>
              <a:t>0,060 нм</a:t>
            </a:r>
            <a:r>
              <a:rPr b="1" i="1" lang="ru-RU" sz="1400" spc="-1" strike="noStrike" u="sng">
                <a:solidFill>
                  <a:srgbClr val="000066"/>
                </a:solidFill>
                <a:uFillTx/>
                <a:latin typeface="Times New Roman"/>
                <a:ea typeface="Tahoma"/>
              </a:rPr>
              <a:t> </a:t>
            </a:r>
            <a:r>
              <a:rPr b="1" i="1" lang="ru-RU" sz="1400" spc="-1" strike="noStrike">
                <a:solidFill>
                  <a:srgbClr val="000066"/>
                </a:solidFill>
                <a:latin typeface="Times New Roman"/>
                <a:ea typeface="Tahoma"/>
              </a:rPr>
              <a:t>(координационное число 4</a:t>
            </a:r>
            <a:r>
              <a:rPr b="0" i="1" lang="ru-RU" sz="1400" spc="-1" strike="noStrike">
                <a:solidFill>
                  <a:srgbClr val="000066"/>
                </a:solidFill>
                <a:latin typeface="Times New Roman"/>
                <a:ea typeface="Tahoma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676520" y="228600"/>
            <a:ext cx="7086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cap="sq"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Положение Zn в периодической системе </a:t>
            </a:r>
            <a:endParaRPr b="0" i="1" lang="en-US" sz="2400" spc="1" strike="noStrike">
              <a:ln cap="sq"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cap="sq"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химических элементов и  строение его атома</a:t>
            </a:r>
            <a:endParaRPr b="0" i="1" lang="en-US" sz="2400" spc="1" strike="noStrike">
              <a:ln cap="sq"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98" name="">
            <a:hlinkClick r:id="rId2"/>
          </p:cNvPr>
          <p:cNvSpPr/>
          <p:nvPr/>
        </p:nvSpPr>
        <p:spPr>
          <a:xfrm>
            <a:off x="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724280"/>
            <a:ext cx="944892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С</a:t>
            </a: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тепень окисления +2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 (валентность 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II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постоянна во всех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оединениях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т.к.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едпоследн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подуровень в атомах цинка полностью заверше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Состав природного </a:t>
            </a:r>
            <a:r>
              <a:rPr b="1" i="1" lang="en-US" sz="1600" spc="-1" strike="noStrike" u="sng">
                <a:solidFill>
                  <a:srgbClr val="000066"/>
                </a:solidFill>
                <a:uFillTx/>
                <a:latin typeface="Times New Roman"/>
              </a:rPr>
              <a:t>Zn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смесь 5 стабильных нуклидов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(изотопов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baseline="30000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i="1" lang="ru-RU" sz="1600" spc="-1" strike="noStrike" baseline="30000">
                <a:solidFill>
                  <a:srgbClr val="000066"/>
                </a:solidFill>
                <a:latin typeface="Times New Roman"/>
              </a:rPr>
              <a:t>64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(48,6%), </a:t>
            </a:r>
            <a:r>
              <a:rPr b="1" i="1" lang="ru-RU" sz="1600" spc="-1" strike="noStrike" baseline="30000">
                <a:solidFill>
                  <a:srgbClr val="000066"/>
                </a:solidFill>
                <a:latin typeface="Times New Roman"/>
              </a:rPr>
              <a:t>66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(27,9%), </a:t>
            </a:r>
            <a:r>
              <a:rPr b="1" i="1" lang="ru-RU" sz="1600" spc="-1" strike="noStrike" baseline="30000">
                <a:solidFill>
                  <a:srgbClr val="000066"/>
                </a:solidFill>
                <a:latin typeface="Times New Roman"/>
              </a:rPr>
              <a:t>67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(4,15),</a:t>
            </a:r>
            <a:r>
              <a:rPr b="1" i="1" lang="ru-RU" sz="1600" spc="-1" strike="noStrike" baseline="30000">
                <a:solidFill>
                  <a:srgbClr val="000066"/>
                </a:solidFill>
                <a:latin typeface="Times New Roman"/>
              </a:rPr>
              <a:t>68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(18,8%), </a:t>
            </a:r>
            <a:r>
              <a:rPr b="1" i="1" lang="ru-RU" sz="1600" spc="-1" strike="noStrike" baseline="30000">
                <a:solidFill>
                  <a:srgbClr val="000066"/>
                </a:solidFill>
                <a:latin typeface="Times New Roman"/>
              </a:rPr>
              <a:t>70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(0,6%) по масс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Важнейший из радиоактивных изотопов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000066"/>
                </a:solidFill>
                <a:uFillTx/>
                <a:latin typeface="Times New Roman"/>
              </a:rPr>
              <a:t>Zn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i="1" lang="ru-RU" sz="1600" spc="-1" strike="noStrike" baseline="30000">
                <a:solidFill>
                  <a:srgbClr val="ff0000"/>
                </a:solidFill>
                <a:latin typeface="Times New Roman"/>
              </a:rPr>
              <a:t>65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с периодом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полураспада 244 су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349360"/>
            <a:ext cx="11509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Z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7415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828800"/>
            <a:ext cx="85694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одержание цинка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земной коре 8,3·10</a:t>
            </a:r>
            <a:r>
              <a:rPr b="1" i="1" lang="ru-RU" sz="2400" spc="-1" strike="noStrike" baseline="30000">
                <a:solidFill>
                  <a:srgbClr val="000066"/>
                </a:solidFill>
                <a:latin typeface="Times New Roman"/>
                <a:ea typeface="Times New Roman"/>
              </a:rPr>
              <a:t>–3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% по масс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воде Мирового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кеана 0,01 мг/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живом веществе содержится 5·10</a:t>
            </a:r>
            <a:r>
              <a:rPr b="1" i="1" lang="ru-RU" sz="2400" spc="-1" strike="noStrike" baseline="30000">
                <a:solidFill>
                  <a:srgbClr val="000066"/>
                </a:solidFill>
                <a:latin typeface="Times New Roman"/>
                <a:ea typeface="Times New Roman"/>
              </a:rPr>
              <a:t>–4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% по мас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23880" y="260280"/>
            <a:ext cx="73915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sq"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Распространенность Zn в природе</a:t>
            </a:r>
            <a:endParaRPr b="0" i="1" lang="en-US" sz="1800" spc="1" strike="noStrike">
              <a:ln cap="sq"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7415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600200"/>
            <a:ext cx="9144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78280" indent="-278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в природе встречается только в соединениях. Известно 60 минералов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8280" indent="-278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Глав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8280" indent="-2782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Сульфид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Zn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ZnS)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– сфалерит или цинковая обманка – этот минерал считают первичным, из него образовались другие минералы элемента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8280" indent="-2782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Карбонат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Zn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ZnCO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цинковый шпат, каламин (в Европе), смитеонит (в СШ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8280" indent="-2782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Оксид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Zn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(ZnO)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цинкит, важный в промышленном отнош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8280" indent="-278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66"/>
                </a:solidFill>
                <a:uFillTx/>
                <a:latin typeface="Times New Roman"/>
              </a:rPr>
              <a:t>Менее важные минерал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8280" indent="-278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Франклинит (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Zn,Fe) O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·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Fe</a:t>
            </a:r>
            <a:r>
              <a:rPr b="1" i="1" lang="en-US" sz="1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O</a:t>
            </a:r>
            <a:r>
              <a:rPr b="1" i="1" lang="en-US" sz="18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, гемиморфит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en-US" sz="1800" spc="-1" strike="noStrike" baseline="-25000">
                <a:solidFill>
                  <a:srgbClr val="000066"/>
                </a:solidFill>
                <a:latin typeface="Times New Roman"/>
              </a:rPr>
              <a:t>4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Si</a:t>
            </a:r>
            <a:r>
              <a:rPr b="1" i="1" lang="en-US" sz="1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O</a:t>
            </a:r>
            <a:r>
              <a:rPr b="1" i="1" lang="en-US" sz="1800" spc="-1" strike="noStrike" baseline="-25000">
                <a:solidFill>
                  <a:srgbClr val="000066"/>
                </a:solidFill>
                <a:latin typeface="Times New Roman"/>
              </a:rPr>
              <a:t>7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(OH)</a:t>
            </a:r>
            <a:r>
              <a:rPr b="1" i="1" lang="en-US" sz="1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·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 H</a:t>
            </a:r>
            <a:r>
              <a:rPr b="1" i="1" lang="en-US" sz="1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O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, клейофан, марматит, вьюрцит, виллем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8280" indent="-278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           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Zn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входит в состав полиметаллических руд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, которые содержат также медь, свинец, кадмий, индий, галлий, таллий и др. На Алтае можно встретить </a:t>
            </a:r>
            <a:r>
              <a:rPr b="1" i="1" lang="ru-RU" sz="1800" spc="-1" strike="noStrike" u="sng">
                <a:solidFill>
                  <a:srgbClr val="000066"/>
                </a:solidFill>
                <a:uFillTx/>
                <a:latin typeface="Times New Roman"/>
              </a:rPr>
              <a:t>полосатую «бурундучью» руду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– смесь цинковой обманки и бурого шпа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8280" indent="-278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Добыча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Zn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ведется в 50 странах. В России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Zn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извлекают из медноколчеданных месторождений Урала, полиметаллических руд Южной Сибири и Приморь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8280" indent="-278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По запасам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Zn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 u="sng">
                <a:solidFill>
                  <a:srgbClr val="000066"/>
                </a:solidFill>
                <a:uFillTx/>
                <a:latin typeface="Times New Roman"/>
              </a:rPr>
              <a:t>Россия занимает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 u="sng">
                <a:solidFill>
                  <a:srgbClr val="000066"/>
                </a:solidFill>
                <a:uFillTx/>
                <a:latin typeface="Times New Roman"/>
              </a:rPr>
              <a:t>одно из первых мест в мире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. На долю России падает 16% мировых запасов, у Канады 16,5%  (первое место в мир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8280" indent="-2782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8280" indent="-2782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523880" y="260280"/>
            <a:ext cx="73915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sq"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Нахождение Zn в природе </a:t>
            </a:r>
            <a:endParaRPr b="0" i="1" lang="en-US" sz="1800" spc="1" strike="noStrike">
              <a:ln cap="sq"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7415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447920"/>
            <a:ext cx="87980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828800" y="228600"/>
            <a:ext cx="6400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cap="sq"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Получение Zn</a:t>
            </a:r>
            <a:endParaRPr b="0" i="1" lang="en-US" sz="3200" spc="1" strike="noStrike">
              <a:ln cap="sq"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523880"/>
            <a:ext cx="8915400" cy="64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66"/>
                </a:solidFill>
                <a:uFillTx/>
                <a:latin typeface="Times New Roman"/>
              </a:rPr>
              <a:t>В настоящее время </a:t>
            </a: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Times New Roman"/>
              </a:rPr>
              <a:t>Zn</a:t>
            </a:r>
            <a:r>
              <a:rPr b="1" i="1" lang="ru-RU" sz="1800" spc="-1" strike="noStrike" u="sng">
                <a:solidFill>
                  <a:srgbClr val="000066"/>
                </a:solidFill>
                <a:uFillTx/>
                <a:latin typeface="Times New Roman"/>
              </a:rPr>
              <a:t> получают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2 способ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50% металла производят  -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пирометаллургическим способ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50% металла –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гидрометаллургическим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, наиболее распространенным в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1" i="1" lang="ru-RU" sz="1800" spc="-1" strike="noStrike" u="sng">
                <a:solidFill>
                  <a:srgbClr val="000066"/>
                </a:solidFill>
                <a:uFillTx/>
                <a:latin typeface="Times New Roman"/>
              </a:rPr>
              <a:t>Исходным сырьем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для получения металлического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служа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сульфидные цинковые и полиметаллические руды (содержащие от 1% до 4%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Выделение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начинают с обогащения руды </a:t>
            </a:r>
            <a:r>
              <a:rPr b="1" i="1" lang="ru-RU" sz="1800" spc="-1" strike="noStrike" u="sng">
                <a:solidFill>
                  <a:srgbClr val="000066"/>
                </a:solidFill>
                <a:uFillTx/>
                <a:latin typeface="Times New Roman"/>
              </a:rPr>
              <a:t>методом седиментации и флотации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Полученный концентрат, содержащий уже до 50-60%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, обжигают в печах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кипящем слое с добавлением оксидов, переводя сульфид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ahoma"/>
              </a:rPr>
              <a:t>ZnS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) в оксид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Zn (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ZnO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ZnS + 3O</a:t>
            </a:r>
            <a:r>
              <a:rPr b="1" i="1" lang="en-US" sz="1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2ZnO +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</a:t>
            </a:r>
            <a:r>
              <a:rPr b="1" i="1" lang="en-US" sz="1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Образующийся в процессе этой реакции диоксид, используется в дальнейш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для производства серной кисл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7415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1447920"/>
            <a:ext cx="87980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828800" y="228600"/>
            <a:ext cx="6400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cap="sq"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Получение Zn</a:t>
            </a:r>
            <a:endParaRPr b="0" i="1" lang="en-US" sz="3200" spc="1" strike="noStrike">
              <a:ln cap="sq"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447920"/>
            <a:ext cx="8915400" cy="52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От 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ZnO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 к металлическому</a:t>
            </a:r>
            <a:r>
              <a:rPr b="1" i="1" lang="en-US" sz="1600" spc="-1" strike="noStrike" u="sng">
                <a:solidFill>
                  <a:srgbClr val="000066"/>
                </a:solidFill>
                <a:uFillTx/>
                <a:latin typeface="Times New Roman"/>
              </a:rPr>
              <a:t> Zn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imes New Roman"/>
              </a:rPr>
              <a:t> идут 2 путями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Пирометаллургическим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методом: обогащенный концентрат спекают, а затем восстанавливают углем или коксом при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1" i="1" lang="ru-RU" sz="1600" spc="-1" strike="noStrike" baseline="30000">
                <a:solidFill>
                  <a:srgbClr val="000066"/>
                </a:solidFill>
                <a:latin typeface="Times New Roman"/>
              </a:rPr>
              <a:t>0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=1200-1300</a:t>
            </a:r>
            <a:r>
              <a:rPr b="1" i="1" lang="ru-RU" sz="1600" spc="-1" strike="noStrike" baseline="30000">
                <a:solidFill>
                  <a:srgbClr val="000066"/>
                </a:solidFill>
                <a:latin typeface="Times New Roman"/>
              </a:rPr>
              <a:t>0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С:</a:t>
            </a:r>
            <a:r>
              <a:rPr b="1" i="1" lang="en-US" sz="1600" spc="-1" strike="noStrike" baseline="-25000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1) 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nO + C = Zn + 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                                           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        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2) 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nO + C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Zn + CO</a:t>
            </a:r>
            <a:r>
              <a:rPr b="1" i="1" lang="en-US" sz="1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Гидрометаллургическом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методом из обоженных концентратов, содержащих сырой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ZnO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выщелачивают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, т.е. обрабатывают концентраты разбавленным раствором серной кислоты: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                       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n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H</a:t>
            </a:r>
            <a:r>
              <a:rPr b="1" i="1" lang="en-US" sz="16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</a:t>
            </a:r>
            <a:r>
              <a:rPr b="1" i="1" lang="en-US" sz="16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б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)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ZnSO</a:t>
            </a:r>
            <a:r>
              <a:rPr b="1" i="1" lang="ru-RU" sz="16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H</a:t>
            </a:r>
            <a:r>
              <a:rPr b="1" i="1" lang="ru-RU" sz="16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 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Получают раствор цинкового купороса. Из этого сульфатного раствора удаляют примеси (осаждая ионы кадмия цинковой пылью):                           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n + Cd</a:t>
            </a:r>
            <a:r>
              <a:rPr b="1" i="1" lang="en-US" sz="16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+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Zn</a:t>
            </a:r>
            <a:r>
              <a:rPr b="1" i="1" lang="en-US" sz="16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+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Cd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Затем очищенный раствор подвергают электролизу, осаждая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на алюминиевых катодах. Чистота электролитного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99,95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Для конденсации паров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, необходимо их последующее быстрое охлаждение, т.к. в присутствии продуктов сгорания металл повторно может оксиляться, поэтому пары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, выходящие из печи  опрыскиваются расплавленным свинцом. Это быстро охлаждает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и растворяет его, так что повторное окисление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сводится к минимум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99% чистоты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выделяют в виде жидкости и дополнительно очищают вакуумной дистилляцией до 99,99% чистоты и выплавляют с коксом:      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nO + C = Zn + 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Для получения высокой чистоты 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Zn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 применяют зонную плав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09:48:20Z</dcterms:created>
  <dc:creator>Илья и Юлия</dc:creator>
  <dc:description/>
  <dc:language>en-US</dc:language>
  <cp:lastModifiedBy>iigor</cp:lastModifiedBy>
  <dcterms:modified xsi:type="dcterms:W3CDTF">2011-01-28T10:04:25Z</dcterms:modified>
  <cp:revision>106</cp:revision>
  <dc:subject/>
  <dc:title>Дипломная работа студентки ветеринарно-биологического факультета Ю.В.Шуховцевой</dc:title>
</cp:coreProperties>
</file>