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10995-E99C-4D76-AAE4-40701686735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9E3E1-92FA-4696-84D8-A77C695487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4771D-C807-4746-A2D3-09A2DBF795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08167-3C6D-47C4-A466-BB7D90CFE8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DF79F-3BF4-459B-937B-9BBA1BCB2A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C44B0-C6AC-4AF2-849E-BF2D72B746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4267-18D9-47B3-81A2-047ABC3684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D036A-57F7-41F9-BB3C-1DBF3B2508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0DB92-F46B-49F6-88B4-AA8E322181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41642-C7DB-46F7-8077-7EC76CD583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C763C-CC1B-411A-9B67-DAE465F13F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8DF75-F3ED-408A-9C27-A0DA1EBF58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71C31-8BD3-4A86-AF8B-F765547AA9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031A8-FCAF-484A-885C-A311F9D6C1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60BBF-76AC-4B02-BE0E-542990FCFF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C0D6-D1C5-4022-B8B7-E648B159B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5CB7-59A4-41D6-9C31-46316B24D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2C8930-51BB-468D-A758-B8215F8B8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0710F8-0464-4579-9C1B-1C8B7ADFD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38EBF1-498A-4868-B7A9-2D7ADF52E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DEB2D5-D486-482E-9974-176DE79A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0E42CB-26F7-4A3F-AD85-CA6B5987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1ED5E8-75BB-4695-94D5-B30C1F52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23C71C-5DAC-4BAA-8425-B4B2B8902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D3E75D-F54F-4319-8FBA-A608BFA81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D082BC-8322-4425-A1E2-64E4EE260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0E75C9-1D16-4894-9191-0CE07AB69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2978-B06D-4AAD-B145-95DEF8535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E340EB-B587-4410-91D5-F1BF8B08D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98FBCE-5871-4F98-8436-D9C8251E0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A44ABA-FD26-4FDC-9197-7DD92F3E9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E7FC2E-920E-4A5D-A7FB-EBC04AA07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64D1D9-2B15-4ABE-AD41-BA8DB2CCC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8828D4-CEB5-43C5-B4DA-01D3FE1E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970E13-794C-4482-97C4-0615869C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8FCCAE-DB58-4DCF-BE54-FC4B9AC5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C4AFB3-331B-4C7E-B18A-7B1C05842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B7A03A-CC71-4ED0-AA3D-CBE1DCF29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BB0D-F78D-4D8C-8F1C-3F49436DE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62FE49-0E3F-4DB9-8848-2FC921B6F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5DE452-8BE0-4681-BC4C-6B763063D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180B8A-2670-4563-9B35-1ACA2A971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F6EAE9-B312-45B5-8573-2F8B70A14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42455A-90C4-40EC-BA6E-049E8336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6CAD8F-BCE1-414C-89F3-9F38EAD94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0A86DE-C1BF-46C7-8F30-018ECB9DA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2B697A-7852-4FD0-847D-0019537B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8CE17C-FD5A-4525-8C3E-6316D7C1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25B7CB-C344-448A-B35E-AA4DD5EE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855DC-D536-419C-8F6A-0F9047868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70E405-7E45-412E-94D2-11F7B1B4A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18140F-AC83-426C-B4F9-D662C3B44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A09D9C-A7D2-4E11-9FB6-FDC014C29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869E66-D292-488A-8847-AB93DAE5B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9E87D2-54A3-4ACD-9B45-758796FD2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333A0D-60D2-468F-B766-6049640EE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95457B-9677-4126-BB30-DCADCD6A2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33E8F5-BAA0-45F3-903F-3BC4570DC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7A8B79-E2A9-4FC8-A530-AA649960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2C4E20-EED6-4352-BB44-09C70EA8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018BE-AB42-4313-98D8-323C07E63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512FBC-671C-4F59-85B3-70231F78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568EF8-F9C4-43E2-9B8B-CE8DBD75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5D8FC3-2AC2-4128-90E0-672C9D405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A033D0-6A0F-4E8C-9795-B954AED24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089F90-38D2-4BF9-A421-3C623435A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798BA-14C4-440B-9877-2FE08CBE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39751-8E97-4E26-890B-92698F711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B500F-279A-4BFF-82FD-3851C7C61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68012-3D43-49E8-921D-B75E7B1B3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2A7B9-32D5-476D-969A-BA4960E9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F38A-382C-446D-9434-4185AC3B5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F4841-B7D8-4C2F-A402-20784866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DCE10-B3DA-4212-AB08-ABADE89E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56CB8-E328-4005-8CD5-EBD2902D1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71376-7309-49EF-B4F1-FDF1AEDA1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18160-9C18-4EBD-93AC-D89256437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4977D-BAFA-49C6-93EC-4DC863129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BE2B4-E36A-4635-8553-79639573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919A8-8159-4E21-9B40-3C18C466B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70483-8B98-45C6-B4BF-6E87D862F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FFF0D-A01F-4055-8A7A-4DFD18A0F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F8ED-DB05-4C78-84CF-87726B94A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5B7B3-F65A-4E5F-B04D-4BC510C12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F161F-1803-42B5-AD0F-CA821E6A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AE2CC-26D2-4446-91B3-9B4DFED3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454BF-EDA3-4FBD-95CE-C507A16D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2B1E1-E9AD-4515-B554-49C2AECC0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64306-DD12-423E-95C7-61EE64B58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74A14-088E-4483-A240-04420DC47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BFA6C-1F67-429E-8999-A8A88DEE4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13374-D832-4156-B8CF-B43D2D40B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48760-3D15-41F0-B2E9-6A5D96794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3A17-7380-4523-94CE-E66E25BD2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6329B-292F-455A-841A-566225079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AE344-8D20-40FC-9AAB-F958B0EBE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C314B-C718-49D5-BD08-46A4C8E80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EDCA3-2DA7-4105-99F1-011F62FD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2C5FD-3E9B-40A8-9043-18851239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4D6D4-72CF-4A7E-A6DE-99E978FE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8CA60-8A7B-4E7C-8536-E2C67AF03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D5F4B-AA47-4A10-BBCD-2FDE48805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C3430-5715-49C5-81FE-71618652D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470C7-49C8-435A-88F4-E922E344E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5179-2738-440E-ABB4-A2B89F055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B5E05-31AD-4960-9BD3-543F8B5C5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B2226-ED2A-471B-B3BE-F3F89DD78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57F8B-2778-4FA9-A3AF-6EE1F7A84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D8295-21AE-4EE2-A4FF-7CE8A0C28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6FFE0-D9D7-4EE0-B2F2-069A45BDE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94E55-8FCC-427D-85C0-65A1FBEF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AD8DC-A076-421F-9E51-A911A418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1BEA5-0ACE-40E6-A31F-9C62FC90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AEBBD-B242-470A-8F13-0C33F8ECF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C43B3-C342-4194-9B58-B7106D8F1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56DA-9617-42FA-B677-9B4BB5F1E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22278-3ECD-4BD4-A06A-031CCD6AE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C1B52-1FB4-49B6-9FB9-B96AC3A67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42204-6025-4E8E-903E-F4422AE3C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6BDE9-E0D1-456C-8633-BBEA6A440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6A6A6-6C0F-46C0-A9BA-4FF2F8BA7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49DB5-026F-4FB0-8A98-321CEBA7E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CD6DE-176F-4136-A15D-49F6B1EE4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17C13-B11F-4305-B61D-017C0561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A60DB-D4E9-4262-9CA1-24663D5C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8E89D9-EAFA-4E6F-B964-D202357D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248D-6238-493E-8BE9-A4845D2D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FDFEE-C983-4F44-ACE3-97FF97DEC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8854A-CDD9-4963-83C6-802245788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0E7D7D-2BBD-4126-94A4-B46F75D08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664513-30B9-470E-A7EA-DC0442AF4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F4FE89-0DF8-4FE9-BB8A-A4830D090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CF4DB-493E-4FE5-8A51-F4989A742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9AEB9C-F706-4721-8801-437CD9D28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5D15B3-3BCF-4235-AB8B-F127476E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07BEF3-C44C-4846-838A-486F7E1B9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AFC0F-7525-48C0-9FC4-7A1EE665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BD96-513D-4D3A-9AC0-1BD0483D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92D8B-0307-4A97-BD7F-1184250A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D835B-2F02-4021-BDF2-AEFF6134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B4669-0A70-415A-B846-A994AF5B0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F805C-FF33-4AB2-AE03-1CC70ABC6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682754-49EE-47AB-9959-18A6CEC70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1E5B4-6577-427B-97C5-A90C90A45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3B0F2A-65D8-4CD6-AD24-018612253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9C86E-F410-4095-8C8B-F93517879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5EF412-B8CB-44C7-A88A-367643DBE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78ED15-1E8D-453F-BF66-4AE28DF4F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9328-85DF-4EF9-A000-54BDCC09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F92792-EE4D-446A-A346-DFC7E2ABC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731F59-C8DD-4BF6-9E1E-2295F577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20C91E-F2FB-4395-B474-C51BEC92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9BA438-C6DD-4B0C-968B-F6024E64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3F6E13-732C-4872-A80E-60F08E1F4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24FE3D-3C8C-4142-8A30-D117D0473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6E3B27-5AB6-45B4-8C6F-A462000AF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5B25FB-BCD8-4DDA-9CCD-EF91C3672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8A4CC8-7B43-4326-AF0F-EB5A37BC1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F69C97-1333-4101-A6C0-601BCE5D1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D2266-C8BB-4AE0-A422-E6B99AFCA5F0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7B8FF-9CF5-4A1C-9AC4-66DE5D53AD57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2A73D-EB2C-46F6-91B0-CBCC0364A7EC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FD68F-C278-4568-906B-264D18586327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A8664-CA26-42AC-BFD2-1A074E3FE645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6440F-9B44-4E92-8C4B-3C06A0CB7E6A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F308E-0BB1-41F3-906D-9666700D740F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D56EE-C426-4EDF-B4FD-1DFA7746092F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FE69D-2332-4E58-B690-CBD5559104F4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EF5BE-CA42-444D-9DEF-81E634A5BDE8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C1FB5-0D93-4B72-895D-FD995F7C16E0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B129D-A8C0-4E05-8C9C-D56996E3919F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image" Target="../media/image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38&amp;ed=1&amp;text=&#1088;&#1072;&#1076;&#1080;&#1086;&amp;spsite=fake-023-4157822.ru&amp;img_url=img12.nnm.ru%2Fa%2F2%2F8%2Fc%2F7%2Fa28c71756c4dadb5ae1091fd72ba4e75_full.jpg&amp;rpt=simage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685440" y="9903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b5064"/>
                </a:solidFill>
                <a:latin typeface="Georgia"/>
              </a:rPr>
              <a:t>ФЕСТИВАЛЬ ИССЛЕДОВАТЕЛЬСКИХ И ТВОРЧЕСКИХ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b5064"/>
                </a:solidFill>
                <a:latin typeface="Georgia"/>
              </a:rPr>
              <a:t>РАБОТ УЧАЩИХСЯ «ПОРТФОЛИО»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b5064"/>
                </a:solidFill>
                <a:latin typeface="Georgia"/>
              </a:rPr>
              <a:t>АВТОР: ДИДЕНКО КОНСТАНТИН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b5064"/>
                </a:solidFill>
                <a:latin typeface="Georgia"/>
              </a:rPr>
              <a:t>РУКОВОДИТЕЛЬ: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b5064"/>
                </a:solidFill>
                <a:latin typeface="Georgia"/>
              </a:rPr>
              <a:t>КАНЕВА АЛЕНА АЛЕКСЕЕВНА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b5064"/>
                </a:solidFill>
                <a:latin typeface="Georgia"/>
              </a:rPr>
              <a:t>УЧИТЕЛЬ МАТЕМАТИКИ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b5064"/>
                </a:solidFill>
                <a:latin typeface="Georgia"/>
              </a:rPr>
              <a:t>МОУ СОШ П. ХАРУТА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b5064"/>
                </a:solidFill>
                <a:latin typeface="Georgia"/>
              </a:rPr>
              <a:t>2011 Г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 txBox="1"/>
          <p:nvPr/>
        </p:nvSpPr>
        <p:spPr>
          <a:xfrm>
            <a:off x="4876920" y="5028840"/>
            <a:ext cx="39686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Ответ: делител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0" name="Picture 6" descr=""/>
          <p:cNvPicPr/>
          <p:nvPr/>
        </p:nvPicPr>
        <p:blipFill>
          <a:blip r:embed="rId1"/>
          <a:srcRect l="19687" t="0" r="17528" b="12332"/>
          <a:stretch/>
        </p:blipFill>
        <p:spPr>
          <a:xfrm>
            <a:off x="4495680" y="1981080"/>
            <a:ext cx="343080" cy="72396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4" descr="http://im4-tub.yandex.net/i?id=17511323&amp;tov=4"/>
          <p:cNvPicPr/>
          <p:nvPr/>
        </p:nvPicPr>
        <p:blipFill>
          <a:blip r:embed="rId2"/>
          <a:stretch/>
        </p:blipFill>
        <p:spPr>
          <a:xfrm>
            <a:off x="1600200" y="1752480"/>
            <a:ext cx="1722600" cy="2552760"/>
          </a:xfrm>
          <a:prstGeom prst="rect">
            <a:avLst/>
          </a:prstGeom>
          <a:ln w="0">
            <a:noFill/>
          </a:ln>
        </p:spPr>
      </p:pic>
      <p:sp>
        <p:nvSpPr>
          <p:cNvPr id="672" name="WordArt 8"/>
          <p:cNvSpPr txBox="1"/>
          <p:nvPr/>
        </p:nvSpPr>
        <p:spPr>
          <a:xfrm>
            <a:off x="1828800" y="4419720"/>
            <a:ext cx="1219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о = 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pic>
        <p:nvPicPr>
          <p:cNvPr id="673" name="Picture 7" descr="http://im3-tub.yandex.net/i?id=113282614&amp;tov=3"/>
          <p:cNvPicPr/>
          <p:nvPr/>
        </p:nvPicPr>
        <p:blipFill>
          <a:blip r:embed="rId3"/>
          <a:stretch/>
        </p:blipFill>
        <p:spPr>
          <a:xfrm>
            <a:off x="4876920" y="1981080"/>
            <a:ext cx="2590560" cy="160992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5" descr=""/>
          <p:cNvPicPr/>
          <p:nvPr/>
        </p:nvPicPr>
        <p:blipFill>
          <a:blip r:embed="rId4"/>
          <a:srcRect l="19687" t="0" r="17528" b="12332"/>
          <a:stretch/>
        </p:blipFill>
        <p:spPr>
          <a:xfrm>
            <a:off x="4191120" y="1981080"/>
            <a:ext cx="342720" cy="723960"/>
          </a:xfrm>
          <a:prstGeom prst="rect">
            <a:avLst/>
          </a:prstGeom>
          <a:ln w="0">
            <a:noFill/>
          </a:ln>
        </p:spPr>
      </p:pic>
      <p:sp>
        <p:nvSpPr>
          <p:cNvPr id="675" name="Rectangle 9"/>
          <p:cNvSpPr/>
          <p:nvPr/>
        </p:nvSpPr>
        <p:spPr>
          <a:xfrm>
            <a:off x="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10"/>
          <p:cNvSpPr/>
          <p:nvPr/>
        </p:nvSpPr>
        <p:spPr>
          <a:xfrm>
            <a:off x="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 txBox="1"/>
          <p:nvPr/>
        </p:nvSpPr>
        <p:spPr>
          <a:xfrm>
            <a:off x="5486040" y="5333760"/>
            <a:ext cx="28954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Ответ: шар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8" name="Picture 4" descr="http://im7-tub.yandex.net/i?id=30535387&amp;tov=7"/>
          <p:cNvPicPr/>
          <p:nvPr/>
        </p:nvPicPr>
        <p:blipFill>
          <a:blip r:embed="rId1"/>
          <a:stretch/>
        </p:blipFill>
        <p:spPr>
          <a:xfrm>
            <a:off x="2590920" y="2133720"/>
            <a:ext cx="1731960" cy="2562120"/>
          </a:xfrm>
          <a:prstGeom prst="rect">
            <a:avLst/>
          </a:prstGeom>
          <a:ln w="0">
            <a:noFill/>
          </a:ln>
        </p:spPr>
      </p:pic>
      <p:sp>
        <p:nvSpPr>
          <p:cNvPr id="679" name="WordArt 5"/>
          <p:cNvSpPr txBox="1"/>
          <p:nvPr/>
        </p:nvSpPr>
        <p:spPr>
          <a:xfrm>
            <a:off x="2895480" y="4876920"/>
            <a:ext cx="13906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п = ш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pic>
        <p:nvPicPr>
          <p:cNvPr id="680" name="Picture 6" descr=""/>
          <p:cNvPicPr/>
          <p:nvPr/>
        </p:nvPicPr>
        <p:blipFill>
          <a:blip r:embed="rId2"/>
          <a:srcRect l="19687" t="0" r="17528" b="12332"/>
          <a:stretch/>
        </p:blipFill>
        <p:spPr>
          <a:xfrm>
            <a:off x="4343400" y="2133720"/>
            <a:ext cx="541440" cy="1143000"/>
          </a:xfrm>
          <a:prstGeom prst="rect">
            <a:avLst/>
          </a:prstGeom>
          <a:ln w="0">
            <a:noFill/>
          </a:ln>
        </p:spPr>
      </p:pic>
      <p:sp>
        <p:nvSpPr>
          <p:cNvPr id="681" name="Rectangle 7"/>
          <p:cNvSpPr/>
          <p:nvPr/>
        </p:nvSpPr>
        <p:spPr>
          <a:xfrm>
            <a:off x="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8"/>
          <p:cNvSpPr/>
          <p:nvPr/>
        </p:nvSpPr>
        <p:spPr>
          <a:xfrm>
            <a:off x="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 txBox="1"/>
          <p:nvPr/>
        </p:nvSpPr>
        <p:spPr>
          <a:xfrm>
            <a:off x="4876560" y="5105160"/>
            <a:ext cx="366372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Ответ: масштаб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Rectangle 9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10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6" name="Picture 11" descr=""/>
          <p:cNvPicPr/>
          <p:nvPr/>
        </p:nvPicPr>
        <p:blipFill>
          <a:blip r:embed="rId1"/>
          <a:srcRect l="19687" t="0" r="17528" b="12332"/>
          <a:stretch/>
        </p:blipFill>
        <p:spPr>
          <a:xfrm>
            <a:off x="3886200" y="2438280"/>
            <a:ext cx="343080" cy="72396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13" descr="http://im2-tub.yandex.net/i?id=98969619&amp;tov=2"/>
          <p:cNvPicPr/>
          <p:nvPr/>
        </p:nvPicPr>
        <p:blipFill>
          <a:blip r:embed="rId2"/>
          <a:stretch/>
        </p:blipFill>
        <p:spPr>
          <a:xfrm>
            <a:off x="1219320" y="2438280"/>
            <a:ext cx="2286000" cy="172404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12" descr=""/>
          <p:cNvPicPr/>
          <p:nvPr/>
        </p:nvPicPr>
        <p:blipFill>
          <a:blip r:embed="rId3"/>
          <a:srcRect l="19687" t="0" r="17528" b="12332"/>
          <a:stretch/>
        </p:blipFill>
        <p:spPr>
          <a:xfrm>
            <a:off x="3505320" y="2438280"/>
            <a:ext cx="342720" cy="723960"/>
          </a:xfrm>
          <a:prstGeom prst="rect">
            <a:avLst/>
          </a:prstGeom>
          <a:ln w="0">
            <a:noFill/>
          </a:ln>
        </p:spPr>
      </p:pic>
      <p:sp>
        <p:nvSpPr>
          <p:cNvPr id="689" name="Rectangle 14"/>
          <p:cNvSpPr/>
          <p:nvPr/>
        </p:nvSpPr>
        <p:spPr>
          <a:xfrm>
            <a:off x="0" y="264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15"/>
          <p:cNvSpPr/>
          <p:nvPr/>
        </p:nvSpPr>
        <p:spPr>
          <a:xfrm>
            <a:off x="-228600" y="332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Picture 16" descr="http://im8-tub.yandex.net/i?id=52957969&amp;tov=8"/>
          <p:cNvPicPr/>
          <p:nvPr/>
        </p:nvPicPr>
        <p:blipFill>
          <a:blip r:embed="rId4"/>
          <a:stretch/>
        </p:blipFill>
        <p:spPr>
          <a:xfrm>
            <a:off x="5029200" y="2438280"/>
            <a:ext cx="236232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 txBox="1"/>
          <p:nvPr/>
        </p:nvSpPr>
        <p:spPr>
          <a:xfrm>
            <a:off x="4800600" y="5486040"/>
            <a:ext cx="40449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Ответ: диаграммы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Rectangle 8"/>
          <p:cNvSpPr/>
          <p:nvPr/>
        </p:nvSpPr>
        <p:spPr>
          <a:xfrm>
            <a:off x="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9"/>
          <p:cNvSpPr/>
          <p:nvPr/>
        </p:nvSpPr>
        <p:spPr>
          <a:xfrm>
            <a:off x="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Picture 13" descr=""/>
          <p:cNvPicPr/>
          <p:nvPr/>
        </p:nvPicPr>
        <p:blipFill>
          <a:blip r:embed="rId1"/>
          <a:srcRect l="19687" t="0" r="17528" b="12332"/>
          <a:stretch/>
        </p:blipFill>
        <p:spPr>
          <a:xfrm>
            <a:off x="6019920" y="2362320"/>
            <a:ext cx="342720" cy="723960"/>
          </a:xfrm>
          <a:prstGeom prst="rect">
            <a:avLst/>
          </a:prstGeom>
          <a:ln w="0">
            <a:noFill/>
          </a:ln>
        </p:spPr>
      </p:pic>
      <p:sp>
        <p:nvSpPr>
          <p:cNvPr id="696" name="Rectangle 14"/>
          <p:cNvSpPr/>
          <p:nvPr/>
        </p:nvSpPr>
        <p:spPr>
          <a:xfrm>
            <a:off x="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15"/>
          <p:cNvSpPr/>
          <p:nvPr/>
        </p:nvSpPr>
        <p:spPr>
          <a:xfrm>
            <a:off x="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Picture 19" descr=""/>
          <p:cNvPicPr/>
          <p:nvPr/>
        </p:nvPicPr>
        <p:blipFill>
          <a:blip r:embed="rId2"/>
          <a:srcRect l="19687" t="0" r="17528" b="12332"/>
          <a:stretch/>
        </p:blipFill>
        <p:spPr>
          <a:xfrm>
            <a:off x="6324480" y="2362320"/>
            <a:ext cx="343080" cy="723960"/>
          </a:xfrm>
          <a:prstGeom prst="rect">
            <a:avLst/>
          </a:prstGeom>
          <a:ln w="0">
            <a:noFill/>
          </a:ln>
        </p:spPr>
      </p:pic>
      <p:sp>
        <p:nvSpPr>
          <p:cNvPr id="699" name="Rectangle 20"/>
          <p:cNvSpPr/>
          <p:nvPr/>
        </p:nvSpPr>
        <p:spPr>
          <a:xfrm>
            <a:off x="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21"/>
          <p:cNvSpPr/>
          <p:nvPr/>
        </p:nvSpPr>
        <p:spPr>
          <a:xfrm>
            <a:off x="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1" name="Picture 22" descr=""/>
          <p:cNvPicPr/>
          <p:nvPr/>
        </p:nvPicPr>
        <p:blipFill>
          <a:blip r:embed="rId3"/>
          <a:srcRect l="19687" t="0" r="17528" b="12332"/>
          <a:stretch/>
        </p:blipFill>
        <p:spPr>
          <a:xfrm>
            <a:off x="6629400" y="2362320"/>
            <a:ext cx="343080" cy="723960"/>
          </a:xfrm>
          <a:prstGeom prst="rect">
            <a:avLst/>
          </a:prstGeom>
          <a:ln w="0">
            <a:noFill/>
          </a:ln>
        </p:spPr>
      </p:pic>
      <p:sp>
        <p:nvSpPr>
          <p:cNvPr id="702" name="Rectangle 26"/>
          <p:cNvSpPr/>
          <p:nvPr/>
        </p:nvSpPr>
        <p:spPr>
          <a:xfrm>
            <a:off x="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27"/>
          <p:cNvSpPr/>
          <p:nvPr/>
        </p:nvSpPr>
        <p:spPr>
          <a:xfrm>
            <a:off x="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4" name="Picture 28" descr="http://im6-tub.yandex.net/i?id=19552579&amp;tov=6"/>
          <p:cNvPicPr/>
          <p:nvPr/>
        </p:nvPicPr>
        <p:blipFill>
          <a:blip r:embed="rId4"/>
          <a:stretch/>
        </p:blipFill>
        <p:spPr>
          <a:xfrm>
            <a:off x="1600200" y="2362320"/>
            <a:ext cx="2133720" cy="1833480"/>
          </a:xfrm>
          <a:prstGeom prst="rect">
            <a:avLst/>
          </a:prstGeom>
          <a:ln w="0">
            <a:noFill/>
          </a:ln>
        </p:spPr>
      </p:pic>
      <p:sp>
        <p:nvSpPr>
          <p:cNvPr id="705" name="WordArt 29"/>
          <p:cNvSpPr txBox="1"/>
          <p:nvPr/>
        </p:nvSpPr>
        <p:spPr>
          <a:xfrm>
            <a:off x="2286000" y="4343400"/>
            <a:ext cx="6764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706" name="Line 30"/>
          <p:cNvSpPr/>
          <p:nvPr/>
        </p:nvSpPr>
        <p:spPr>
          <a:xfrm>
            <a:off x="1905120" y="4419720"/>
            <a:ext cx="1600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Picture 31" descr="http://im4-tub.yandex.net/i?id=77692120&amp;tov=4"/>
          <p:cNvPicPr/>
          <p:nvPr/>
        </p:nvPicPr>
        <p:blipFill>
          <a:blip r:embed="rId5"/>
          <a:stretch/>
        </p:blipFill>
        <p:spPr>
          <a:xfrm>
            <a:off x="4648320" y="2362320"/>
            <a:ext cx="1363680" cy="1733400"/>
          </a:xfrm>
          <a:prstGeom prst="rect">
            <a:avLst/>
          </a:prstGeom>
          <a:ln w="0">
            <a:noFill/>
          </a:ln>
        </p:spPr>
      </p:pic>
      <p:sp>
        <p:nvSpPr>
          <p:cNvPr id="708" name="WordArt 32"/>
          <p:cNvSpPr txBox="1"/>
          <p:nvPr/>
        </p:nvSpPr>
        <p:spPr>
          <a:xfrm>
            <a:off x="4648320" y="4191120"/>
            <a:ext cx="1371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о = 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 txBox="1"/>
          <p:nvPr/>
        </p:nvSpPr>
        <p:spPr>
          <a:xfrm>
            <a:off x="4876920" y="5257800"/>
            <a:ext cx="396864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Ответ: площадь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10" name="Picture 6" descr="http://im0-tub.yandex.net/i?id=130622990&amp;tov=0"/>
          <p:cNvPicPr/>
          <p:nvPr/>
        </p:nvPicPr>
        <p:blipFill>
          <a:blip r:embed="rId1"/>
          <a:stretch/>
        </p:blipFill>
        <p:spPr>
          <a:xfrm>
            <a:off x="3352680" y="2438280"/>
            <a:ext cx="2210040" cy="1665360"/>
          </a:xfrm>
          <a:prstGeom prst="rect">
            <a:avLst/>
          </a:prstGeom>
          <a:ln w="0">
            <a:noFill/>
          </a:ln>
        </p:spPr>
      </p:pic>
      <p:sp>
        <p:nvSpPr>
          <p:cNvPr id="711" name="WordArt 5"/>
          <p:cNvSpPr txBox="1"/>
          <p:nvPr/>
        </p:nvSpPr>
        <p:spPr>
          <a:xfrm>
            <a:off x="2209680" y="2819520"/>
            <a:ext cx="8384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п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712" name="WordArt 4"/>
          <p:cNvSpPr txBox="1"/>
          <p:nvPr/>
        </p:nvSpPr>
        <p:spPr>
          <a:xfrm>
            <a:off x="3733920" y="4191120"/>
            <a:ext cx="1371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ш = щ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713" name="Rectangle 7"/>
          <p:cNvSpPr/>
          <p:nvPr/>
        </p:nvSpPr>
        <p:spPr>
          <a:xfrm>
            <a:off x="0" y="246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8"/>
          <p:cNvSpPr/>
          <p:nvPr/>
        </p:nvSpPr>
        <p:spPr>
          <a:xfrm>
            <a:off x="4081680" y="253584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10ea7"/>
                </a:solidFill>
                <a:latin typeface="Arial"/>
                <a:ea typeface="Times New Roman"/>
              </a:rPr>
              <a:t>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10"/>
          <p:cNvSpPr/>
          <p:nvPr/>
        </p:nvSpPr>
        <p:spPr>
          <a:xfrm>
            <a:off x="1293840" y="227700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10ea7"/>
                </a:solidFill>
                <a:latin typeface="Arial"/>
                <a:ea typeface="Times New Roman"/>
              </a:rPr>
              <a:t>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WordArt 4"/>
          <p:cNvSpPr txBox="1"/>
          <p:nvPr/>
        </p:nvSpPr>
        <p:spPr>
          <a:xfrm>
            <a:off x="533520" y="1752480"/>
            <a:ext cx="831528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Математическ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термины в ребуса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b5064"/>
                </a:solidFill>
                <a:latin typeface="Courier New"/>
              </a:rPr>
              <a:t>Идея возникновения проекта: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На одном из уроков учительница предложила разгадать математические термины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Мне стало интересно,  и у меня возникла идея составить  математические термины в ребусах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редлагаю вашему вниманию некоторые из них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Picture 6" descr="http://im3-tub.yandex.net/i?id=69616369&amp;tov=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76520" y="2286000"/>
            <a:ext cx="2286000" cy="1670040"/>
          </a:xfrm>
          <a:prstGeom prst="rect">
            <a:avLst/>
          </a:prstGeom>
          <a:ln w="0">
            <a:noFill/>
          </a:ln>
        </p:spPr>
      </p:pic>
      <p:sp>
        <p:nvSpPr>
          <p:cNvPr id="61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8"/>
          <p:cNvSpPr/>
          <p:nvPr/>
        </p:nvSpPr>
        <p:spPr>
          <a:xfrm>
            <a:off x="4320" y="-720"/>
            <a:ext cx="1375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Picture 10" descr="i?id=51768778&amp;tov=0"/>
          <p:cNvPicPr/>
          <p:nvPr/>
        </p:nvPicPr>
        <p:blipFill>
          <a:blip r:embed="rId3"/>
          <a:stretch/>
        </p:blipFill>
        <p:spPr>
          <a:xfrm>
            <a:off x="5105520" y="2438280"/>
            <a:ext cx="2552760" cy="136224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 txBox="1"/>
          <p:nvPr/>
        </p:nvSpPr>
        <p:spPr>
          <a:xfrm>
            <a:off x="4800600" y="5638320"/>
            <a:ext cx="404496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Ответ: радиус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2" name="Picture 14" descr=""/>
          <p:cNvPicPr/>
          <p:nvPr/>
        </p:nvPicPr>
        <p:blipFill>
          <a:blip r:embed="rId4"/>
          <a:srcRect l="19687" t="0" r="17528" b="12332"/>
          <a:stretch/>
        </p:blipFill>
        <p:spPr>
          <a:xfrm>
            <a:off x="3962520" y="2286000"/>
            <a:ext cx="342720" cy="72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Picture 4" descr="http://im0-tub.yandex.net/i?id=32162202&amp;tov=0"/>
          <p:cNvPicPr/>
          <p:nvPr/>
        </p:nvPicPr>
        <p:blipFill>
          <a:blip r:embed="rId1"/>
          <a:stretch/>
        </p:blipFill>
        <p:spPr>
          <a:xfrm>
            <a:off x="2895480" y="1752480"/>
            <a:ext cx="1381320" cy="2105280"/>
          </a:xfrm>
          <a:prstGeom prst="rect">
            <a:avLst/>
          </a:prstGeom>
          <a:ln w="0">
            <a:noFill/>
          </a:ln>
        </p:spPr>
      </p:pic>
      <p:sp>
        <p:nvSpPr>
          <p:cNvPr id="624" name="WordArt 6"/>
          <p:cNvSpPr txBox="1"/>
          <p:nvPr/>
        </p:nvSpPr>
        <p:spPr>
          <a:xfrm>
            <a:off x="2971800" y="4038480"/>
            <a:ext cx="121932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а - 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625" name="WordArt 5"/>
          <p:cNvSpPr txBox="1"/>
          <p:nvPr/>
        </p:nvSpPr>
        <p:spPr>
          <a:xfrm>
            <a:off x="4876920" y="2438280"/>
            <a:ext cx="15238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л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62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4876920" y="5334120"/>
            <a:ext cx="396864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Ответ: формул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 txBox="1"/>
          <p:nvPr/>
        </p:nvSpPr>
        <p:spPr>
          <a:xfrm>
            <a:off x="5638680" y="5334120"/>
            <a:ext cx="320688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Ответ: скорость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Rectangle 8"/>
          <p:cNvSpPr/>
          <p:nvPr/>
        </p:nvSpPr>
        <p:spPr>
          <a:xfrm>
            <a:off x="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9"/>
          <p:cNvSpPr/>
          <p:nvPr/>
        </p:nvSpPr>
        <p:spPr>
          <a:xfrm>
            <a:off x="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Picture 12" descr="http://im6-tub.yandex.net/i?id=102562246&amp;tov=6"/>
          <p:cNvPicPr/>
          <p:nvPr/>
        </p:nvPicPr>
        <p:blipFill>
          <a:blip r:embed="rId1"/>
          <a:stretch/>
        </p:blipFill>
        <p:spPr>
          <a:xfrm>
            <a:off x="3809880" y="2133720"/>
            <a:ext cx="2229120" cy="1485720"/>
          </a:xfrm>
          <a:prstGeom prst="rect">
            <a:avLst/>
          </a:prstGeom>
          <a:ln w="0">
            <a:noFill/>
          </a:ln>
        </p:spPr>
      </p:pic>
      <p:sp>
        <p:nvSpPr>
          <p:cNvPr id="632" name="WordArt 11"/>
          <p:cNvSpPr txBox="1"/>
          <p:nvPr/>
        </p:nvSpPr>
        <p:spPr>
          <a:xfrm>
            <a:off x="2286000" y="2438280"/>
            <a:ext cx="97164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633" name="WordArt 13"/>
          <p:cNvSpPr txBox="1"/>
          <p:nvPr/>
        </p:nvSpPr>
        <p:spPr>
          <a:xfrm>
            <a:off x="4114800" y="3809880"/>
            <a:ext cx="1371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а = 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634" name="WordArt 14"/>
          <p:cNvSpPr txBox="1"/>
          <p:nvPr/>
        </p:nvSpPr>
        <p:spPr>
          <a:xfrm>
            <a:off x="6400800" y="2438280"/>
            <a:ext cx="1486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ст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635" name="Rectangle 15"/>
          <p:cNvSpPr/>
          <p:nvPr/>
        </p:nvSpPr>
        <p:spPr>
          <a:xfrm>
            <a:off x="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16"/>
          <p:cNvSpPr/>
          <p:nvPr/>
        </p:nvSpPr>
        <p:spPr>
          <a:xfrm>
            <a:off x="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 txBox="1"/>
          <p:nvPr/>
        </p:nvSpPr>
        <p:spPr>
          <a:xfrm>
            <a:off x="5943240" y="5409720"/>
            <a:ext cx="29019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Ответ: координаты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8" name="Picture 4" descr="http://im0-tub.yandex.net/i?id=134402191&amp;tov=0"/>
          <p:cNvPicPr/>
          <p:nvPr/>
        </p:nvPicPr>
        <p:blipFill>
          <a:blip r:embed="rId1"/>
          <a:stretch/>
        </p:blipFill>
        <p:spPr>
          <a:xfrm>
            <a:off x="6400800" y="2209680"/>
            <a:ext cx="1943280" cy="146376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9" descr="http://im0-tub.yandex.net/i?id=8665185&amp;tov=0"/>
          <p:cNvPicPr/>
          <p:nvPr/>
        </p:nvPicPr>
        <p:blipFill>
          <a:blip r:embed="rId2"/>
          <a:stretch/>
        </p:blipFill>
        <p:spPr>
          <a:xfrm>
            <a:off x="2971800" y="2209680"/>
            <a:ext cx="1838160" cy="1714680"/>
          </a:xfrm>
          <a:prstGeom prst="rect">
            <a:avLst/>
          </a:prstGeom>
          <a:ln w="0">
            <a:noFill/>
          </a:ln>
        </p:spPr>
      </p:pic>
      <p:sp>
        <p:nvSpPr>
          <p:cNvPr id="640" name="WordArt 5"/>
          <p:cNvSpPr txBox="1"/>
          <p:nvPr/>
        </p:nvSpPr>
        <p:spPr>
          <a:xfrm>
            <a:off x="1447920" y="2590920"/>
            <a:ext cx="102852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к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641" name="WordArt 6"/>
          <p:cNvSpPr txBox="1"/>
          <p:nvPr/>
        </p:nvSpPr>
        <p:spPr>
          <a:xfrm>
            <a:off x="3276720" y="4038480"/>
            <a:ext cx="1257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е = 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pic>
        <p:nvPicPr>
          <p:cNvPr id="642" name="Picture 7" descr=""/>
          <p:cNvPicPr/>
          <p:nvPr/>
        </p:nvPicPr>
        <p:blipFill>
          <a:blip r:embed="rId3"/>
          <a:srcRect l="19687" t="0" r="17528" b="12332"/>
          <a:stretch/>
        </p:blipFill>
        <p:spPr>
          <a:xfrm>
            <a:off x="5867280" y="2209680"/>
            <a:ext cx="343080" cy="72396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8" descr=""/>
          <p:cNvPicPr/>
          <p:nvPr/>
        </p:nvPicPr>
        <p:blipFill>
          <a:blip r:embed="rId4"/>
          <a:srcRect l="19687" t="0" r="17528" b="12332"/>
          <a:stretch/>
        </p:blipFill>
        <p:spPr>
          <a:xfrm>
            <a:off x="6172200" y="2209680"/>
            <a:ext cx="304920" cy="723960"/>
          </a:xfrm>
          <a:prstGeom prst="rect">
            <a:avLst/>
          </a:prstGeom>
          <a:ln w="0">
            <a:noFill/>
          </a:ln>
        </p:spPr>
      </p:pic>
      <p:sp>
        <p:nvSpPr>
          <p:cNvPr id="644" name="Rectangle 10"/>
          <p:cNvSpPr/>
          <p:nvPr/>
        </p:nvSpPr>
        <p:spPr>
          <a:xfrm>
            <a:off x="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11"/>
          <p:cNvSpPr/>
          <p:nvPr/>
        </p:nvSpPr>
        <p:spPr>
          <a:xfrm>
            <a:off x="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 txBox="1"/>
          <p:nvPr/>
        </p:nvSpPr>
        <p:spPr>
          <a:xfrm>
            <a:off x="5028840" y="5181480"/>
            <a:ext cx="38163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Ответ: график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5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6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7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8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Picture 11" descr="http://im8-tub.yandex.net/i?id=82924891&amp;tov=8"/>
          <p:cNvPicPr/>
          <p:nvPr/>
        </p:nvPicPr>
        <p:blipFill>
          <a:blip r:embed="rId1"/>
          <a:stretch/>
        </p:blipFill>
        <p:spPr>
          <a:xfrm>
            <a:off x="1981080" y="1905120"/>
            <a:ext cx="2590920" cy="1871640"/>
          </a:xfrm>
          <a:prstGeom prst="rect">
            <a:avLst/>
          </a:prstGeom>
          <a:ln w="0">
            <a:noFill/>
          </a:ln>
        </p:spPr>
      </p:pic>
      <p:sp>
        <p:nvSpPr>
          <p:cNvPr id="653" name="WordArt 9"/>
          <p:cNvSpPr txBox="1"/>
          <p:nvPr/>
        </p:nvSpPr>
        <p:spPr>
          <a:xfrm>
            <a:off x="2819520" y="4038480"/>
            <a:ext cx="10573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и = 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654" name="WordArt 10"/>
          <p:cNvSpPr txBox="1"/>
          <p:nvPr/>
        </p:nvSpPr>
        <p:spPr>
          <a:xfrm>
            <a:off x="4876920" y="2514600"/>
            <a:ext cx="14857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и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655" name="Rectangle 12"/>
          <p:cNvSpPr/>
          <p:nvPr/>
        </p:nvSpPr>
        <p:spPr>
          <a:xfrm>
            <a:off x="0" y="2195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13"/>
          <p:cNvSpPr/>
          <p:nvPr/>
        </p:nvSpPr>
        <p:spPr>
          <a:xfrm>
            <a:off x="0" y="2195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14"/>
          <p:cNvSpPr/>
          <p:nvPr/>
        </p:nvSpPr>
        <p:spPr>
          <a:xfrm>
            <a:off x="0" y="2195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 txBox="1"/>
          <p:nvPr/>
        </p:nvSpPr>
        <p:spPr>
          <a:xfrm>
            <a:off x="4952520" y="5257800"/>
            <a:ext cx="38926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Ответ: кратно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9" name="Rectangle 4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5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6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7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8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Picture 10" descr="http://im2-tub.yandex.net/i?id=10829334&amp;tov=2"/>
          <p:cNvPicPr/>
          <p:nvPr/>
        </p:nvPicPr>
        <p:blipFill>
          <a:blip r:embed="rId1"/>
          <a:stretch/>
        </p:blipFill>
        <p:spPr>
          <a:xfrm>
            <a:off x="3276720" y="2133720"/>
            <a:ext cx="2514600" cy="1665000"/>
          </a:xfrm>
          <a:prstGeom prst="rect">
            <a:avLst/>
          </a:prstGeom>
          <a:ln w="0">
            <a:noFill/>
          </a:ln>
        </p:spPr>
      </p:pic>
      <p:sp>
        <p:nvSpPr>
          <p:cNvPr id="665" name="WordArt 9"/>
          <p:cNvSpPr txBox="1"/>
          <p:nvPr/>
        </p:nvSpPr>
        <p:spPr>
          <a:xfrm>
            <a:off x="3733920" y="3962520"/>
            <a:ext cx="1485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99"/>
                </a:solidFill>
                <a:latin typeface="Arial"/>
              </a:rPr>
              <a:t>с = 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99"/>
              </a:solidFill>
              <a:latin typeface="Arial"/>
              <a:ea typeface="Arial"/>
            </a:endParaRPr>
          </a:p>
        </p:txBody>
      </p:sp>
      <p:sp>
        <p:nvSpPr>
          <p:cNvPr id="666" name="Rectangle 11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12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13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ена Алексеевна</cp:lastModifiedBy>
  <dcterms:modified xsi:type="dcterms:W3CDTF">2011-01-26T19:29:01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