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34.png" ContentType="image/png"/>
  <Override PartName="/ppt/media/image38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8.png" ContentType="image/png"/>
  <Override PartName="/ppt/media/image33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6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4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569B-92A8-4D6E-B7FC-A213616D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4E6-3F43-4E8E-AEDB-F1A3D685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109-9556-4455-8993-E30F6741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9D3-31C3-4957-8F60-25F0C4FE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FCE-3D75-4C39-9C77-DEB55E5C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B69-21A1-4EF2-84A8-D2C1CB3A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3A29-3098-4E8E-9640-BF685508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F41F-4361-4A9D-BFDC-DFCDF206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13E-66CF-463F-BBEB-2F1FA1B3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223-DFCB-4404-9221-E7496691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9E5-203C-4857-975F-7EF70101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F197-2098-4320-B7E0-AAC392F3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8ABA-94E5-41BB-B943-51A872050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85c6"/>
            </a:gs>
            <a:gs pos="100000">
              <a:srgbClr val="47b9e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24000" y="4723920"/>
            <a:ext cx="5033880" cy="14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400" spc="-1" strike="noStrike">
                <a:solidFill>
                  <a:srgbClr val="be2b20"/>
                </a:solidFill>
                <a:latin typeface="Arial"/>
              </a:rPr>
              <a:t>«Математика владеет не только истиной, но и красотой- красотой отточенной и строгой, возвышенно чистой и стремящейся к подлинному совершенству, которое свойственно лишь величайшим образцам искусств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e2b20"/>
                </a:solidFill>
                <a:latin typeface="Arial"/>
              </a:rPr>
              <a:t>                                                       </a:t>
            </a:r>
            <a:r>
              <a:rPr b="1" i="1" lang="en-US" sz="1400" spc="-1" strike="noStrike">
                <a:solidFill>
                  <a:srgbClr val="be2b20"/>
                </a:solidFill>
                <a:latin typeface="Arial"/>
              </a:rPr>
              <a:t>Бертран  Расс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be2b2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539640" y="981000"/>
            <a:ext cx="45500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 о д у л 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WordArt 15"/>
          <p:cNvSpPr txBox="1"/>
          <p:nvPr/>
        </p:nvSpPr>
        <p:spPr>
          <a:xfrm>
            <a:off x="4716360" y="2552760"/>
            <a:ext cx="364968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 Р А Ф И К 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" name="WordArt 18"/>
          <p:cNvSpPr txBox="1"/>
          <p:nvPr/>
        </p:nvSpPr>
        <p:spPr>
          <a:xfrm>
            <a:off x="3635280" y="3086280"/>
            <a:ext cx="4604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ce4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7"/>
          <p:cNvSpPr/>
          <p:nvPr/>
        </p:nvSpPr>
        <p:spPr>
          <a:xfrm>
            <a:off x="395280" y="260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1e2a"/>
                </a:solidFill>
                <a:latin typeface="Arial"/>
              </a:rPr>
              <a:t>Зада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Построить на координатной плоскости множество точек (х;у), удовлетворяющих    равенств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395280" y="9810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х 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2484360" y="928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│= х – 3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4643280" y="9280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- х +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6728760" y="928080"/>
            <a:ext cx="15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2х + 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5"/>
          <p:cNvSpPr/>
          <p:nvPr/>
        </p:nvSpPr>
        <p:spPr>
          <a:xfrm>
            <a:off x="7056360" y="31186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)  │у - 1│= - 2х + 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6"/>
          <p:cNvSpPr/>
          <p:nvPr/>
        </p:nvSpPr>
        <p:spPr>
          <a:xfrm>
            <a:off x="4643280" y="298368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)      │у + 1│= х + 3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7"/>
          <p:cNvSpPr/>
          <p:nvPr/>
        </p:nvSpPr>
        <p:spPr>
          <a:xfrm>
            <a:off x="2771640" y="30661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)      │у - 2│= 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0"/>
          <p:cNvSpPr/>
          <p:nvPr/>
        </p:nvSpPr>
        <p:spPr>
          <a:xfrm>
            <a:off x="4077000" y="3623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0" y="30621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│у│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4"/>
          <p:cNvSpPr/>
          <p:nvPr/>
        </p:nvSpPr>
        <p:spPr>
          <a:xfrm>
            <a:off x="46836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3"/>
              <p:cNvSpPr txBox="1"/>
              <p:nvPr/>
            </p:nvSpPr>
            <p:spPr>
              <a:xfrm>
                <a:off x="1042920" y="2924280"/>
                <a:ext cx="4287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Text Box 35"/>
          <p:cNvSpPr/>
          <p:nvPr/>
        </p:nvSpPr>
        <p:spPr>
          <a:xfrm>
            <a:off x="285840" y="51181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1e2a"/>
                </a:solidFill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c81e2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81e2a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равенство │у - </a:t>
            </a: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│= </a:t>
            </a: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ax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c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 изображается на координатной плоскости углом с вершиной в точке  (</a:t>
            </a: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-с/а; </a:t>
            </a: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b)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       и сторонами, направленными вправо, если </a:t>
            </a: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 &gt; 0, и влево,  если  а &lt; 0.  Если  а = 0, то изображается   параллельными   прямыми   у = </a:t>
            </a: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c  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  и       </a:t>
            </a: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y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 – </a:t>
            </a: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c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8" descr=""/>
          <p:cNvPicPr/>
          <p:nvPr/>
        </p:nvPicPr>
        <p:blipFill>
          <a:blip r:embed="rId1"/>
          <a:srcRect l="6065" t="3388" r="3618" b="4638"/>
          <a:stretch/>
        </p:blipFill>
        <p:spPr>
          <a:xfrm>
            <a:off x="468360" y="1341360"/>
            <a:ext cx="1582560" cy="1511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9" descr=""/>
          <p:cNvPicPr/>
          <p:nvPr/>
        </p:nvPicPr>
        <p:blipFill>
          <a:blip r:embed="rId2"/>
          <a:srcRect l="9857" t="4448" r="0" b="3578"/>
          <a:stretch/>
        </p:blipFill>
        <p:spPr>
          <a:xfrm>
            <a:off x="2411280" y="1341360"/>
            <a:ext cx="1974960" cy="1511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0" descr=""/>
          <p:cNvPicPr/>
          <p:nvPr/>
        </p:nvPicPr>
        <p:blipFill>
          <a:blip r:embed="rId3"/>
          <a:srcRect l="7224" t="3372" r="6436" b="5106"/>
          <a:stretch/>
        </p:blipFill>
        <p:spPr>
          <a:xfrm>
            <a:off x="4716360" y="1341360"/>
            <a:ext cx="1727280" cy="1511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1" descr=""/>
          <p:cNvPicPr/>
          <p:nvPr/>
        </p:nvPicPr>
        <p:blipFill>
          <a:blip r:embed="rId4"/>
          <a:srcRect l="4655" t="0" r="2769" b="6003"/>
          <a:stretch/>
        </p:blipFill>
        <p:spPr>
          <a:xfrm>
            <a:off x="6877080" y="1285920"/>
            <a:ext cx="1798560" cy="1566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2" descr=""/>
          <p:cNvPicPr/>
          <p:nvPr/>
        </p:nvPicPr>
        <p:blipFill>
          <a:blip r:embed="rId5"/>
          <a:srcRect l="3790" t="0" r="6670" b="0"/>
          <a:stretch/>
        </p:blipFill>
        <p:spPr>
          <a:xfrm>
            <a:off x="395280" y="3500280"/>
            <a:ext cx="1727280" cy="1486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3" descr=""/>
          <p:cNvPicPr/>
          <p:nvPr/>
        </p:nvPicPr>
        <p:blipFill>
          <a:blip r:embed="rId6"/>
          <a:srcRect l="10688" t="0" r="7238" b="0"/>
          <a:stretch/>
        </p:blipFill>
        <p:spPr>
          <a:xfrm>
            <a:off x="2556000" y="3500280"/>
            <a:ext cx="1657080" cy="1486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4" descr=""/>
          <p:cNvPicPr/>
          <p:nvPr/>
        </p:nvPicPr>
        <p:blipFill>
          <a:blip r:embed="rId7"/>
          <a:srcRect l="0" t="0" r="7600" b="8638"/>
          <a:stretch/>
        </p:blipFill>
        <p:spPr>
          <a:xfrm>
            <a:off x="4788000" y="3500280"/>
            <a:ext cx="1584360" cy="15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5" descr=""/>
          <p:cNvPicPr/>
          <p:nvPr/>
        </p:nvPicPr>
        <p:blipFill>
          <a:blip r:embed="rId8"/>
          <a:srcRect l="0" t="0" r="0" b="8629"/>
          <a:stretch/>
        </p:blipFill>
        <p:spPr>
          <a:xfrm>
            <a:off x="7093080" y="3500280"/>
            <a:ext cx="1587240" cy="1513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e4ee"/>
            </a:gs>
            <a:gs pos="100000">
              <a:srgbClr val="9febc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900000" y="4046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остроение графиков функций у =│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)│±│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)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5640" y="836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6"/>
              <p:cNvSpPr txBox="1"/>
              <p:nvPr/>
            </p:nvSpPr>
            <p:spPr>
              <a:xfrm>
                <a:off x="1355760" y="835200"/>
                <a:ext cx="161748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2"/>
              <p:cNvSpPr txBox="1"/>
              <p:nvPr/>
            </p:nvSpPr>
            <p:spPr>
              <a:xfrm>
                <a:off x="1530360" y="2857680"/>
                <a:ext cx="1541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Text Box 14"/>
          <p:cNvSpPr/>
          <p:nvPr/>
        </p:nvSpPr>
        <p:spPr>
          <a:xfrm>
            <a:off x="111600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684360" y="4508640"/>
            <a:ext cx="8280360" cy="19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ПРАВИЛО 4:</a:t>
            </a:r>
            <a:r>
              <a:rPr b="0" i="1" lang="ru-RU" sz="1800" spc="-1" strike="noStrike">
                <a:solidFill>
                  <a:srgbClr val="c81e2a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Алгебраическая сумма модулей n линейных выражений представляет собой кусочно-линейную функцию, график которой состоит из n+1 прямолинейного отрезка. Тогда график может быть построен по n+2 точкам, n из которых представляют собой корни внутримодульных выражений, ещё одна - произвольная точка с абсциссой, меньшей меньшего из этих корней и последняя - с абсциссой, большей большего из корн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059280" y="2349360"/>
            <a:ext cx="583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3276720" y="1557360"/>
            <a:ext cx="504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Вычисляя значение функции в точках с абсциссами -2, -1, 1и 3, получаем график, состоящий из трех отрезков прям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3348000" y="3429000"/>
            <a:ext cx="518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Вычисляя значение функции в точках с абсциссами   -3, -2, 0 , 2 и 3  получаем график, состоящий из трех отрезков прям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2" descr=""/>
          <p:cNvPicPr/>
          <p:nvPr/>
        </p:nvPicPr>
        <p:blipFill>
          <a:blip r:embed="rId1"/>
          <a:stretch/>
        </p:blipFill>
        <p:spPr>
          <a:xfrm>
            <a:off x="714240" y="1214280"/>
            <a:ext cx="2500560" cy="1590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3" descr=""/>
          <p:cNvPicPr/>
          <p:nvPr/>
        </p:nvPicPr>
        <p:blipFill>
          <a:blip r:embed="rId2"/>
          <a:stretch/>
        </p:blipFill>
        <p:spPr>
          <a:xfrm>
            <a:off x="714240" y="3235320"/>
            <a:ext cx="1714680" cy="1630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e4ee"/>
            </a:gs>
            <a:gs pos="100000">
              <a:srgbClr val="9febc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2"/>
          <p:cNvSpPr/>
          <p:nvPr/>
        </p:nvSpPr>
        <p:spPr>
          <a:xfrm>
            <a:off x="1692360" y="404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остроение графиков  у =│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(|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|)│, │ у│ =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(|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|), │ у│ =│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)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│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у │=│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(|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|)│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5796000" y="414972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 = ││││х│ - 2│ - 2│ - 2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5580000" y="1197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│ =│ х   – 2|х| -3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6659640" y="1125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1116000" y="4005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 │=│ х   – 2х -3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1835280" y="3933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2"/>
          <p:cNvSpPr/>
          <p:nvPr/>
        </p:nvSpPr>
        <p:spPr>
          <a:xfrm>
            <a:off x="1258920" y="1268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у =│ х   – 2|х| -3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1835280" y="119700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4" descr=""/>
          <p:cNvPicPr/>
          <p:nvPr/>
        </p:nvPicPr>
        <p:blipFill>
          <a:blip r:embed="rId1"/>
          <a:srcRect l="8438" t="0" r="0" b="0"/>
          <a:stretch/>
        </p:blipFill>
        <p:spPr>
          <a:xfrm>
            <a:off x="1116000" y="1700280"/>
            <a:ext cx="2341440" cy="2143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5" descr=""/>
          <p:cNvPicPr/>
          <p:nvPr/>
        </p:nvPicPr>
        <p:blipFill>
          <a:blip r:embed="rId2"/>
          <a:srcRect l="13748" t="3824" r="0" b="9282"/>
          <a:stretch/>
        </p:blipFill>
        <p:spPr>
          <a:xfrm>
            <a:off x="1332000" y="4508640"/>
            <a:ext cx="1971720" cy="1800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6" descr=""/>
          <p:cNvPicPr/>
          <p:nvPr/>
        </p:nvPicPr>
        <p:blipFill>
          <a:blip r:embed="rId3"/>
          <a:srcRect l="5801" t="5773" r="4568" b="3768"/>
          <a:stretch/>
        </p:blipFill>
        <p:spPr>
          <a:xfrm>
            <a:off x="5724360" y="1700280"/>
            <a:ext cx="2305080" cy="2016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8" descr=""/>
          <p:cNvPicPr/>
          <p:nvPr/>
        </p:nvPicPr>
        <p:blipFill>
          <a:blip r:embed="rId4"/>
          <a:stretch/>
        </p:blipFill>
        <p:spPr>
          <a:xfrm>
            <a:off x="5278320" y="4572000"/>
            <a:ext cx="329436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ce4e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503280" y="3333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Задача </a:t>
            </a:r>
            <a:r>
              <a:rPr b="0" i="1" lang="ru-RU" sz="16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Дана функция  у =              Построить графики</a:t>
            </a:r>
            <a:r>
              <a:rPr b="0" i="1" lang="ru-RU" sz="16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у =|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f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)|,   у =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f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(|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|),   у =|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f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(|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|)|,  |  у | =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f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),   |у |=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f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(|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|),        | у | = |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f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)|,   |у | = |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f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(|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|)|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3924360" y="260280"/>
                <a:ext cx="342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Text Box 7"/>
          <p:cNvSpPr/>
          <p:nvPr/>
        </p:nvSpPr>
        <p:spPr>
          <a:xfrm>
            <a:off x="611280" y="1197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1619280" y="1197000"/>
                <a:ext cx="990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Text Box 10"/>
          <p:cNvSpPr/>
          <p:nvPr/>
        </p:nvSpPr>
        <p:spPr>
          <a:xfrm>
            <a:off x="1187280" y="1268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4786200" y="1143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 =             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5"/>
              <p:cNvSpPr txBox="1"/>
              <p:nvPr/>
            </p:nvSpPr>
            <p:spPr>
              <a:xfrm>
                <a:off x="5508720" y="1143000"/>
                <a:ext cx="576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1" name="Rectangle 1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7"/>
              <p:cNvSpPr txBox="1"/>
              <p:nvPr/>
            </p:nvSpPr>
            <p:spPr>
              <a:xfrm>
                <a:off x="6429240" y="1143000"/>
                <a:ext cx="7527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3" name="Text Box 20"/>
          <p:cNvSpPr/>
          <p:nvPr/>
        </p:nvSpPr>
        <p:spPr>
          <a:xfrm>
            <a:off x="646200" y="3860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755640" y="3789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4"/>
              <p:cNvSpPr txBox="1"/>
              <p:nvPr/>
            </p:nvSpPr>
            <p:spPr>
              <a:xfrm>
                <a:off x="1619280" y="3716280"/>
                <a:ext cx="4474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х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х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3"/>
              <p:cNvSpPr txBox="1"/>
              <p:nvPr/>
            </p:nvSpPr>
            <p:spPr>
              <a:xfrm>
                <a:off x="2340000" y="3716280"/>
                <a:ext cx="685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х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Rectangle 25"/>
          <p:cNvSpPr/>
          <p:nvPr/>
        </p:nvSpPr>
        <p:spPr>
          <a:xfrm>
            <a:off x="1189080" y="378972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6"/>
          <p:cNvSpPr/>
          <p:nvPr/>
        </p:nvSpPr>
        <p:spPr>
          <a:xfrm>
            <a:off x="1979640" y="3788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4228560" y="4047120"/>
            <a:ext cx="3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714920" y="37148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у =                 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30"/>
              <p:cNvSpPr txBox="1"/>
              <p:nvPr/>
            </p:nvSpPr>
            <p:spPr>
              <a:xfrm>
                <a:off x="5643720" y="3714840"/>
                <a:ext cx="685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 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 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2"/>
              <p:cNvSpPr txBox="1"/>
              <p:nvPr/>
            </p:nvSpPr>
            <p:spPr>
              <a:xfrm>
                <a:off x="6643800" y="3714840"/>
                <a:ext cx="790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 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05" name="Picture 35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2368440" cy="1895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8" descr=""/>
          <p:cNvPicPr/>
          <p:nvPr/>
        </p:nvPicPr>
        <p:blipFill>
          <a:blip r:embed="rId2"/>
          <a:stretch/>
        </p:blipFill>
        <p:spPr>
          <a:xfrm>
            <a:off x="5116680" y="1643040"/>
            <a:ext cx="2455560" cy="1884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0" descr=""/>
          <p:cNvPicPr/>
          <p:nvPr/>
        </p:nvPicPr>
        <p:blipFill>
          <a:blip r:embed="rId3"/>
          <a:stretch/>
        </p:blipFill>
        <p:spPr>
          <a:xfrm>
            <a:off x="1071720" y="4429080"/>
            <a:ext cx="2455560" cy="1663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3" descr=""/>
          <p:cNvPicPr/>
          <p:nvPr/>
        </p:nvPicPr>
        <p:blipFill>
          <a:blip r:embed="rId4"/>
          <a:stretch/>
        </p:blipFill>
        <p:spPr>
          <a:xfrm>
            <a:off x="5143680" y="4500720"/>
            <a:ext cx="2928600" cy="1592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ce4e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971640" y="260280"/>
            <a:ext cx="33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2124000" y="404640"/>
                <a:ext cx="3430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2916360" y="404640"/>
                <a:ext cx="5331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Rectangle 8"/>
          <p:cNvSpPr/>
          <p:nvPr/>
        </p:nvSpPr>
        <p:spPr>
          <a:xfrm>
            <a:off x="2411280" y="4035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4240080" y="397080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5003640" y="33336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 у | =            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1"/>
              <p:cNvSpPr txBox="1"/>
              <p:nvPr/>
            </p:nvSpPr>
            <p:spPr>
              <a:xfrm>
                <a:off x="6012000" y="333360"/>
                <a:ext cx="495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3"/>
              <p:cNvSpPr txBox="1"/>
              <p:nvPr/>
            </p:nvSpPr>
            <p:spPr>
              <a:xfrm>
                <a:off x="6804000" y="333360"/>
                <a:ext cx="752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Text Box 19"/>
          <p:cNvSpPr/>
          <p:nvPr/>
        </p:nvSpPr>
        <p:spPr>
          <a:xfrm>
            <a:off x="1403280" y="3333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1258920" y="40464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│У│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1332000" y="342900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3"/>
              <p:cNvSpPr txBox="1"/>
              <p:nvPr/>
            </p:nvSpPr>
            <p:spPr>
              <a:xfrm>
                <a:off x="2195640" y="3429000"/>
                <a:ext cx="4474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х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х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22"/>
              <p:cNvSpPr txBox="1"/>
              <p:nvPr/>
            </p:nvSpPr>
            <p:spPr>
              <a:xfrm>
                <a:off x="3059280" y="3429000"/>
                <a:ext cx="685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х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Rectangle 24"/>
          <p:cNvSpPr/>
          <p:nvPr/>
        </p:nvSpPr>
        <p:spPr>
          <a:xfrm>
            <a:off x="1547640" y="3540600"/>
            <a:ext cx="7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| у | =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5"/>
          <p:cNvSpPr/>
          <p:nvPr/>
        </p:nvSpPr>
        <p:spPr>
          <a:xfrm>
            <a:off x="2700360" y="357228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4205880" y="404712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7"/>
          <p:cNvSpPr/>
          <p:nvPr/>
        </p:nvSpPr>
        <p:spPr>
          <a:xfrm>
            <a:off x="5292720" y="3429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8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 у | =               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8"/>
              <p:cNvSpPr txBox="1"/>
              <p:nvPr/>
            </p:nvSpPr>
            <p:spPr>
              <a:xfrm>
                <a:off x="6156360" y="3429000"/>
                <a:ext cx="685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 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 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0" name="Rectangle 31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30"/>
              <p:cNvSpPr txBox="1"/>
              <p:nvPr/>
            </p:nvSpPr>
            <p:spPr>
              <a:xfrm>
                <a:off x="7308720" y="3429000"/>
                <a:ext cx="790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 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32" name="Picture 33" descr=""/>
          <p:cNvPicPr/>
          <p:nvPr/>
        </p:nvPicPr>
        <p:blipFill>
          <a:blip r:embed="rId1"/>
          <a:stretch/>
        </p:blipFill>
        <p:spPr>
          <a:xfrm>
            <a:off x="1357200" y="1000080"/>
            <a:ext cx="2097360" cy="2000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4" descr=""/>
          <p:cNvPicPr/>
          <p:nvPr/>
        </p:nvPicPr>
        <p:blipFill>
          <a:blip r:embed="rId2"/>
          <a:stretch/>
        </p:blipFill>
        <p:spPr>
          <a:xfrm>
            <a:off x="5429160" y="993600"/>
            <a:ext cx="2225880" cy="1935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5" descr=""/>
          <p:cNvPicPr/>
          <p:nvPr/>
        </p:nvPicPr>
        <p:blipFill>
          <a:blip r:embed="rId3"/>
          <a:stretch/>
        </p:blipFill>
        <p:spPr>
          <a:xfrm>
            <a:off x="1357200" y="4214880"/>
            <a:ext cx="2291040" cy="1571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6" descr=""/>
          <p:cNvPicPr/>
          <p:nvPr/>
        </p:nvPicPr>
        <p:blipFill>
          <a:blip r:embed="rId4"/>
          <a:stretch/>
        </p:blipFill>
        <p:spPr>
          <a:xfrm>
            <a:off x="5429160" y="4214880"/>
            <a:ext cx="206064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5"/>
          <p:cNvSpPr txBox="1"/>
          <p:nvPr/>
        </p:nvSpPr>
        <p:spPr>
          <a:xfrm>
            <a:off x="1116000" y="907920"/>
            <a:ext cx="612288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28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 п а с и б о      з а  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</a:t>
            </a: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н и м а н и е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b9e1"/>
            </a:gs>
            <a:gs pos="100000">
              <a:srgbClr val="1c85c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684360" y="907920"/>
            <a:ext cx="1422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 Е Л Ь :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556000" y="1125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411280" y="90792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1e2a"/>
                </a:solidFill>
                <a:latin typeface="Arial"/>
              </a:rPr>
              <a:t>Вывести правила построения графиков функций и зависимостей, содержащих знак моду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250920" y="2852640"/>
            <a:ext cx="88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зучить свойства функц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y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= | 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f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x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)|,   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y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f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(|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x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|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 зависим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|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y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|= 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f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c81e2a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сследуя графики функц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у =| 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kx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+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|,  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y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=|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x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m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)  +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|,  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y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=|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k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/(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x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m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)  +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|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у = 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k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|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x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|+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,         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y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(|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x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|-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m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)  +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,   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y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= 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k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/(|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x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|-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m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)  +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,               |у| = 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kx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+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| 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y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| = 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x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m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)  +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, | 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y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| = 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k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/(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x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m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)  +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ыявить определен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закономерности в поведении граф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cccc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формулировать правила построения граф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именить полученные правила при построении графи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одержащих     комбинацию знаков модуль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1"/>
          <p:cNvSpPr txBox="1"/>
          <p:nvPr/>
        </p:nvSpPr>
        <p:spPr>
          <a:xfrm>
            <a:off x="468360" y="2133720"/>
            <a:ext cx="2362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 а д а ч и: 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518160" y="3276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1e2a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2197080" y="3860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1e2a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781080" y="364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1e2a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85c6"/>
            </a:gs>
            <a:gs pos="100000">
              <a:srgbClr val="47b9e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755640" y="1322280"/>
            <a:ext cx="7704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c81e2a"/>
                </a:solidFill>
                <a:latin typeface="Arial"/>
              </a:rPr>
              <a:t>Определение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c81e2a"/>
                </a:solidFill>
                <a:latin typeface="Arial"/>
              </a:rPr>
              <a:t> Модул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чис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81e2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81e2a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c81e2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называется само чис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81e2a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c81e2a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если оно     положительно или равно нулю,  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c81e2a"/>
                </a:solidFill>
                <a:latin typeface="Arial"/>
              </a:rPr>
              <a:t>-а</a:t>
            </a:r>
            <a:r>
              <a:rPr b="0" lang="en-US" sz="2000" spc="-1" strike="noStrike">
                <a:solidFill>
                  <a:srgbClr val="c81e2a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если оно  отрица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бознач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Из определения следует,  ч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81e2a"/>
                </a:solidFill>
                <a:latin typeface="Arial"/>
              </a:rPr>
              <a:t>| а | ≥ 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5219640" y="2781360"/>
                <a:ext cx="27370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  <m:r>
                              <m:t xml:space="preserve"> </m:t>
                            </m:r>
                            <m:r>
                              <m:t xml:space="preserve">а</m:t>
                            </m:r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420720" y="476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84360" y="40464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11280" y="40464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68360" y="260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1e2a"/>
                </a:solidFill>
                <a:latin typeface="Arial"/>
              </a:rPr>
              <a:t>Построение графика </a:t>
            </a:r>
            <a:r>
              <a:rPr b="0" lang="ru-RU" sz="1800" spc="-1" strike="noStrike">
                <a:solidFill>
                  <a:srgbClr val="c81e2a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c81e2a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c81e2a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c81e2a"/>
                </a:solidFill>
                <a:latin typeface="Arial"/>
              </a:rPr>
              <a:t>| f (x) |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ля того чтобы вывести алгоритм построения графика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y = | f (x) |  построим   графики  функций 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у =|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kx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+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|,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= |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|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=  |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/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  +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|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используя определение моду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95280" y="155736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 =| 2х – 4 |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539640" y="422100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 = | - 2х + 2 |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2771640" y="15573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 = | x   -2х – 3 |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2627280" y="4292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 =| -х   + 4 |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5076720" y="191628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2"/>
              <p:cNvSpPr txBox="1"/>
              <p:nvPr/>
            </p:nvSpPr>
            <p:spPr>
              <a:xfrm>
                <a:off x="5292720" y="1628640"/>
                <a:ext cx="12240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Text Box 24"/>
          <p:cNvSpPr/>
          <p:nvPr/>
        </p:nvSpPr>
        <p:spPr>
          <a:xfrm>
            <a:off x="7308720" y="479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25"/>
              <p:cNvSpPr txBox="1"/>
              <p:nvPr/>
            </p:nvSpPr>
            <p:spPr>
              <a:xfrm>
                <a:off x="7740720" y="4797360"/>
                <a:ext cx="792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Text Box 27"/>
          <p:cNvSpPr/>
          <p:nvPr/>
        </p:nvSpPr>
        <p:spPr>
          <a:xfrm>
            <a:off x="3132000" y="414972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3276720" y="1484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7524720" y="765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0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1720800" cy="2020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1" descr=""/>
          <p:cNvPicPr/>
          <p:nvPr/>
        </p:nvPicPr>
        <p:blipFill>
          <a:blip r:embed="rId3"/>
          <a:stretch/>
        </p:blipFill>
        <p:spPr>
          <a:xfrm>
            <a:off x="209520" y="4643280"/>
            <a:ext cx="1933560" cy="1933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2" descr=""/>
          <p:cNvPicPr/>
          <p:nvPr/>
        </p:nvPicPr>
        <p:blipFill>
          <a:blip r:embed="rId4"/>
          <a:stretch/>
        </p:blipFill>
        <p:spPr>
          <a:xfrm>
            <a:off x="2630520" y="2071800"/>
            <a:ext cx="2155680" cy="2019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3" descr=""/>
          <p:cNvPicPr/>
          <p:nvPr/>
        </p:nvPicPr>
        <p:blipFill>
          <a:blip r:embed="rId5"/>
          <a:stretch/>
        </p:blipFill>
        <p:spPr>
          <a:xfrm>
            <a:off x="2670120" y="4643280"/>
            <a:ext cx="1758960" cy="207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4" descr=""/>
          <p:cNvPicPr/>
          <p:nvPr/>
        </p:nvPicPr>
        <p:blipFill>
          <a:blip r:embed="rId6"/>
          <a:stretch/>
        </p:blipFill>
        <p:spPr>
          <a:xfrm>
            <a:off x="6500880" y="2071800"/>
            <a:ext cx="2395440" cy="2117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5" descr=""/>
          <p:cNvPicPr/>
          <p:nvPr/>
        </p:nvPicPr>
        <p:blipFill>
          <a:blip r:embed="rId7"/>
          <a:stretch/>
        </p:blipFill>
        <p:spPr>
          <a:xfrm>
            <a:off x="4765680" y="4643280"/>
            <a:ext cx="2579760" cy="20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1042920" y="2602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В результате исследования полученных графиков были выявлены следующие закономер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079640" y="1052640"/>
            <a:ext cx="698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1. График функции       у = |f (х) | =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асположен только в верхней полуплоск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2. Часть графика у = f (х),  лежащая ниже оси Ох, отражена симметрично оси О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9"/>
              <p:cNvSpPr txBox="1"/>
              <p:nvPr/>
            </p:nvSpPr>
            <p:spPr>
              <a:xfrm>
                <a:off x="4572000" y="907920"/>
                <a:ext cx="2664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Text Box 15"/>
          <p:cNvSpPr/>
          <p:nvPr/>
        </p:nvSpPr>
        <p:spPr>
          <a:xfrm>
            <a:off x="1060560" y="2708280"/>
            <a:ext cx="7164360" cy="35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Алгорит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строить  график  функции  у = f (х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Часть графика, для которой значения положительны, оставить     без  изме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Часть графика, для которой значения функции отрицательны,   зеркально отобразить в верхнюю полуплос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ПРАВИЛО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Для построения графика функции  у=|f(х)|  для всех х из области определения, надо ту часть графика функции     у = f(х), которая расположена ниже оси абсцисс ( f ( х ) &lt; 0 ), отразить симметрично этой о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336240" y="259920"/>
            <a:ext cx="847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1e2a"/>
                </a:solidFill>
                <a:latin typeface="Arial"/>
              </a:rPr>
              <a:t>Построение графика функции   у = f( | х |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ля того чтобы вывести алгоритм построения графика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y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=  f (| x |)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построим   графики  функций 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у =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|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| +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|,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y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= |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 |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| -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   +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|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y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=  |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/ (|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|-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  +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|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используя определение моду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78080" y="17740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у = 2|х| -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813440" y="763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468360" y="3664440"/>
            <a:ext cx="16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у = - 2| х | + 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2713680" y="170100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у = х  - 2|х| - 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3147480" y="415044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 = -  х  + 2|х| + 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3781080" y="4076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3144960" y="1643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5437800" y="2134080"/>
            <a:ext cx="4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9"/>
              <p:cNvSpPr txBox="1"/>
              <p:nvPr/>
            </p:nvSpPr>
            <p:spPr>
              <a:xfrm>
                <a:off x="5724360" y="1995480"/>
                <a:ext cx="7765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Rectangle 21"/>
          <p:cNvSpPr/>
          <p:nvPr/>
        </p:nvSpPr>
        <p:spPr>
          <a:xfrm>
            <a:off x="4268160" y="36518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5508720" y="4618440"/>
            <a:ext cx="43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3"/>
              <p:cNvSpPr txBox="1"/>
              <p:nvPr/>
            </p:nvSpPr>
            <p:spPr>
              <a:xfrm>
                <a:off x="5867280" y="4653000"/>
                <a:ext cx="792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Rectangle 25"/>
          <p:cNvSpPr/>
          <p:nvPr/>
        </p:nvSpPr>
        <p:spPr>
          <a:xfrm>
            <a:off x="4267440" y="3651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6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1941480" cy="1714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7" descr=""/>
          <p:cNvPicPr/>
          <p:nvPr/>
        </p:nvPicPr>
        <p:blipFill>
          <a:blip r:embed="rId3"/>
          <a:srcRect l="2920" t="0" r="2030" b="0"/>
          <a:stretch/>
        </p:blipFill>
        <p:spPr>
          <a:xfrm>
            <a:off x="468360" y="4508640"/>
            <a:ext cx="2374920" cy="1806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8" descr=""/>
          <p:cNvPicPr/>
          <p:nvPr/>
        </p:nvPicPr>
        <p:blipFill>
          <a:blip r:embed="rId4"/>
          <a:stretch/>
        </p:blipFill>
        <p:spPr>
          <a:xfrm>
            <a:off x="3132000" y="2133720"/>
            <a:ext cx="2089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9" descr=""/>
          <p:cNvPicPr/>
          <p:nvPr/>
        </p:nvPicPr>
        <p:blipFill>
          <a:blip r:embed="rId5"/>
          <a:srcRect l="0" t="0" r="0" b="3654"/>
          <a:stretch/>
        </p:blipFill>
        <p:spPr>
          <a:xfrm>
            <a:off x="3276720" y="4508640"/>
            <a:ext cx="2117520" cy="180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0" descr=""/>
          <p:cNvPicPr/>
          <p:nvPr/>
        </p:nvPicPr>
        <p:blipFill>
          <a:blip r:embed="rId6"/>
          <a:srcRect l="8756" t="5614" r="3607" b="4814"/>
          <a:stretch/>
        </p:blipFill>
        <p:spPr>
          <a:xfrm>
            <a:off x="6732720" y="1773360"/>
            <a:ext cx="2160360" cy="2303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1" descr=""/>
          <p:cNvPicPr/>
          <p:nvPr/>
        </p:nvPicPr>
        <p:blipFill>
          <a:blip r:embed="rId7"/>
          <a:srcRect l="6242" t="0" r="0" b="1762"/>
          <a:stretch/>
        </p:blipFill>
        <p:spPr>
          <a:xfrm>
            <a:off x="6732720" y="4508640"/>
            <a:ext cx="21715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900000" y="262800"/>
            <a:ext cx="7885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Изучив полученные графики, выявили следующую закономерно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график функции у = f( |х| ) состоит из двух графиков: графика фун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у = f(х) в правой полуплоскости и графика у = f(-х) в левой полуплоскости относительно прямой Оу. Значит, функция четная, график симметричен относительно прямой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971640" y="2133720"/>
            <a:ext cx="734364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Алгоритм</a:t>
            </a:r>
            <a:r>
              <a:rPr b="0" lang="ru-RU" sz="1800" spc="-1" strike="noStrike">
                <a:solidFill>
                  <a:srgbClr val="c81e2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81e2a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строить  график  функции  у = f (х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Часть графика для всех х ≥ 0 из области определения оставить   без  изменения;  часть графика, расположенную в левой полуплоскости отброс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Часть графика, лежащую в правой полуплоскости относительно Оу, отразить симметрично относительно оси ордин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006560" y="429264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ПРАВИЛО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Для построения графика функции у = f(|х|) достаточно построить график функции у= f(х) для всех  х ≥ 0 из области определения и отразить полученную часть симметрично оси ордин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719280" y="62028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остроим   графики  зависимостей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|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у| =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kx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+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b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,    |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y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|=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a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x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m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)</a:t>
            </a:r>
            <a:r>
              <a:rPr b="1" i="1" lang="ru-RU" sz="18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+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,    |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y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|=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/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x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-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m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)  +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.   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Учитывая, что в формуле |у| = f(х)           f(х) ≥ 0 и на основании определения модуля получим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425960" y="189000"/>
            <a:ext cx="68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1e2a"/>
                </a:solidFill>
                <a:latin typeface="Arial"/>
              </a:rPr>
              <a:t>Построение графика  зависимости вида | y | =  f (x) </a:t>
            </a:r>
            <a:r>
              <a:rPr b="1" i="1" lang="en-US" sz="1800" spc="-1" strike="noStrike">
                <a:solidFill>
                  <a:srgbClr val="c81e2a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c81e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0"/>
              <p:cNvSpPr txBox="1"/>
              <p:nvPr/>
            </p:nvSpPr>
            <p:spPr>
              <a:xfrm>
                <a:off x="4859280" y="1341360"/>
                <a:ext cx="1944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у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  <m:r>
                              <m:t xml:space="preserve"> </m:t>
                            </m:r>
                            <m:r>
                              <m:t xml:space="preserve">у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Rectangle 12"/>
          <p:cNvSpPr/>
          <p:nvPr/>
        </p:nvSpPr>
        <p:spPr>
          <a:xfrm flipV="1" rot="10800000">
            <a:off x="6986160" y="141156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.е.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±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615960" y="17726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 у | = 2х – 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3203640" y="17852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|у| = -2х+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302240" y="184392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│ = х – 2х -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7957440" y="170028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6804000" y="436536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│ = - х   +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395280" y="43279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│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4"/>
              <p:cNvSpPr txBox="1"/>
              <p:nvPr/>
            </p:nvSpPr>
            <p:spPr>
              <a:xfrm>
                <a:off x="1042920" y="4221000"/>
                <a:ext cx="7207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Rectangle 26"/>
          <p:cNvSpPr/>
          <p:nvPr/>
        </p:nvSpPr>
        <p:spPr>
          <a:xfrm>
            <a:off x="4260240" y="36230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8"/>
          <p:cNvSpPr/>
          <p:nvPr/>
        </p:nvSpPr>
        <p:spPr>
          <a:xfrm>
            <a:off x="4140360" y="1484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│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3276720" y="43516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│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9"/>
              <p:cNvSpPr txBox="1"/>
              <p:nvPr/>
            </p:nvSpPr>
            <p:spPr>
              <a:xfrm>
                <a:off x="3851280" y="4292640"/>
                <a:ext cx="1152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31"/>
          <p:cNvSpPr/>
          <p:nvPr/>
        </p:nvSpPr>
        <p:spPr>
          <a:xfrm>
            <a:off x="4234320" y="3623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7667640" y="4221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5" descr=""/>
          <p:cNvPicPr/>
          <p:nvPr/>
        </p:nvPicPr>
        <p:blipFill>
          <a:blip r:embed="rId2"/>
          <a:stretch/>
        </p:blipFill>
        <p:spPr>
          <a:xfrm>
            <a:off x="500040" y="2214720"/>
            <a:ext cx="1798560" cy="1928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6" descr=""/>
          <p:cNvPicPr/>
          <p:nvPr/>
        </p:nvPicPr>
        <p:blipFill>
          <a:blip r:embed="rId3"/>
          <a:stretch/>
        </p:blipFill>
        <p:spPr>
          <a:xfrm>
            <a:off x="3492360" y="2205000"/>
            <a:ext cx="1597320" cy="1944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7" descr=""/>
          <p:cNvPicPr/>
          <p:nvPr/>
        </p:nvPicPr>
        <p:blipFill>
          <a:blip r:embed="rId4"/>
          <a:stretch/>
        </p:blipFill>
        <p:spPr>
          <a:xfrm>
            <a:off x="6659640" y="2214720"/>
            <a:ext cx="2117520" cy="20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8" descr=""/>
          <p:cNvPicPr/>
          <p:nvPr/>
        </p:nvPicPr>
        <p:blipFill>
          <a:blip r:embed="rId5"/>
          <a:stretch/>
        </p:blipFill>
        <p:spPr>
          <a:xfrm>
            <a:off x="6732720" y="4724280"/>
            <a:ext cx="1971720" cy="1936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9" descr=""/>
          <p:cNvPicPr/>
          <p:nvPr/>
        </p:nvPicPr>
        <p:blipFill>
          <a:blip r:embed="rId6"/>
          <a:stretch/>
        </p:blipFill>
        <p:spPr>
          <a:xfrm>
            <a:off x="468360" y="4724280"/>
            <a:ext cx="2030400" cy="2000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0" descr=""/>
          <p:cNvPicPr/>
          <p:nvPr/>
        </p:nvPicPr>
        <p:blipFill>
          <a:blip r:embed="rId7"/>
          <a:stretch/>
        </p:blipFill>
        <p:spPr>
          <a:xfrm>
            <a:off x="3276720" y="4724280"/>
            <a:ext cx="2095560" cy="2000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611280" y="620640"/>
            <a:ext cx="8029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Изучив полученные графики, выявили следующую закономерно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график зависимости │у│ = f(х ) состоит из графиков двух функций: графика функции у = f(х)  и графика у = - f(х), где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(х) ≥ 0; график симметричен относительно прямой   О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Алгорит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строить  график  функции  у = f (х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Часть графика для всех х  из области определения, лежащую выше оси Ох оставить без  изменения;  часть графика, расположенную ниже оси Ох отброс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Часть графика, лежащую выше оси Ох, отразить симметрично относительно оси абсцис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i="1" lang="ru-RU" sz="1800" spc="-1" strike="noStrike">
                <a:solidFill>
                  <a:srgbClr val="c81e2a"/>
                </a:solidFill>
                <a:latin typeface="Arial"/>
              </a:rPr>
              <a:t>ПРАВИЛО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ля построения графика зависимости │у│=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(х) достаточно построить график функции у=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(х) для тех х из области определения, при которых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f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(х)≥0, и отразить полученную часть графика симметрично оси абсци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5:57:40Z</dcterms:created>
  <dc:creator>паша </dc:creator>
  <dc:description/>
  <dc:language>en-US</dc:language>
  <cp:lastModifiedBy>User</cp:lastModifiedBy>
  <dcterms:modified xsi:type="dcterms:W3CDTF">2011-01-29T22:32:57Z</dcterms:modified>
  <cp:revision>21</cp:revision>
  <dc:subject/>
  <dc:title>Слайд 1</dc:title>
</cp:coreProperties>
</file>