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821-9CD4-41D4-A7F5-BEC3E55F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1BB-893D-48CB-BDA7-72ECF228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04D-6102-48CB-BDF8-D20EDE32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99E-A959-45C6-9AA3-C3574852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8DB8-A82E-4785-A21C-254B1538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16AE-0E01-4D90-8011-0DACF418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8B04-6E21-4A40-A031-4207FE9E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0324-A803-4814-B51E-9221D2D1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8746-4C3E-4CBF-B3C2-18E49C5C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66A0-DB47-466D-AD34-B1BEFE01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26F8-90D3-4E9E-B757-E202002A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D1B-E958-4A6A-812A-27FF6C30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471C-B459-4107-BEE1-D50E1E96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0E0A-F764-4AF0-B9F8-028EFD2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2199-A277-46F8-BBB0-0870574D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0301-B39F-455B-AC5B-2119C243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1191-0316-4DD4-B036-62FD3391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095-6EC9-42AC-AA73-4DD0E59D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F96-E539-4115-8A50-7600A6BC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4E9-8DFD-413D-B41B-806FA512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06D-74E3-46BB-AC24-1AEAFFD0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433-03EF-4DAB-8CA2-ED2D12AE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586-63B4-493A-88AE-DDA932B2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F84-1F8C-4F20-BD4D-17B9745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F651-4554-4958-B1D6-431D29FFDA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8F2C-FB40-452A-8957-8EEFAAA165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Экологическое состояние пришкольного участк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Автор работы:КОТЛЯРОВ Александр Юрьевич, 7А МОУ СОШ №53              Руководитель:ПОПОВА Татьяна Константиновна, учитель биологии МОУ СОШ №53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                                       г. Комсомольск-на-Амур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                                                           2010-2011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Содержимое 7" descr="i-1.jpg"/>
          <p:cNvPicPr/>
          <p:nvPr/>
        </p:nvPicPr>
        <p:blipFill>
          <a:blip r:embed="rId1"/>
          <a:stretch/>
        </p:blipFill>
        <p:spPr>
          <a:xfrm>
            <a:off x="2593800" y="2476440"/>
            <a:ext cx="4496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049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н земельного участка школ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F:\1-2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ывод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;</a:t>
            </a: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 я познакомился с определёнными требованиями к созданию пришкольного участка, степень озеленение участка удовлетворительная , экологическое состояния территории благоприятное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1.провести полную инвентаризацию деревьев и кустарников.                                  2.определить степень повреждения деревьев каждого вида.                               3.провести санитарную обрезку деревьев и кустарников.                                               4.произвести подсадку кустарников.                  5.обеспечить правильный уход за деревьями и кустарни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b7"/>
                </a:solidFill>
                <a:latin typeface="Arial Black"/>
              </a:rPr>
              <a:t>школы №53</a:t>
            </a:r>
            <a:endParaRPr b="1" lang="en-US" sz="2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Цель работы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ffffb7"/>
                </a:solidFill>
                <a:latin typeface="Arial"/>
              </a:rPr>
              <a:t>изучить экологического состояние пришкольного участка.                                                                                 Задачи.1.Изучить размещения древесно-кустарниковых пород на территории пришкольного участка.                                                                 2.Выявить степень озеленения пришкольного участка.                                                            3.Высчитать количество оседающей пыли на зелёных насаждениях пришкольного участка за весенне-летний период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 исследования: пришкольный учас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мет исследования: экологическое состояние участка                                                                    Гипотез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 считаю, что экологическое состояние пришкольного участка соответствует нормам.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990720" y="380880"/>
            <a:ext cx="7543800" cy="819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5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ое состояние пришкольного участка</a:t>
            </a:r>
            <a:endParaRPr b="1" lang="en-US" sz="315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b7"/>
                </a:solidFill>
                <a:latin typeface="Arial Black"/>
              </a:rPr>
              <a:t>При изучении литературы по данному вопросу ,я выяснил, что существует специальные нормы, правила озеленение и создание построек. Для изоляции пришкольного участка необходимо создать на его границе плотные 2-3 рядные полосы из деревьев и кустарников. У здания школы имеется один ряд , состоящий из тополя и ряда –ильма . Деревья очень высокие, видимо были посажены во время сдачи школы. С одной стороны, они хорошо изолируют звук, но при этом сильно затемняют классные комнаты. Ширина защитных древесно-кустарниковых насаждений принимается со стороны улицы 4,5м. Данные показатели соответствуют нормам. Размещение древесно-кустарниковых пород на территории школы имеет свои особенности. Небольшие деревья и высокие кустарники во избежание затемнения нужно высаживать  не ближе 5м от здания школы, а деревья первой величины - не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ближе 10м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966000"/>
        </p:xfrm>
        <a:graphic>
          <a:graphicData uri="http://schemas.openxmlformats.org/drawingml/2006/table">
            <a:tbl>
              <a:tblPr/>
              <a:tblGrid>
                <a:gridCol w="533520"/>
                <a:gridCol w="6933960"/>
                <a:gridCol w="1676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логическое состояние пришкольного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стка.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показа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оложение школы в микрорайоне.    Промышленных предприятий и жилых домов.                                                           1.Бытового обслуживания стоят от границы на расстояние не менее 50м.                                     2.Жилые дома- не менее чем на 10 м.                3.Автострада- 25 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ы                           1             1              1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пришкольного участка соответствует нормам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 га для школ 192-320уч-ся.                  Расположение зелёных насаждений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Площадь кроны деревьев, кустарников и газонов на территории школы составляет не менее 50кв,м на 1уч-ся.                                       Есть защитная полоса из деревьев, кустарников на границе участка шириной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1. со стороны улицы не менее 6 м.2.по периметру не менее 1,5м.3.расстояние между кустарниками и зданием школы не менее 5м.4.расстояниемеждудеревьямине менее 8-10м.5.в пересчёте на 1га количество деревьев состовляет90-150.        Итог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8 баллов означает, что экологическое состояние пришкольного участка благоприятн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               1                    1                         1                                              1             8 бал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24382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число деревьев и кустар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газон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уч-ся в школ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 зелёных насаждений на1 учени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нные всемирной организации здравоохранения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86 кв.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 кв.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62"/>
          <p:cNvSpPr/>
          <p:nvPr/>
        </p:nvSpPr>
        <p:spPr>
          <a:xfrm>
            <a:off x="0" y="32767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63"/>
          <p:cNvSpPr/>
          <p:nvPr/>
        </p:nvSpPr>
        <p:spPr>
          <a:xfrm>
            <a:off x="288360" y="2590920"/>
            <a:ext cx="56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во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ь озеленения участка удовлетворительн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4"/>
          <p:cNvSpPr/>
          <p:nvPr/>
        </p:nvSpPr>
        <p:spPr>
          <a:xfrm>
            <a:off x="2159280" y="480060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саждений на1 учен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5" descr="CIMG0107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копировка плана пришкольной  террито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ерритори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F:\1-1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3843360"/>
          <a:ext cx="9144000" cy="3017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628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еревье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пыл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деревье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кол-во пыл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Иль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94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Клё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9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Топо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28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351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Picture 46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аспортизация зеленых насаждений пришкольного участк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523880"/>
          <a:ext cx="8159760" cy="4953240"/>
        </p:xfrm>
        <a:graphic>
          <a:graphicData uri="http://schemas.openxmlformats.org/drawingml/2006/table">
            <a:tbl>
              <a:tblPr/>
              <a:tblGrid>
                <a:gridCol w="831960"/>
                <a:gridCol w="2341440"/>
                <a:gridCol w="2190600"/>
                <a:gridCol w="2795760"/>
              </a:tblGrid>
              <a:tr h="48276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оя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п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рё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яб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ё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рёмух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бло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8920" marR="889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219320"/>
                <a:gridCol w="3809880"/>
                <a:gridCol w="1371600"/>
                <a:gridCol w="2743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овой соста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оя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ль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довлетвор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иди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пов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ябинолист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0:47:41Z</dcterms:created>
  <dc:creator>User</dc:creator>
  <dc:description/>
  <dc:language>en-US</dc:language>
  <cp:lastModifiedBy>NEW</cp:lastModifiedBy>
  <dcterms:modified xsi:type="dcterms:W3CDTF">2011-01-27T12:15:2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