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0737-DBE7-4E9F-84F8-28E3677AE9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3576-FA23-4460-82E9-CCF510E45F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6F6-14DB-4B4E-B5E2-02C613EE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104-7E1B-4EDA-8244-058281D5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2E4-628B-4443-AFC5-7A8911FA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BD7-74C4-460A-9C09-EC5AFF06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D4CD-09F3-4C87-B119-836F7311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4791-B823-4FD8-9BCF-ADD7D80C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261A-BFB4-4DA1-9C67-8E342400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226-9FE0-4AAE-A519-BD17DE02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7C52-04C9-4153-91CB-497FA4AC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E95C-EABE-4515-9FE4-0D6D8131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8AE5-3335-4E99-BBE8-D6AB9490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581-9A5F-463F-9F95-44DEB26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CEC1-2C62-427C-A287-CDE058C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28C6-82C2-444A-A6F3-0B4D6DE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944-6FE9-4179-8F4D-FAF91838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5645-6EE6-4AA8-ADDA-DD2E6C4A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E02A-B4F3-437B-954F-88BC9479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5C7-8968-4780-B87A-68D823A5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DA1-9712-4189-B74B-6DC62C4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63D-2F68-4294-AFA1-EDD4C5E9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AA8-C815-4FEF-8776-5586BE87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9AB-6D2C-4322-9274-A9E6584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23C-43DB-4CD6-B832-EF031CD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6F8-E4E8-4AAF-AF6C-1C4D6E4E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C4A-85BE-4808-90D3-FD25A7BACB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BCDB-DDF7-4FDD-9F62-AFBDC3928A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429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Arial Black"/>
              </a:rPr>
              <a:t>           </a:t>
            </a:r>
            <a:r>
              <a:rPr b="1" lang="ru-RU" sz="5400" spc="-1" strike="noStrike">
                <a:solidFill>
                  <a:srgbClr val="eeece1"/>
                </a:solidFill>
                <a:latin typeface="Arial Black"/>
              </a:rPr>
              <a:t>тема:</a:t>
            </a:r>
            <a:endParaRPr b="1" lang="en-US" sz="5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2285640"/>
            <a:ext cx="7510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учение взаимного  влияния растений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 Black"/>
              </a:rPr>
              <a:t>Влияние колинов различных растений на развитие проростков культурных              </a:t>
            </a:r>
            <a:br>
              <a:rPr sz="2800"/>
            </a:br>
            <a:r>
              <a:rPr b="1" lang="ru-RU" sz="2800" spc="-1" strike="noStrike">
                <a:solidFill>
                  <a:srgbClr val="eeece1"/>
                </a:solidFill>
                <a:latin typeface="Arial Black"/>
              </a:rPr>
              <a:t>                       растений.</a:t>
            </a:r>
            <a:br>
              <a:rPr sz="2800"/>
            </a:br>
            <a:endParaRPr b="1" lang="en-US" sz="2800" spc="-1" strike="noStrike">
              <a:solidFill>
                <a:srgbClr val="eeece1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85840" y="1214280"/>
          <a:ext cx="8715240" cy="5621400"/>
        </p:xfrm>
        <a:graphic>
          <a:graphicData uri="http://schemas.openxmlformats.org/drawingml/2006/table">
            <a:tbl>
              <a:tblPr/>
              <a:tblGrid>
                <a:gridCol w="871560"/>
                <a:gridCol w="900000"/>
                <a:gridCol w="517680"/>
                <a:gridCol w="517320"/>
                <a:gridCol w="517680"/>
                <a:gridCol w="517320"/>
                <a:gridCol w="517680"/>
                <a:gridCol w="517320"/>
                <a:gridCol w="517680"/>
                <a:gridCol w="517680"/>
                <a:gridCol w="517320"/>
                <a:gridCol w="642960"/>
                <a:gridCol w="500040"/>
                <a:gridCol w="530280"/>
                <a:gridCol w="61272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507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аст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507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Величина проростков (с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07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овторнос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507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акцеп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дон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рирост  за         недел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вод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рир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гур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абр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3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.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гур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ного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.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68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д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абр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8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д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м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горо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м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ВЫВОДЫ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455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НЫ РАЗНЫХ РАСТЕНИЙ ПО РАЗНОМУ ВЛИЯЮТ НА РАСТ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НЫ ЧАБРЕЦА ОКАЗЫВАЮТ ИНГИБИРУЮЩЕЕ ДЕЙСТВИЕ НА РАЗНЫЕ РАСТ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НЫ РОМАШКИ ОКАЗЫВАЮТ СТИМУЛИРУЮЩЕЕ ДЕЙСТВИЕ НА ПРОРОСТКИ ОВОЩНЫХ КУЛЬТУ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АКТУАЛЬНОСТЬ РАБОТЫ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РАЗРАБОТКИ РЕКОМЕНДАЦИЙ УЧЕБНО – ПРОИЗВОДСТВЕННОЙ БРИГАДЕ ПО ВЫРАЩИВАНИЮ СЕЛЬСКО – ХОЗЯЙСТВЕННЫХ РАСТЕНИЙ И ВЛИЯНИЮ НА НИХ ФИЗИОЛОГИЧЕСКИ АКТИВНЫХ ВЕЩЕСТВ ( ФА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Гипотеза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Физиологически  активные вещества оказывают влияние на рост и развитие культурных  растений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Цель работы: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зучить влияние физиологически активных веществ ( колинов)  на прорастание и развитие семян и проростков овощных  культу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ЗАДАЧИ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424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РАТЬ  РАСТЕНИЯ-ДОНОРЫ И ПОЛУЧИТЬ ИЗ НИХ ВЫТЯЖКИ КОЛИНОВ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СТИЬ ПРОРОСТКИ РАЗЛИЧНЫХ ОВОЩНЫХ РАСТЕНИ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ВЛИЯНИЕ ФАВ НА РАЗВИТИЕ ПРОРОСТ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eeece1"/>
                </a:solidFill>
                <a:latin typeface="Arial Black"/>
              </a:rPr>
              <a:t>Способы приготовления колинов.</a:t>
            </a:r>
            <a:endParaRPr b="1" lang="en-US" sz="2800" spc="-1" strike="noStrike">
              <a:solidFill>
                <a:srgbClr val="eeece1"/>
              </a:solidFill>
              <a:latin typeface="Arial Black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357120" y="1357200"/>
            <a:ext cx="8501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.Настоять в воде при комнатной температуре в течение 24 часов исходных материал растений-доноров(2) в следующих соотношениях: семена или плоды-1:10,сухие листья, стебли, цветки, солома, -1:30, свежие листья, плоды, цветки-1:10. Процед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.Взять навеску в 2-4 г. соответствующих растений-доноров, залить 200 мл кипятка, настоять 15 мин, процед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3.Получить смыв. Для этого 50 г целых неповрежденных листьев залить небольшим количеством воды, через 30 мин воду слить и использовать для закладки опы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Проростки огурцов  </a:t>
            </a:r>
            <a:br>
              <a:rPr sz="4400"/>
            </a:b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        (контроль)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pic>
        <p:nvPicPr>
          <p:cNvPr id="118" name="Содержимое 3" descr="P1000569.JPG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Действие календулы на        </a:t>
            </a:r>
            <a:br>
              <a:rPr sz="4400"/>
            </a:b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проростки огурцов. 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pic>
        <p:nvPicPr>
          <p:cNvPr id="120" name="Содержимое 3" descr="P1000571.JPG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P1000568(1).JPG"/>
          <p:cNvPicPr/>
          <p:nvPr/>
        </p:nvPicPr>
        <p:blipFill>
          <a:blip r:embed="rId2"/>
          <a:stretch/>
        </p:blipFill>
        <p:spPr>
          <a:xfrm>
            <a:off x="19288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Действие чабреца </a:t>
            </a:r>
            <a:br>
              <a:rPr sz="4400"/>
            </a:br>
            <a:r>
              <a:rPr b="1" lang="ru-RU" sz="4400" spc="-1" strike="noStrike">
                <a:solidFill>
                  <a:srgbClr val="eeece1"/>
                </a:solidFill>
                <a:latin typeface="Arial Black"/>
              </a:rPr>
              <a:t>   на    проростки огурцов</a:t>
            </a:r>
            <a:endParaRPr b="1" lang="en-US" sz="4400" spc="-1" strike="noStrike">
              <a:solidFill>
                <a:srgbClr val="eeece1"/>
              </a:solidFill>
              <a:latin typeface="Arial Black"/>
            </a:endParaRPr>
          </a:p>
        </p:txBody>
      </p:sp>
      <p:pic>
        <p:nvPicPr>
          <p:cNvPr id="123" name="Содержимое 3" descr="P1000568(1).JPG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10:22Z</dcterms:created>
  <dc:creator>User</dc:creator>
  <dc:description/>
  <dc:language>en-US</dc:language>
  <cp:lastModifiedBy>User</cp:lastModifiedBy>
  <dcterms:modified xsi:type="dcterms:W3CDTF">2010-03-20T13:11:31Z</dcterms:modified>
  <cp:revision>20</cp:revision>
  <dc:subject/>
  <dc:title>ВЗАИМНОЕ  ВЛИЯНИЕ РАСТЕНИЙ</dc:title>
</cp:coreProperties>
</file>