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D3B-9621-49C6-942D-FE56BE66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398-FFEB-4C28-BF40-B5132150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4EF-462C-4430-B37E-E6AC8F61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34A-1146-4793-A460-4C72756F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81DF-4D9A-4DBF-8BC6-39E3C7B1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D228-536A-4DFE-9D20-E53BB14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F093-1044-4498-B825-CA8DAA8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F099-61DD-4613-9D27-9842C317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5895-5DFD-44B5-87B9-257D4FF4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B462-095C-4CF4-AA91-8012C1D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E10E-4595-456B-A490-FF838C7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150-3678-47D5-B943-D0439B71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6AB9-2C63-43EB-A8E8-1EC2064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E23B-A4D0-42B7-82F0-93C13F63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7290-84FC-4609-8FA8-E167572C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D6D0-132B-4200-BEC3-DE67614A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ED42-AFD8-4107-A08A-301FF32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505-7ADF-4B31-8F99-5F46896A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40D-73C5-4218-BA80-7900EA86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42C-A6DA-4B1A-B470-1D349D8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CE4-2473-4F76-A3B4-43B0808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5C1-A9AB-436A-9C87-EC30C38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E64-9F8A-4C05-8548-DB0D2C1A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C62-A15B-4607-AF36-ADBE8D6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216-953B-46D7-A9CF-9AC4A3035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CC90-FB4B-4F3F-BFF8-E835AE3B9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d/d5/Kompass.sv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042920" y="1341360"/>
            <a:ext cx="7054920" cy="450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инстве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341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Задачи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71640" y="227664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учение литературы с целью получения информации о числе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нализ литературных источнико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сследование оперативной памяти учащихся МОУ СОШ №2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89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  </a:t>
            </a: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Цель: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выяснить, почему числу 7 придаётся мистическое, сверхъестественное, таинственное значение.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9280" y="1413000"/>
            <a:ext cx="5184720" cy="324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3 + 4 = 7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1" name="" descr="Файл:Kompass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997360"/>
            <a:ext cx="411480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7-ми дневная неделя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3" name="Picture 3" descr="d964a0149819f4c1442b09575875e7ac"/>
          <p:cNvPicPr/>
          <p:nvPr/>
        </p:nvPicPr>
        <p:blipFill>
          <a:blip r:embed="rId1"/>
          <a:srcRect l="46403" t="0" r="0" b="32406"/>
          <a:stretch/>
        </p:blipFill>
        <p:spPr>
          <a:xfrm>
            <a:off x="3276720" y="1916280"/>
            <a:ext cx="2770200" cy="280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ars-m"/>
          <p:cNvPicPr/>
          <p:nvPr/>
        </p:nvPicPr>
        <p:blipFill>
          <a:blip r:embed="rId2"/>
          <a:stretch/>
        </p:blipFill>
        <p:spPr>
          <a:xfrm>
            <a:off x="0" y="260280"/>
            <a:ext cx="2519280" cy="2160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7bd1a1a3acae31d4db03c294868fa91"/>
          <p:cNvPicPr/>
          <p:nvPr/>
        </p:nvPicPr>
        <p:blipFill>
          <a:blip r:embed="rId3"/>
          <a:srcRect l="20001" t="11603" r="18799" b="13198"/>
          <a:stretch/>
        </p:blipFill>
        <p:spPr>
          <a:xfrm>
            <a:off x="6696000" y="4869000"/>
            <a:ext cx="244800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солнце"/>
          <p:cNvPicPr/>
          <p:nvPr/>
        </p:nvPicPr>
        <p:blipFill>
          <a:blip r:embed="rId4"/>
          <a:stretch/>
        </p:blipFill>
        <p:spPr>
          <a:xfrm>
            <a:off x="0" y="2492280"/>
            <a:ext cx="2602080" cy="19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Venus-m"/>
          <p:cNvPicPr/>
          <p:nvPr/>
        </p:nvPicPr>
        <p:blipFill>
          <a:blip r:embed="rId5"/>
          <a:stretch/>
        </p:blipFill>
        <p:spPr>
          <a:xfrm>
            <a:off x="6588000" y="2349360"/>
            <a:ext cx="2248200" cy="2248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170873609_21"/>
          <p:cNvPicPr/>
          <p:nvPr/>
        </p:nvPicPr>
        <p:blipFill>
          <a:blip r:embed="rId6"/>
          <a:srcRect l="5714" t="17783" r="2853" b="13655"/>
          <a:stretch/>
        </p:blipFill>
        <p:spPr>
          <a:xfrm>
            <a:off x="-181080" y="4437000"/>
            <a:ext cx="3657600" cy="242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Upiter-m"/>
          <p:cNvPicPr/>
          <p:nvPr/>
        </p:nvPicPr>
        <p:blipFill>
          <a:blip r:embed="rId7"/>
          <a:stretch/>
        </p:blipFill>
        <p:spPr>
          <a:xfrm>
            <a:off x="3780000" y="49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1052640"/>
            <a:ext cx="17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рс- вто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69120" y="5445000"/>
            <a:ext cx="18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ркурий-ср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3141720"/>
            <a:ext cx="19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нера- пятн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6"/>
          <p:cNvSpPr/>
          <p:nvPr/>
        </p:nvSpPr>
        <p:spPr>
          <a:xfrm>
            <a:off x="4140360" y="566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Юпитер-четве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292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уна- понеде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72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атурн- суб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6520" y="32130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лнце-воскрес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44280" y="2707920"/>
            <a:ext cx="3483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 Narrow"/>
              </a:rPr>
              <a:t>7 чудес</a:t>
            </a:r>
            <a:br>
              <a:rPr sz="4000"/>
            </a:br>
            <a:r>
              <a:rPr b="1" lang="en-US" sz="4000" spc="-1" strike="noStrike">
                <a:solidFill>
                  <a:srgbClr val="3399ff"/>
                </a:solidFill>
                <a:latin typeface="Arial Narrow"/>
              </a:rPr>
              <a:t> света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Picture 3" descr="сады Семирамиды"/>
          <p:cNvPicPr/>
          <p:nvPr/>
        </p:nvPicPr>
        <p:blipFill>
          <a:blip r:embed="rId1"/>
          <a:stretch/>
        </p:blipFill>
        <p:spPr>
          <a:xfrm>
            <a:off x="0" y="260280"/>
            <a:ext cx="2951280" cy="2395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26028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исячие сады Семира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храм Артемиды или Дианы"/>
          <p:cNvPicPr/>
          <p:nvPr/>
        </p:nvPicPr>
        <p:blipFill>
          <a:blip r:embed="rId2"/>
          <a:stretch/>
        </p:blipFill>
        <p:spPr>
          <a:xfrm>
            <a:off x="3635280" y="333360"/>
            <a:ext cx="2446560" cy="244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26520" y="54936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рам Арте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pyramids"/>
          <p:cNvPicPr/>
          <p:nvPr/>
        </p:nvPicPr>
        <p:blipFill>
          <a:blip r:embed="rId3"/>
          <a:stretch/>
        </p:blipFill>
        <p:spPr>
          <a:xfrm>
            <a:off x="5219640" y="4952880"/>
            <a:ext cx="3097440" cy="1905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51640" y="515772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египетские пирами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маяк на острове Фаросе"/>
          <p:cNvPicPr/>
          <p:nvPr/>
        </p:nvPicPr>
        <p:blipFill>
          <a:blip r:embed="rId4"/>
          <a:srcRect l="4173" t="0" r="12500" b="0"/>
          <a:stretch/>
        </p:blipFill>
        <p:spPr>
          <a:xfrm>
            <a:off x="6516720" y="228600"/>
            <a:ext cx="262728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34080" y="260280"/>
            <a:ext cx="25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як на острове Фар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7" descr="Статуя Зевса"/>
          <p:cNvPicPr/>
          <p:nvPr/>
        </p:nvPicPr>
        <p:blipFill>
          <a:blip r:embed="rId5"/>
          <a:stretch/>
        </p:blipFill>
        <p:spPr>
          <a:xfrm>
            <a:off x="179280" y="2708280"/>
            <a:ext cx="24764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342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импи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атуя Зевс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2 коллосс Родосс"/>
          <p:cNvPicPr/>
          <p:nvPr/>
        </p:nvPicPr>
        <p:blipFill>
          <a:blip r:embed="rId6"/>
          <a:stretch/>
        </p:blipFill>
        <p:spPr>
          <a:xfrm>
            <a:off x="6372360" y="2852640"/>
            <a:ext cx="2771640" cy="216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236000" y="3573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зовая статуя, бога Солнца Гели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9" descr="мавзолей"/>
          <p:cNvPicPr/>
          <p:nvPr/>
        </p:nvPicPr>
        <p:blipFill>
          <a:blip r:embed="rId7"/>
          <a:srcRect l="23861" t="0" r="0" b="0"/>
          <a:stretch/>
        </p:blipFill>
        <p:spPr>
          <a:xfrm>
            <a:off x="1547640" y="4941720"/>
            <a:ext cx="2792520" cy="191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0920" y="587700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взолей цар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и Мавз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6840360" cy="5905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907920"/>
            <a:ext cx="325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40720" cy="6408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22920" y="836640"/>
            <a:ext cx="3421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5344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Arial Narrow"/>
              </a:rPr>
              <a:t>Вывод: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в процессе эволюции у человека выработалась  такая постоянная величина, как объем оперативной памяти. Человеку было удобнее всего думать об одновременных вещах, если число их не превышало семи.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40120" y="2924280"/>
            <a:ext cx="4403880" cy="39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825640"/>
            <a:ext cx="46562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6:13:36Z</dcterms:created>
  <dc:creator>оленчина</dc:creator>
  <dc:description/>
  <dc:language>en-US</dc:language>
  <cp:lastModifiedBy>оленчина</cp:lastModifiedBy>
  <dcterms:modified xsi:type="dcterms:W3CDTF">2011-01-20T05:27:04Z</dcterms:modified>
  <cp:revision>25</cp:revision>
  <dc:subject/>
  <dc:title>Слайд 1</dc:title>
</cp:coreProperties>
</file>