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wmf" ContentType="image/x-wmf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EC5E-1ECF-4305-8FF7-807FC8B5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0C0-747E-4B3F-98F3-55053D37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813-B969-4CA8-9134-2158A641D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785-DCFB-4755-9F7E-A69804C2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2C4-5D21-4F59-89AF-6901E7EE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CDF9-46B6-40B6-8BA9-09290505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111-7B21-4C2F-BCDB-04CF468D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C72-641D-4F11-B62A-C6524174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EA6-D77A-45AE-83B1-EC5E1F690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81B-C79C-42EB-951D-21F3353B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5F24-C9E4-4A0C-803E-9FBAD0B1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1C1-2217-4A21-B2F4-4688B31C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B05C-20D4-4172-9C16-5980F491C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29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лияние компьютерных игр на подрост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876640"/>
            <a:ext cx="6400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А так ли безобидны иг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2"/>
          <a:stretch/>
        </p:blipFill>
        <p:spPr>
          <a:xfrm>
            <a:off x="395280" y="1089000"/>
            <a:ext cx="8424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928800"/>
            <a:ext cx="52149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честве негативных последствий указывают сужение круга интересов, стремление к созданию собственного мира, уход от реальности. Занятия с компьютером один на один, часто в ущерб общению с людьми, приводят к социальной изоляции и трудностям в межличностных контак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5" descr="ггн.jpeg"/>
          <p:cNvPicPr/>
          <p:nvPr/>
        </p:nvPicPr>
        <p:blipFill>
          <a:blip r:embed="rId2"/>
          <a:stretch/>
        </p:blipFill>
        <p:spPr>
          <a:xfrm>
            <a:off x="5392800" y="3929040"/>
            <a:ext cx="3490920" cy="25718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images.jpeg"/>
          <p:cNvPicPr/>
          <p:nvPr/>
        </p:nvPicPr>
        <p:blipFill>
          <a:blip r:embed="rId3"/>
          <a:stretch/>
        </p:blipFill>
        <p:spPr>
          <a:xfrm>
            <a:off x="5572080" y="1000080"/>
            <a:ext cx="32860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3" descr="кеу.jpeg"/>
          <p:cNvPicPr/>
          <p:nvPr/>
        </p:nvPicPr>
        <p:blipFill>
          <a:blip r:embed="rId2"/>
          <a:stretch/>
        </p:blipFill>
        <p:spPr>
          <a:xfrm>
            <a:off x="6286680" y="1143000"/>
            <a:ext cx="2352600" cy="27208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0" y="1591920"/>
            <a:ext cx="7500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Неумеренное использование компьютерных игр (как и любого досуга) может приводить к психопатологическим симптом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Однако подобные феномены наблюдаются лишь у одной десятой части исследуемых. Очевидно, что в группе патологических игроков налицо явная "передозировка" игры как терапевтического сред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4" descr="лл.jpeg"/>
          <p:cNvPicPr/>
          <p:nvPr/>
        </p:nvPicPr>
        <p:blipFill>
          <a:blip r:embed="rId2"/>
          <a:stretch/>
        </p:blipFill>
        <p:spPr>
          <a:xfrm>
            <a:off x="7215120" y="1000080"/>
            <a:ext cx="1928880" cy="1290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214280"/>
            <a:ext cx="7643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емление к познанию неизвестного, нового и интересного, а то и просто желание отдохнуть, движет молодым поколением в направлении все большей заинтересованности компьютерными играми. И это не удивительно: современный уровень информационных технологий позволяет создавать игры с прекрасной графикой, анимацией и мультимедийными эффектами. В связи с этим стремительно пополняется количество компьютерных фанатов, основной деятельностью которых является игра на компьютере. Круг социальных контактов у них очень узок, и они не замечают, как попадают в зависимость от иг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5" descr="ипп.jpeg"/>
          <p:cNvPicPr/>
          <p:nvPr/>
        </p:nvPicPr>
        <p:blipFill>
          <a:blip r:embed="rId3"/>
          <a:stretch/>
        </p:blipFill>
        <p:spPr>
          <a:xfrm>
            <a:off x="7358040" y="2500200"/>
            <a:ext cx="1643040" cy="10144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ввуц.jpeg"/>
          <p:cNvPicPr/>
          <p:nvPr/>
        </p:nvPicPr>
        <p:blipFill>
          <a:blip r:embed="rId4"/>
          <a:stretch/>
        </p:blipFill>
        <p:spPr>
          <a:xfrm>
            <a:off x="7358040" y="3786120"/>
            <a:ext cx="1571760" cy="11224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45е.jpeg"/>
          <p:cNvPicPr/>
          <p:nvPr/>
        </p:nvPicPr>
        <p:blipFill>
          <a:blip r:embed="rId5"/>
          <a:stretch/>
        </p:blipFill>
        <p:spPr>
          <a:xfrm>
            <a:off x="7358040" y="5143680"/>
            <a:ext cx="162396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071720"/>
            <a:ext cx="71866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дителям просто надо более внимательно относиться к тому, чем занимается ребенок вообще, и к тому, в какие компьютерные игры он играет, больше времени уделять общению со своими детьми, а нам не забывать про книги и прогулки с друзь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гг76.jpeg"/>
          <p:cNvPicPr/>
          <p:nvPr/>
        </p:nvPicPr>
        <p:blipFill>
          <a:blip r:embed="rId2"/>
          <a:stretch/>
        </p:blipFill>
        <p:spPr>
          <a:xfrm>
            <a:off x="6786720" y="4429080"/>
            <a:ext cx="19285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7858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8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аывв.jpeg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5643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 flipV="1" rot="10800000">
            <a:off x="0" y="775440"/>
            <a:ext cx="87868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  <a:ea typeface="Times New Roman"/>
              </a:rPr>
              <a:t>Не так давно никто не мог и предположить, что компьютер войдет почти в каждый дом. Его освоили не только работники банков, различных офисов, но и другие слои населения, большую часть которых составляют дети. Компьютер дал нам всем большие возможности: подготовка рефератов на различные темы при подготовке домашнего задания, общение через сайты, хранение разной информации,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развлечения в виде компьютерных иг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9" name="Рисунок 5" descr="images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6"/>
          <p:cNvSpPr/>
          <p:nvPr/>
        </p:nvSpPr>
        <p:spPr>
          <a:xfrm>
            <a:off x="214200" y="2357280"/>
            <a:ext cx="87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Но вместе с пользой компьютер внес в нашу жизнь и негативные моменты. Многие школьники стали проводить за компьютером огромное количество времени, не замечая ничего вокруг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7" descr="крор.jpeg"/>
          <p:cNvPicPr/>
          <p:nvPr/>
        </p:nvPicPr>
        <p:blipFill>
          <a:blip r:embed="rId3"/>
          <a:stretch/>
        </p:blipFill>
        <p:spPr>
          <a:xfrm>
            <a:off x="5643720" y="3857760"/>
            <a:ext cx="2601720" cy="2143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9" descr="огно.jpeg"/>
          <p:cNvPicPr/>
          <p:nvPr/>
        </p:nvPicPr>
        <p:blipFill>
          <a:blip r:embed="rId4"/>
          <a:stretch/>
        </p:blipFill>
        <p:spPr>
          <a:xfrm>
            <a:off x="1500120" y="4000680"/>
            <a:ext cx="25718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ЦЕЛЬ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54007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зучить вопрос о количестве потребителей компьютера среди учащихся среднего звена, о количестве времени, проводимых за компьютером, о влияние компьютерных игр на успеваемость и возникновение агрессивности по отношению к другим люд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500040" y="500040"/>
            <a:ext cx="82152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8" descr="ьбол.jpeg"/>
          <p:cNvPicPr/>
          <p:nvPr/>
        </p:nvPicPr>
        <p:blipFill>
          <a:blip r:embed="rId2"/>
          <a:stretch/>
        </p:blipFill>
        <p:spPr>
          <a:xfrm>
            <a:off x="6000840" y="1214280"/>
            <a:ext cx="27907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2920" y="1000080"/>
            <a:ext cx="575784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9" name="Рисунок 5" descr="25023-300x210.jpg"/>
          <p:cNvPicPr/>
          <p:nvPr/>
        </p:nvPicPr>
        <p:blipFill>
          <a:blip r:embed="rId2"/>
          <a:stretch/>
        </p:blipFill>
        <p:spPr>
          <a:xfrm>
            <a:off x="4000680" y="3000240"/>
            <a:ext cx="2857320" cy="2000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78564571.jpeg"/>
          <p:cNvPicPr/>
          <p:nvPr/>
        </p:nvPicPr>
        <p:blipFill>
          <a:blip r:embed="rId3"/>
          <a:stretch/>
        </p:blipFill>
        <p:spPr>
          <a:xfrm>
            <a:off x="4714920" y="928800"/>
            <a:ext cx="3452760" cy="25891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OBSCHESTVO-games-60hi.jpg"/>
          <p:cNvPicPr/>
          <p:nvPr/>
        </p:nvPicPr>
        <p:blipFill>
          <a:blip r:embed="rId4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9"/>
          <p:cNvSpPr/>
          <p:nvPr/>
        </p:nvSpPr>
        <p:spPr>
          <a:xfrm>
            <a:off x="214200" y="85716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Жесток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видеоигры и компьютерные игры даже более опасны, чем теле- и кинофильмы с насилием, поскольку, играя, человек отождествляет себя с персонажем, совершающим насилие. Фильмы делают человека наблюдателем, а компьютерные игры - своего рода участником жестоких дей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0" descr="78564571.jpeg"/>
          <p:cNvPicPr/>
          <p:nvPr/>
        </p:nvPicPr>
        <p:blipFill>
          <a:blip r:embed="rId5"/>
          <a:stretch/>
        </p:blipFill>
        <p:spPr>
          <a:xfrm>
            <a:off x="4834080" y="3625920"/>
            <a:ext cx="4309920" cy="3232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" descr="25023-300x210.jpg"/>
          <p:cNvPicPr/>
          <p:nvPr/>
        </p:nvPicPr>
        <p:blipFill>
          <a:blip r:embed="rId6"/>
          <a:stretch/>
        </p:blipFill>
        <p:spPr>
          <a:xfrm>
            <a:off x="6000840" y="1428840"/>
            <a:ext cx="31431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" name="Рисунок 5" descr="ч.jpeg"/>
          <p:cNvPicPr/>
          <p:nvPr/>
        </p:nvPicPr>
        <p:blipFill>
          <a:blip r:embed="rId2"/>
          <a:stretch/>
        </p:blipFill>
        <p:spPr>
          <a:xfrm>
            <a:off x="0" y="0"/>
            <a:ext cx="9144000" cy="65721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7"/>
          <p:cNvSpPr/>
          <p:nvPr/>
        </p:nvSpPr>
        <p:spPr>
          <a:xfrm>
            <a:off x="0" y="142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А некоторые подростки просиживают за компьютером всю ночь напролет, и на следующий день в школе их клонит ко сну. Таким образом, молодежь уходит от реальности в вымышленный мир. 60% детей признают, что играют дольше, чем собирались. Из-за этого они запускают уче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8" descr="computer_addicted_04.jpg"/>
          <p:cNvPicPr/>
          <p:nvPr/>
        </p:nvPicPr>
        <p:blipFill>
          <a:blip r:embed="rId3"/>
          <a:stretch/>
        </p:blipFill>
        <p:spPr>
          <a:xfrm>
            <a:off x="4643280" y="2143080"/>
            <a:ext cx="4064040" cy="2809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еношг.jpeg"/>
          <p:cNvPicPr/>
          <p:nvPr/>
        </p:nvPicPr>
        <p:blipFill>
          <a:blip r:embed="rId4"/>
          <a:stretch/>
        </p:blipFill>
        <p:spPr>
          <a:xfrm>
            <a:off x="357120" y="2214720"/>
            <a:ext cx="2882880" cy="2643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1" descr="св.jpeg"/>
          <p:cNvPicPr/>
          <p:nvPr/>
        </p:nvPicPr>
        <p:blipFill>
          <a:blip r:embed="rId5"/>
          <a:stretch/>
        </p:blipFill>
        <p:spPr>
          <a:xfrm>
            <a:off x="2714760" y="4286160"/>
            <a:ext cx="2876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images.jpeg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7866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0" y="1078560"/>
            <a:ext cx="857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0bb5"/>
                </a:solidFill>
                <a:latin typeface="Times New Roman"/>
                <a:ea typeface="Times New Roman"/>
              </a:rPr>
              <a:t>А вот еще одна опасность, которую таят в себе компьютерные игры: от долгого сидения перед экраном страдают гл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 серьёзно задумалась над проблемой в своей работе по теме «А так ли безобидны компьютерные игры?». И провела опрос среди учащихся гимназии 9,10,11 классов по тесту доктора К.Янга о степени пристрастия гимназистов к компьютерным игр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Пользуетесь ли Вы компьютер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Чувствуете ли Вы особую тягу, чтобы поработать за компьютер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. Ощущаете ли Вы потребность в увеличении времени, проведенного за компьютер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Были ли у  Вас безуспешные попытки контролировать, ограничить или прекратить работу за компьютер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Чувствуете ли Вы себя усталым. угнетенным или раздраженным при попытках ограничить или прекратить пользование компьютер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Находитесь ли Вы за компьютером больше, чем предполагал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Были ли у  Вас случаи, когда Вы рисковали получить проблемы в учебе из-за компьютер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Случалось ли Вам лгать родителям, чтобы скрыть время, проведенное за компьютерной игро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Используете ли Вы компьютер для того, чтобы уйти от проблем или от дурного настроения (например, от чувства беспомощности, виновности, раздраженности или депрессии)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9:35:52Z</dcterms:created>
  <dc:creator>Тимур</dc:creator>
  <dc:description/>
  <dc:language>en-US</dc:language>
  <cp:lastModifiedBy>Учитель</cp:lastModifiedBy>
  <dcterms:modified xsi:type="dcterms:W3CDTF">2010-03-19T23:29:08Z</dcterms:modified>
  <cp:revision>14</cp:revision>
  <dc:subject/>
  <dc:title>Влияние компьютерных игр на подростков.</dc:title>
</cp:coreProperties>
</file>