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A759-42F9-4447-A0F1-32382902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B308-D7B3-4D4E-8C3C-E4A8FA4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AC40-6DDD-4077-BD9F-3DF7F4C8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8087-633A-40D9-9A55-1FCCE5EE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2F39-C53A-4DE5-AA33-1AC5DE18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752C-EF11-4350-990C-F86C974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3644-2F47-4092-A270-A849357F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B5DF-ABC9-4231-8196-F2053BB6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4D5A-5611-4307-89C5-9A915086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F321-C021-4F5E-8486-4C88D5A5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4A32-75FE-4B64-B4FB-61E4788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A891-24DE-4ED5-915F-9FD5FC8C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4240-F0F1-4DF7-A1BD-93BDED7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7B5-235B-4DAC-A7F3-0BE05542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301F-7B71-47F5-A48E-F49A32F7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B609-70D2-4CB0-8369-2E150C84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35A4-07A9-4C79-A2A5-84CAFF1A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7EFD-E1E9-4367-A6A9-A5EB6131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925F-982A-4D8C-82E0-F8ED4AD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CB0D-CC22-4446-8161-EAE31BF0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B34A-011C-4BF1-9AF0-A2F595A7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8957-8AFC-4FE1-854B-4A304B7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BE93-317A-4163-862B-0B7A6E2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FA9D-6BAB-4936-A291-8E39A0A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EB37-4C3F-4811-8357-0E4EBCCF18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66FC-1742-492F-BB02-5B8F1DEC10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актика летчиков в небе Заполярья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124080" y="3200040"/>
            <a:ext cx="5639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полнил учащийся 7 класса Б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«Гуманитарная гимназия №8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липа Вади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учный руководите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емакова Елена Михайлов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читель истор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Цель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ыявление тактических приемов летчиков: Гальченко Л.А., Хлобыстова А.С., Громова Г.В., которые обеспечивали превосходство Советских вооруженных сил в небе Заполярь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81240" y="533520"/>
            <a:ext cx="921996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    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br>
              <a:rPr sz="4000"/>
            </a:br>
            <a:r>
              <a:rPr b="1" lang="ru-RU" sz="3900" spc="-1" strike="noStrike">
                <a:solidFill>
                  <a:srgbClr val="e5e5ff"/>
                </a:solidFill>
                <a:latin typeface="Garamond"/>
              </a:rPr>
              <a:t>1. Выявить особенности условий войны в небе Заполярья.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e5e5ff"/>
                </a:solidFill>
                <a:latin typeface="Garamond"/>
              </a:rPr>
              <a:t>2. Познакомиться с боевой судьбой летчиков  Гальченко Л.А., Хлобыстова А.С., Громова Г.В.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e5e5ff"/>
                </a:solidFill>
                <a:latin typeface="Garamond"/>
              </a:rPr>
              <a:t>3. Определить общие тактические приемы летчиков Заполярья.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. Иноземцев И. Г. Крылатые защитники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евера. — М.: Воениздат, 1975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 Иноземцев И.Г. Тараны в северном небе. -     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.:Воениздат.1981;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. Рыбин Ю. Черная кошка в Мурманском небе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// Мурманский вестник. — 2001. — 26, 31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юля;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600200" y="0"/>
            <a:ext cx="6400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Боевые судьбы летчиков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альченко Леонид Акимович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сихологической атакой на противника бы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его «черная кошка» на хвосте истребител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37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Хлобыстов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Степанович  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Отлично понимал тактические приемы противни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Хлобыстов А.С."/>
          <p:cNvPicPr/>
          <p:nvPr/>
        </p:nvPicPr>
        <p:blipFill>
          <a:blip r:embed="rId1"/>
          <a:stretch/>
        </p:blipFill>
        <p:spPr>
          <a:xfrm>
            <a:off x="3124080" y="838080"/>
            <a:ext cx="278316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Боевые судьбы летчиков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47239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ромов Георгий Васильеви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мело использовал выгодную позицию для атаки, хорошо ориентировался в сложных метеорологических условиях Севера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8" descr="http://www.peoples.ru/military/aviation/georgiy_gromov/gromov_gromov_g_s.jpg"/>
          <p:cNvPicPr/>
          <p:nvPr/>
        </p:nvPicPr>
        <p:blipFill>
          <a:blip r:embed="rId1"/>
          <a:stretch/>
        </p:blipFill>
        <p:spPr>
          <a:xfrm>
            <a:off x="2819520" y="762120"/>
            <a:ext cx="3547800" cy="396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772400" y="-22636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Боевые судьбы летчиков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55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1-26T06:06:0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