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57B-8312-42EC-93F2-F66DDB24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7BE-5FEE-45A8-A09B-1FEFE7CF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79D-45B6-4115-904D-A8A3A3EF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669-A63B-49B4-9C04-4A266000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17E-5A95-47F8-AFFE-2437262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DF2-9B5D-45D6-8BC1-BCF6FE5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86B-8B3E-4276-8B6F-FC25044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52E-DE83-45A7-8CCD-FE78EEF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5DC-658F-47F3-A288-953080B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5FC-21EF-4064-BC35-4D630D6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CD5-B456-44CF-9D81-3A4B049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F71-1FAC-4C36-B129-DE784F45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5198-8905-4322-8BCC-E3AD8730E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26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05b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рихле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в задач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3" name="Picture 7" descr="aa8f578a22b678c112a819fd4d12d678[1]"/>
          <p:cNvPicPr/>
          <p:nvPr/>
        </p:nvPicPr>
        <p:blipFill>
          <a:blip r:embed="rId1"/>
          <a:stretch/>
        </p:blipFill>
        <p:spPr>
          <a:xfrm>
            <a:off x="6948360" y="981000"/>
            <a:ext cx="1440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"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йцев сидят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тках, то найдётся клетка, в которой не мене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йцев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надо бояться дробного число зайце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сли получается, что в ящике не меньше 7/3 зайцев, значит, их больше дву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ин математик сказал, что Дирихле по частоте упоминаний школьниками навсегда обеспечено одно из самых высших мес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5" descr="j0304933"/>
          <p:cNvPicPr/>
          <p:nvPr/>
        </p:nvPicPr>
        <p:blipFill>
          <a:blip r:embed="rId1"/>
          <a:stretch/>
        </p:blipFill>
        <p:spPr>
          <a:xfrm>
            <a:off x="611280" y="1989000"/>
            <a:ext cx="39416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добавил: "Пожалуй, есть способ лишить его лидер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звать чьим-нибудь именем принцип «никакое чётное число не равно никакому нечётному».« Доказательство принципа Дирихле очень простое, но заслу­живает внимания, поскольку похожие рассуждения «от противного» часто встречаются. Допустим, что в каждой клетке чис­ло зайцев меньше, че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Тогда в к клетках зайцев меньше, чем к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Противореч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vetton_ru_12"/>
          <p:cNvPicPr/>
          <p:nvPr/>
        </p:nvPicPr>
        <p:blipFill>
          <a:blip r:embed="rId1"/>
          <a:srcRect l="55136" t="20320" r="-63" b="3420"/>
          <a:stretch/>
        </p:blipFill>
        <p:spPr>
          <a:xfrm>
            <a:off x="468360" y="1341360"/>
            <a:ext cx="40273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В классе 30 человек. Саша Иванов в диктанте сделал 13 ошибок, а остальные меньше. Докажите, что, по крайней мере, три ученика сделали ошибок поровну (может быть по 0 ошибок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7" descr="Книга"/>
          <p:cNvPicPr/>
          <p:nvPr/>
        </p:nvPicPr>
        <p:blipFill>
          <a:blip r:embed="rId1"/>
          <a:stretch/>
        </p:blipFill>
        <p:spPr>
          <a:xfrm>
            <a:off x="4500720" y="191628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жем утверждение задачи от противно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положим, никакие три ученика не сделали по одинаковому числу ошибок, то есть в каждую из "клеток" 0,1,...,12 попало меньше трех шк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гда в каждой из них два человека или меньше, а всего в этих 13 клетках не более 2*13=26 человек. Добавив Сашу Иванова, все равно не наберем 30 ребят. Противореч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едовательно, утверждение задачи верно, по крайней мере, трое учеников сделали поровну ошиб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За победу в турнире Архимеда команда из 8 человек получила 12 конфет. Дети поделили конфеты между собой, не разламывая 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ите, верны ли следующие утверждения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кому-то досталось, по крайней мере 2 конфеты»;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кому-то досталось по крайней мере 3 конфеты»;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двум людям досталось по крайней мере две конфеты»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каждому досталась хотя бы одна конфета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Конфеты"/>
          <p:cNvPicPr/>
          <p:nvPr/>
        </p:nvPicPr>
        <p:blipFill>
          <a:blip r:embed="rId1"/>
          <a:stretch/>
        </p:blipFill>
        <p:spPr>
          <a:xfrm>
            <a:off x="684360" y="170028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Да, вер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положим противное, т.е. что существует ситуация, когда дети поделили конфеты так, что каждый получил 0 или 1 конфету. Тогда все дети в сумме получили не более 8 конфет, что противоречит условию. Значит наше предположение неверно, и такая ситуация существовать не может. Т. о. всегда найдётся тот, кто получил, по крайней мере, 2 конфе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всех остальных пунктов можно построить пример, когда дети поделили 12 конфет так, что указанные утверждения не выполняю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4 человека получили по 2 конфеты, а остальные 4 по од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Все конфеты забрал один челове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4) Аналогично пункту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: Первое утверждение, верно, все остальные — н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У трёх членов жюри спросили: «Сколько команд будет участвовать в турнире Архимеда?» Один сказал: «Меньше тридцати трех». Другой: «Меньше тридцати одной», а третий: «Меньше тридцати двух». Сколько команд участвовало в турнире Архимеда, если правы, оказались в точности двое членов жюри?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Турнир"/>
          <p:cNvPicPr/>
          <p:nvPr/>
        </p:nvPicPr>
        <p:blipFill>
          <a:blip r:embed="rId1"/>
          <a:stretch/>
        </p:blipFill>
        <p:spPr>
          <a:xfrm>
            <a:off x="4500720" y="184464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тим, что из верности второго утверждения вытекает верность остальных. А так как верными оказались ровно два утверждения, то второе утверждение неверно, а первое и третье вер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 количество команд, с одной стороны, не может быть больше 31 (т. к. иначе неверно третье утверждение), а с другой стороны, не может быть меньше 31 (т.к. иначе верно второе утверждение). Значит. единственно возможное количество команд — 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 проверить, что 31 удовлетворяет условию задач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31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На финальном матче школьного первенства по баскетболу команда 7 А забила 9 мячей. Докажите, что найдутся два игрока этой команды, забившие поровну мячей. (В команде было 5 игроков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Баскетбол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ложим, что возможен случай, когда такие два игрока не найдутся. Тогда все пять игроков, забили разное количество мяч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первый игрок ничего не забил, второй игрок забил один мяч, третий игрок забил два мяча, четвёртый — три, пятый — четыре. Тогда всего игроки забили десять мяч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кто-то из игроков забил больше мячей, чем мы предположили, то и всего игроки забили больше мячей. Поскольку по условию игроки забили всего девять мячей, наше предположение неверно. Значит, существуют два игрока команды, забившие поровну мяч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175"/>
                            </p:stCondLst>
                            <p:childTnLst>
                              <p:par>
                                <p:cTn id="3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125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Исследовательская работа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о математик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равин Ми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ащийся 5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У лицея №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. Ельц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пец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инокурова Галина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У лицея №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. Е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пец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.Маленький брат Андре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краси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шашки в восемь цветов. Сколькими способами Андрей может поставить на доску 8 разноцветных шашек так, чтобы в каждом столбце и в каждой строке было по одной шашк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колькими способами Андрей может поставить на доску 8 белых шашек так, чтобы в каждом столбце и в каждой строке было по одной шаш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Шашки"/>
          <p:cNvPicPr/>
          <p:nvPr/>
        </p:nvPicPr>
        <p:blipFill>
          <a:blip r:embed="rId1"/>
          <a:stretch/>
        </p:blipFill>
        <p:spPr>
          <a:xfrm>
            <a:off x="4716360" y="177336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им сначала случай, когда шашки белые. Будем расставлять шашки. В первом столбце мы можем поставить шашку в любую из 8 клеток. Во втором столбце — в любую из 7 клеток. (Т. к. нельзя ставить в ту же строку, в которой стоит первая шашка.) Аналогично в третьей строке мы можем поставить шашку в любую из 6 клеток, в четвёртой строке — в любую из пяти и т. д. Итого получаем 8 спосо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ерь рассмотрим случай цветных шашек. Возьмём произвольную расстановку белых шашек. Будем раскрашивать эти шашки в 8 цветов, так чтобы любые две из них были покрашены в разные цвета. Первую мы можем покрасить в один из 8 цветов, вторую — в один из 7 оставшихся и.т. д. Т. е. всего 8 способов раскраски. Поскольку способов расстановки тоже 8 , и каждую из этих расстановок мы можем раскрасить 8 способами, то всего способов в этом случае 8·8=8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8² способов, 8 способ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.В Москве проживает более 10 000 000 людей. На голове у каждого человека не может быть более 300 000 волос. Докажите, что наверняка найдутся 34 москвича с одинаковым числом волос на голове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Люди"/>
          <p:cNvPicPr/>
          <p:nvPr/>
        </p:nvPicPr>
        <p:blipFill>
          <a:blip r:embed="rId1"/>
          <a:stretch/>
        </p:blipFill>
        <p:spPr>
          <a:xfrm>
            <a:off x="468360" y="1700280"/>
            <a:ext cx="410508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голове может быть 0, 1, …, 300 000 волос — всего 300 001 вариант. Каждого москвича отнесём к одной из 300 001 групп в зависимости от количества вол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34 москвича с одинаковым количеством волос не найдутся, то это значит, что в любую из созданных групп входит не более 33 челов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всего в Москве живёт не более 33·300 001=9 900 033 &lt; 10 000 000 человек, что противоречит услов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, такие 34 москвича обязательно найду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В 500 коробках лежат яблоки. Известно, что в каждой коробке находятся не более 240 яблок. Доказать, что существуют хотя бы 3 коробки, которые содержат одинаковое количество ябл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Яблоки"/>
          <p:cNvPicPr/>
          <p:nvPr/>
        </p:nvPicPr>
        <p:blipFill>
          <a:blip r:embed="rId1"/>
          <a:stretch/>
        </p:blipFill>
        <p:spPr>
          <a:xfrm>
            <a:off x="4500720" y="1773360"/>
            <a:ext cx="4427280" cy="44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в первых 240 коробках находится различное количество яблок (1,2,...,240) , в следующих 240 коробках - аналогично (то есть, анализируется экстремальный случа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остались 500 - 2·240 = 20 коробок, в которые необходимо поместить яблоки от 1 до 24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.Верно ли, что в вашей аудитории есть по крайне мере два человека, имеющие одинаковое число друзей в этой аудитории. Верно ли это для любой аудитории Малого мехмата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Аудитория"/>
          <p:cNvPicPr/>
          <p:nvPr/>
        </p:nvPicPr>
        <p:blipFill>
          <a:blip r:embed="rId1"/>
          <a:stretch/>
        </p:blipFill>
        <p:spPr>
          <a:xfrm>
            <a:off x="684360" y="184464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м рассуждения сразу для любой аудито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ельство от противного. Пусть в аудитории прису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человек, и у всех из них разное количество друзей. Друзей может быть 0, 1, 2, …,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− 1). Все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зможных вариантов. А т.к. человек то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о все эти варианты используются. Значит, есть человек, у которого 0 друзей, т. е. который ни с кем не друж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есть человек, у которого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− 1) друг, т.е. который дружит со всеми. Однако этого быть не может, т.к. эти два человека должны одновременно и дружить, и не дружить друг с другом. Получаем противоречие. Значит, такие два человека всегда найду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Да, вер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Из любых трёх целых чисел можно выбрать два, сумма которых четна. Докажите э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Цифры"/>
          <p:cNvPicPr/>
          <p:nvPr/>
        </p:nvPicPr>
        <p:blipFill>
          <a:blip r:embed="rId1"/>
          <a:stretch/>
        </p:blipFill>
        <p:spPr>
          <a:xfrm>
            <a:off x="4211640" y="1844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числа можно разбить на два класса: чётные и не­чётные. Невозможно распределить три числа по двум классам так, чтобы ни в какой класс не попало более одного числа. Значит, среди любых трёх целых чисел найдутся два числа одинаковой чётности. Их сумма чет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7" name="Picture 4" descr="609631860_l"/>
          <p:cNvPicPr/>
          <p:nvPr/>
        </p:nvPicPr>
        <p:blipFill>
          <a:blip r:embed="rId1"/>
          <a:stretch/>
        </p:blipFill>
        <p:spPr>
          <a:xfrm>
            <a:off x="6300720" y="4437000"/>
            <a:ext cx="201636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исследовательской работы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графия Дирихле (5-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ировка принципа Дирихле (7-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улярная трактовка принципа Дирихле (10-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принципа в практических задачах из жизни.(12-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бщение и теоретическое использование принципа Дирихле. (31-3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. В международном симпозиуме участвуют 17 человек. Каждый знает не более трех языков и любые два участника могут общаться между собой. Доказать, что хотя бы три участника, знают один и тот же язы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Симпозиум"/>
          <p:cNvPicPr/>
          <p:nvPr/>
        </p:nvPicPr>
        <p:blipFill>
          <a:blip r:embed="rId1"/>
          <a:stretch/>
        </p:blipFill>
        <p:spPr>
          <a:xfrm>
            <a:off x="395280" y="17733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A - один из участников. Он может общаться с каждым из 16 участников на не более одном из трех известных ему языков. Тогда существует язык, на который A говорит с не менее чем шестью участниками. Пусть B - любой из них. Ясно, что среди остальных 5 участников есть 3, с которыми B может общаться на одном языке (назовем его "второй язык"). Если среди этих троих участников хотя бы два, скажем C и D, могут говорить на "втором языке", то B, C и D и есть те три человека, говорящие на одном язы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бобщ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при отнесении каждого и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метов к одному и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лассов хотя бы в один класс попадет не менее двух предм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окажите, что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целые числа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) делится на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ель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кольку 6=2*3 и числа 2 и3 – взаимно простые, то для решения задачи достаточно показать делимость чис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) на 2 и на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хотя бы одно из чисе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етно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) кратно 2. Если же оба чис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четны, то числ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етно и, значи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кратно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бобщение в пример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хотя бы одно из чисе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атно 3, то произвед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) также кратно 3. Осталось рассмотреть случай, когда оба числ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 делятся на3. По теореме о делении с остатком, каждое из чисел при делении на 3 может давать остатки 1 или 2. Если остатки от деления чисе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3 одинаковые, то тогда раз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лится 3, если же остатки разные, то сум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лится на 3, так как сумма остатков равна 3.Во всех случаях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) кратно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бобщение в пример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умма двух целых чисел равна 101, а разность их квадратов – простое число найдите эти чис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означим  искомые числа чере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Тогд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²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²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стое число, т.е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скольк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01, то 101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тсюда следует, ч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лится на 101, н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стое число, значи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101. Имеем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. Так ка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01, находи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5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бобщение в пример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йдите все простые числ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ля которых числ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 также прост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чевидно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≠2, так ка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 +2=6 не является простым, 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 удовлетворяет условию, так ка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=11 – простое число. Покажем  теперь, что не существует простых чисе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gt;3, для котор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 – простое число. Пу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gt;3 – простое число, тог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делится на 3, значит по теореме о делении с остатк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1 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2, г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1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=3(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1) делится на 3, то есть  не является простым. Если 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2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2=3(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²+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2) также делится на 3, то есть не является прост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бобщение в пример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ли разменять 100 рублей, имея рублевые, трехрублевые и пятирублевые купюры, так, чтобы всего в размене участвовало 13 купю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усть в размене участвую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ублевых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хрублевых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ятирублевых купюр, тогд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00. Записав это равенство в виде 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+(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=100, заключаем, ч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3 – четное число, так как числа 100 и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етные. Следовательно, нельзя разменять 100 рублей с помощью 13 купюр достоинством 1 рубль, 3рубля, 5 руб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и исследовательской рабо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комиться с принципом Дирих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комиться с биограф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ить принцип на практических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бщение принципа и его применение в теории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РИХЛЕ Петер Густав Лежен(13.2.1805-5.5.1859) - немецкий математик. Род. в Дюрене. В 1822-1827 Д. был домашним учителем в Париже. Входил в кружок молодых ученых, которые группировались вокруг Ж. Фурье. В 1827 Д. занял место доцента в Бреславле; с 1829 работал в Берлине. В 1831-1855 - профессор Берлинского ун-та, а после смерти К. Гаусса (1855) - Геттингенского ун-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Dirichlet"/>
          <p:cNvPicPr/>
          <p:nvPr/>
        </p:nvPicPr>
        <p:blipFill>
          <a:blip r:embed="rId1"/>
          <a:stretch/>
        </p:blipFill>
        <p:spPr>
          <a:xfrm>
            <a:off x="900000" y="1628640"/>
            <a:ext cx="352764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Биографи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сделал ряд крупных открытий в теории чисел: установил формулы для числа классов бинарных квадратичных форм с заданным определителем и доказал теорему о бесконечности количества простых чисел в арифметической прогрессии из целых чисел, первый член и разность которой - взаимно просты. К решению этих задач Д. применил аналитические функции, названные функциями (рядами) Дирихл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irichlet_3"/>
          <p:cNvPicPr/>
          <p:nvPr/>
        </p:nvPicPr>
        <p:blipFill>
          <a:blip r:embed="rId1"/>
          <a:stretch/>
        </p:blipFill>
        <p:spPr>
          <a:xfrm>
            <a:off x="4932360" y="1795320"/>
            <a:ext cx="3384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 создал общую теорию алгебраических единиц в алгебраическом числовом п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бласти математического анализа Д. впервые точно сформулировал и исследовал понятие условной сходимости ряда, дал строгое доказательство возможности разложения в ряд Фурье кусочно-непрерывной и монотонной функции, что послужило обоснованием для многих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ы труды Д. в механике и математической физике, в частности в теории потенциа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Dirichlet_4"/>
          <p:cNvPicPr/>
          <p:nvPr/>
        </p:nvPicPr>
        <p:blipFill>
          <a:blip r:embed="rId1"/>
          <a:stretch/>
        </p:blipFill>
        <p:spPr>
          <a:xfrm>
            <a:off x="324000" y="1773360"/>
            <a:ext cx="4090680" cy="41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57160" y="1428480"/>
            <a:ext cx="742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 комбинаторике  принцип Дирихле (нем. «принцип ящиков») – утверждение сформулированное  Дирихле в 1834 году, устанавливающее  связь  между  объектами (кроликами) и  контейнерами (клетками)  при выполнении определенных усло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Дирихле применяется в теории диофантовых приближений при анализе систем линейных неравенств. Наиболее распространена следующая формулировка этого принцип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множество и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элементов разбито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ересекающихся частей, не имеющих общих элементов, гд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то, по крайней мере, в одной части будет более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й же идее основано доказательство того, что при обращении  обыкновенной дроб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|q,  p&lt;q, q&gt;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в  десятичную получается или конечная или бесконечная периодическая десятичная дробь, причем длина периода не превосходит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-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Будем делить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«уголком» и  следить за остатками. Если на каком-то  шаг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258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таток будет нулевым, то получится конечная  дробь. Если же все остатки будут отличны от нуля, то не позже, чем н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1)-м шагу начнут повторяться остатки, а вслед за этим – и цифры в част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радиции в популярной литературе принцип Дирихле объясняют на примере «зайцев и клет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1:47:44Z</dcterms:created>
  <dc:creator>ксюша</dc:creator>
  <dc:description/>
  <dc:language>en-US</dc:language>
  <cp:lastModifiedBy>Пользователь</cp:lastModifiedBy>
  <dcterms:modified xsi:type="dcterms:W3CDTF">2010-11-08T20:48:39Z</dcterms:modified>
  <cp:revision>27</cp:revision>
  <dc:subject/>
  <dc:title>Дирихле </dc:title>
</cp:coreProperties>
</file>