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235E-1101-44D4-AE2A-9668A9EB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6F31-DA97-43EB-A304-BFE1BAB8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B53C-0C33-4984-8B88-46730A63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7DF2-69A8-40A1-BE01-A7C0D6D3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2204-C9D4-4F73-BF36-6E3B4596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4213-E4BC-44DA-A062-9E7854B8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BCAC-E3C3-49C2-B830-90383F91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FB88-9541-47DE-863C-22C529B3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1B18-F799-4864-8DA1-2955C221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E920-4114-4D3B-B40E-F6F37F5F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6408-B1B0-4983-9514-CC4F2628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D8D0-A4A4-4BFC-86B9-C980D032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33EA-63A8-425F-A1A5-20B0F7948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9640" y="1413000"/>
            <a:ext cx="494352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ТЕМАТИЧЕСКИЕ РЕБУСЫ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5280" y="5445000"/>
            <a:ext cx="32385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ина Сивцев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еница 3 «в» класс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611280" y="836640"/>
            <a:ext cx="3168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 5  4  3  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  л  а  н  п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148360" y="836640"/>
            <a:ext cx="3384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 4  5  3  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  к  а  с  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39640" y="1341360"/>
            <a:ext cx="5256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84360" y="836640"/>
            <a:ext cx="2857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КТУАЛЬНОСТЬ :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700280"/>
            <a:ext cx="8294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РАЗВИТИЕ ИНТЕРЕСА И ТВОРЧЕСК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САМОСТОЯТЕЛЬНОСТИ ДЕ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684360" y="1052640"/>
            <a:ext cx="1904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Ь :</a:t>
            </a:r>
            <a:endParaRPr b="0" i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700360" y="981000"/>
            <a:ext cx="6119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ПЕРЕХОД ОТ ПРОСТОГО РЕБУСА К СЛОЖНО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УВЕЛИЧЕНИЕ СЛОВАРНОГО ЗАПАС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НАУЧИТЬСЯ САМОСТОЯТЕЛЬНО, СОСТАВЛЯ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РЕБУ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539640" y="476280"/>
            <a:ext cx="3745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ПОТЕЗА: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484280"/>
            <a:ext cx="7037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ЕСЛИ ЗАНИМАТЬСЯ СОСТАВЛЕН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РАЗНЫХ РЕБУСОВ, МОЖНО УЗНА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«ОПАСНЫЕ МЕСТА» В НАПИСАНИИ СЛ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УСВАИВАТЬ ИЗУЧАЕМЫЕ ОРФ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755640" y="549360"/>
            <a:ext cx="224784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ВИЗНА:</a:t>
            </a:r>
            <a:endParaRPr b="0" i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341360"/>
            <a:ext cx="7880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Я САМА СОСТАВИЛА РЕБУСЫ И РАЗДЕЛ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НА  2  ВИДА , КОТОРЫЕ МО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ИСПОЛЬЗОВАТЬ НА УРОКАХ МАТЕМАТИ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РУССКОГО ЯЗЫ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НА ПЕРЕМЕНАХ ИЛИ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755640" y="765000"/>
            <a:ext cx="4894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ЛЮЧЕНИЕ: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1628640"/>
            <a:ext cx="820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cc00"/>
                </a:solidFill>
                <a:latin typeface="Arial"/>
              </a:rPr>
              <a:t>Я ХОЧУ СКАЗАТЬ, ЧТО МАТЕМАТИЧЕСКИЕ РЕБУСЫ НЕ ИМЕЮТ ГРАНИЦ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cc00"/>
                </a:solidFill>
                <a:latin typeface="Arial"/>
              </a:rPr>
              <a:t>ИХ МОЖНО ПРИДУМЫВАТЬ СКОЛЬКО УГОДНО И ГЛАВНОЕ- РАЗВИВАЕТСЯ ФАНТАЗИЯ И МЫШ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692360" y="404640"/>
            <a:ext cx="60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ТЕМАТИЧЕСКИЕ РЕБУСЫ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5003640" y="1700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Arial"/>
              </a:rPr>
              <a:t>ПРОСТЫЕ РЕБ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5080" y="227664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1773360"/>
            <a:ext cx="4176720" cy="45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</a:t>
            </a: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  я   ;    40 а     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 7  ;    3  о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0 л  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0" y="476280"/>
            <a:ext cx="558000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 3 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2 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0 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324000" y="1052640"/>
            <a:ext cx="52243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  2  3   1    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  о  м  к   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3429000"/>
            <a:ext cx="35272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  4  3  2  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  о  п  о  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18900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«ЦИФР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23:38:15Z</dcterms:created>
  <dc:creator>Варенька</dc:creator>
  <dc:description/>
  <dc:language>en-US</dc:language>
  <cp:lastModifiedBy>Варенька</cp:lastModifiedBy>
  <dcterms:modified xsi:type="dcterms:W3CDTF">2010-03-17T14:16:43Z</dcterms:modified>
  <cp:revision>3</cp:revision>
  <dc:subject/>
  <dc:title>Слайд 1</dc:title>
</cp:coreProperties>
</file>