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25.gif" ContentType="image/gif"/>
  <Override PartName="/ppt/media/image5.jpeg" ContentType="image/jpeg"/>
  <Override PartName="/ppt/media/image13.jpeg" ContentType="image/jpeg"/>
  <Override PartName="/ppt/media/image4.png" ContentType="image/png"/>
  <Override PartName="/ppt/media/image24.gif" ContentType="image/gif"/>
  <Override PartName="/ppt/media/image26.gif" ContentType="image/gif"/>
  <Override PartName="/ppt/media/image20.jpeg" ContentType="image/jpeg"/>
  <Override PartName="/ppt/media/image15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media/image12.jpeg" ContentType="image/jpe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55B2-B4B4-4F42-9161-2CD8B74B3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9E0-B441-4ADB-AD79-44F060C2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7BBD-ABA5-41DF-A410-3AEC5C5B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A8D-0682-4197-A3AA-A23EA936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00137-0FDA-4B13-AD90-AAA1B72A5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29B3-8069-437D-873D-24AC67021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70C18-E22D-4013-BF97-071375009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79D6D-2754-455A-8E3C-041AEF935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F85BD-B3CB-431B-92CB-517E6D471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AA086-7E62-41AB-A11F-825409EE8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39AE9-8873-437E-B9C6-96F11A2B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B862-3E83-4EB6-9C67-CAA3E809C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55C1-B278-403F-ABC0-EE2EB3A61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DF118-48C5-493B-B7C5-BEA5C9C2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707BE-2B6A-4C38-A817-F9435EBB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838D-A807-4D14-BF8F-E7E402D5B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0ED4-CD73-4C2A-9AB4-4A549479E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C2DE-0C52-4D04-99F4-D19D7721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B68F-6701-49F2-834D-9493CDFD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9A5A-D37D-437D-B744-4224F68F8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1ADF-A915-48A1-9BBD-AAB874BB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36D6-CDFC-4C54-92AE-BE403F2B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3155-7CC3-49C2-8C4F-191970B0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357-6ABC-4A0C-9493-3B5B1B18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27E7-21C6-4B4E-8B2E-37B2C2B214D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E1F40-BFF1-4DC4-9B5F-E23E513CA6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22&amp;ed=1&amp;text=&#1050;&#1072;&#1088;&#1090;&#1080;&#1085;&#1082;&#1080;%20&#1073;&#1086;&#1088;&#1100;&#1073;&#1099;%20&#1087;&#1088;&#1086;&#1090;&#1080;&#1074;%20&#1085;&#1072;&#1088;&#1082;&#1086;&#1084;&#1072;&#1085;&#1080;&#1080;&amp;spsite=fake-010-329922.ru&amp;img_url=creativit.ucoz.ru%2Fl_13046.jpg&amp;rpt=simage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yandex.ru/search?p=23&amp;ed=1&amp;text=&#1050;&#1072;&#1088;&#1090;&#1080;&#1085;&#1082;&#1080;%20&#1073;&#1086;&#1088;&#1100;&#1073;&#1099;%20&#1087;&#1088;&#1086;&#1090;&#1080;&#1074;%20&#1085;&#1072;&#1088;&#1082;&#1086;&#1084;&#1072;&#1085;&#1080;&#1080;&amp;spsite=fake-008-186632.ru&amp;img_url=irc.lv%2Fimages%2Fqna%2F376157_386761.jpeg&amp;rpt=simage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images.yandex.ru/search?p=3&amp;ed=1&amp;text=&#1050;&#1072;&#1088;&#1090;&#1080;&#1085;&#1082;&#1080;%20&#1084;&#1086;&#1088;&#1103;&amp;spsite=fake-044-765846.ru&amp;img_url=i026.radikal.ru%2F0812%2Fa2%2Fb3a496bfd630.jpg&amp;rpt=simage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889520" y="19368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i-main-pic" descr="Картинка 105 из 84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708360" y="3068640"/>
            <a:ext cx="49528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Календар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Экологических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Impact"/>
              </a:rPr>
              <a:t>дат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50920" y="260280"/>
            <a:ext cx="864216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14          октября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Международный день по уменьшению опасности стихийных бедствий отмечается во вторую среду октября по решению Генеральной Ассамблеи ООН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Генеральная Ассамблея ООН, провозгласив в Резолюции № 44/236 (1989) «Международное десятилетие по уменьшению опасности стихийных бедствий», объявила вторую среду октября Международным днем по уменьшению опасности стихийных бедствий и постановила отмечать его ежегодно в течение 1990-1999 гг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168720" cy="2066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651640" y="189000"/>
            <a:ext cx="3070080" cy="232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476280"/>
            <a:ext cx="914400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12 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мая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Times New Roman"/>
              </a:rPr>
              <a:t>12 мая 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- День экологического образования. Конференция ООН в Рио-де-Жанейро в 1992 году, обсуждавшая проблемы окружающей среды и развития образования, в своих документах и решениях подчеркнула огромное значение экологического образования в реализации стратегии выживания и устойчивого развития человеч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i-main-pic" descr="Картинка 133 из 4313"/>
          <p:cNvPicPr/>
          <p:nvPr/>
        </p:nvPicPr>
        <p:blipFill>
          <a:blip r:embed="rId1"/>
          <a:stretch/>
        </p:blipFill>
        <p:spPr>
          <a:xfrm>
            <a:off x="468360" y="549360"/>
            <a:ext cx="3311640" cy="1990800"/>
          </a:xfrm>
          <a:prstGeom prst="rect">
            <a:avLst/>
          </a:prstGeom>
          <a:ln w="0">
            <a:noFill/>
          </a:ln>
        </p:spPr>
      </p:pic>
      <p:pic>
        <p:nvPicPr>
          <p:cNvPr id="154" name="i-main-pic" descr="Картинка 102 из 5924"/>
          <p:cNvPicPr/>
          <p:nvPr/>
        </p:nvPicPr>
        <p:blipFill>
          <a:blip r:embed="rId2"/>
          <a:stretch/>
        </p:blipFill>
        <p:spPr>
          <a:xfrm>
            <a:off x="5508720" y="26028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79280" y="692280"/>
            <a:ext cx="89647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125280" y="-1291680"/>
            <a:ext cx="59976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1280" y="408240"/>
            <a:ext cx="799308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r>
              <a:rPr b="0" lang="ru-RU" sz="13200" spc="-1" strike="noStrike">
                <a:solidFill>
                  <a:srgbClr val="ccecff"/>
                </a:solidFill>
                <a:latin typeface="Times New Roman"/>
                <a:ea typeface="Times New Roman"/>
              </a:rPr>
              <a:t>1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Марта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Times New Roman"/>
              </a:rPr>
              <a:t>День борьбы с наркоманией. Наркотизм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 – это употребление психоактивных веществ. По определению ВОЗ (Всемирной организации здравоохранения), к ним относятся алкоголь, табак, наркотические и токсичные вещества. Средний возраст наркоманов в России составляет 13-15 л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692280"/>
            <a:ext cx="2664000" cy="186048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692280"/>
            <a:ext cx="2528640" cy="179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914400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7  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апреля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Times New Roman"/>
              </a:rPr>
              <a:t>7 апреля 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- Всемирный День охраны здоровья. В 1964 году была создана Всемирная организация здравоохранения (ВОЗ), цель которой – «достижение всеми народами возможно высшего уровня здоровья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В 1948 году по инициативе ВОЗ было дано определение здоровью: «Здоровье – это состояние полного физического, психологического и социального благополучия, а не просто отсутствие болезней или физических дефектов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724360" y="189000"/>
            <a:ext cx="2808360" cy="2197080"/>
          </a:xfrm>
          <a:prstGeom prst="rect">
            <a:avLst/>
          </a:prstGeom>
          <a:ln w="0">
            <a:noFill/>
          </a:ln>
        </p:spPr>
      </p:pic>
      <p:pic>
        <p:nvPicPr>
          <p:cNvPr id="162" name="i-main-pic" descr="Картинка 39 из 767643"/>
          <p:cNvPicPr/>
          <p:nvPr/>
        </p:nvPicPr>
        <p:blipFill>
          <a:blip r:embed="rId2"/>
          <a:stretch/>
        </p:blipFill>
        <p:spPr>
          <a:xfrm>
            <a:off x="1403280" y="189000"/>
            <a:ext cx="2592360" cy="23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1619280" y="189000"/>
            <a:ext cx="282096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ключе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1773360"/>
            <a:ext cx="7920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ботая над проектом, исследовала много литературы, сайтов Интернета, что помогло мне решить одну из задач, поставленных в начале – собрать как можно больше информации о существующих датах по охране окружающей сред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казывается, человечество имеет их приличное количество, которое я систематизировала в виде календаря. Но дело ведь не в том, сколько имеется дат, а в том,  что люди, зная, эти даты хотя бы немного думали, о состоянии природ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Жизнь человечества сейчас резко изменилась в худшую сторону, так как человек не задумывается о том, что может произойти из-за его подвигов, поступков, которые он соверши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е бы хотелось, чтобы подобные календари не были в одном экземпляре, а были бы напечатаны, и их можно было бы приобрести в книжных магазинах, киосках и т. 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Рисунок 2" descr="Рисунок6.gif"/>
          <p:cNvPicPr/>
          <p:nvPr/>
        </p:nvPicPr>
        <p:blipFill>
          <a:blip r:embed="rId1"/>
          <a:stretch/>
        </p:blipFill>
        <p:spPr>
          <a:xfrm>
            <a:off x="8028000" y="5832360"/>
            <a:ext cx="1116000" cy="1025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4500720" y="0"/>
            <a:ext cx="4643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«Мы должны научиться отказываться от маленьких удобств во имя возможных экологических катастроф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Ю.А. Израэ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658960" cy="3816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654440" y="1052640"/>
            <a:ext cx="2898720" cy="360036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395280" y="1341360"/>
            <a:ext cx="7056360" cy="42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70" name="Picture 7" descr=" дата поступления:27.05.2006 17:35"/>
          <p:cNvPicPr/>
          <p:nvPr/>
        </p:nvPicPr>
        <p:blipFill>
          <a:blip r:embed="rId1"/>
          <a:stretch/>
        </p:blipFill>
        <p:spPr>
          <a:xfrm>
            <a:off x="7236000" y="3141720"/>
            <a:ext cx="1657080" cy="295128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258920" y="1268280"/>
            <a:ext cx="7200720" cy="50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Календарь – это обычная таблица с перечнем дней  в году и соответствием чисел месяца дням недели. Любой из календарей может стать помощником человек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Естественная среда обитания человека – природа, но сейчас стремительно увеличивается число видов растений и животных, заносимых в Красную книгу. Можно ли приостановить возрастающий процесс загрязнения окружающей среды? Что для этого нужно сделать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Так как каждый день, чтобы узнать число, мы заглядываем в календарь, и заодно мы там можем найти какую- либо информацию. А если предположить, что эта информация будет об экологическом состоянии нашей природы, тогда быть может большее число людей задумается об этой проблеме и начнет наконец-то что-то предпринимать. Отсюда следует, нужно как можно быстрее создать такие календар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5" descr="book37"/>
          <p:cNvPicPr/>
          <p:nvPr/>
        </p:nvPicPr>
        <p:blipFill>
          <a:blip r:embed="rId1"/>
          <a:stretch/>
        </p:blipFill>
        <p:spPr>
          <a:xfrm>
            <a:off x="539640" y="260280"/>
            <a:ext cx="1582920" cy="9399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56000" y="189000"/>
            <a:ext cx="61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"Сколько раз человек может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отвести взгляд, притворившись, что не увидел?"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Боб Дил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116000" y="1557360"/>
            <a:ext cx="705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Создать «Календарь экологических дат»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348000" y="333360"/>
            <a:ext cx="28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Цел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28" name="Рисунок 9" descr="blueman_301_01.png"/>
          <p:cNvPicPr/>
          <p:nvPr/>
        </p:nvPicPr>
        <p:blipFill>
          <a:blip r:embed="rId1"/>
          <a:stretch/>
        </p:blipFill>
        <p:spPr>
          <a:xfrm>
            <a:off x="7858080" y="4292640"/>
            <a:ext cx="128592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916360" y="260280"/>
            <a:ext cx="302400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Задачи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0" name=""/>
          <p:cNvSpPr/>
          <p:nvPr/>
        </p:nvSpPr>
        <p:spPr>
          <a:xfrm>
            <a:off x="900000" y="2060640"/>
            <a:ext cx="7148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95280" y="2133720"/>
            <a:ext cx="8137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истематизировать материал об экологических датах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2) Представить собранные сведения в  виде календаря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Рисунок 31" descr="blueman_107_01.png"/>
          <p:cNvPicPr/>
          <p:nvPr/>
        </p:nvPicPr>
        <p:blipFill>
          <a:blip r:embed="rId1"/>
          <a:stretch/>
        </p:blipFill>
        <p:spPr>
          <a:xfrm>
            <a:off x="8115480" y="5084640"/>
            <a:ext cx="1028520" cy="14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71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5  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июня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Times New Roman"/>
              </a:rPr>
              <a:t>5 июня 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- Всемирный День охраны окружающей среды. 15 декабря 1972 года Генеральная Ассамблея в резолюции 2994 (XXVII) объявила 5 июня Всемирным днем окружающей среды, который будет проводиться в целях углубления осознания общественностью необходимости сохранять и улучшать окружающую среду. Выбор этой даты обоснован тем, что в этот день открылась Конференция Организации Объединенных Наций по проблемам окружающей человека среды (Стокгольм, 1972 год), за которой последовало создание Программы Организации Объединенных Наций по окружающей среде (ЮНЕП)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i-main-pic" descr="Картинка 1 из 9643"/>
          <p:cNvPicPr/>
          <p:nvPr/>
        </p:nvPicPr>
        <p:blipFill>
          <a:blip r:embed="rId1"/>
          <a:stretch/>
        </p:blipFill>
        <p:spPr>
          <a:xfrm>
            <a:off x="755640" y="26028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135" name="i-main-pic" descr="Картинка 15 из 9643"/>
          <p:cNvPicPr/>
          <p:nvPr/>
        </p:nvPicPr>
        <p:blipFill>
          <a:blip r:embed="rId2"/>
          <a:stretch/>
        </p:blipFill>
        <p:spPr>
          <a:xfrm>
            <a:off x="5364000" y="260280"/>
            <a:ext cx="3095640" cy="214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835280" y="836640"/>
            <a:ext cx="554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-316080"/>
            <a:ext cx="9144000" cy="68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1   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апреля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Times New Roman"/>
              </a:rPr>
              <a:t>1 апреля 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- Международный День птиц. Действия по охране птиц были предприняты Русским комитетом акклиматизации животных еще в середине XIX века, а в 1910 году в Московском зоопарке и в Петровской сельскохозяйственной академии были организованы первые показательные птичьи станции. Впервые День птиц был проведен в 1924 году под руководством учителя Мазурова в Ермолинской школе Смоленской области. А в 1925 году зоолог Дергунов, работавший на биологической станции юных натуралистов имени К.А. Тимирязева, подготовил и опубликовал в «Листках БЮНа» специальную статью «Привлечение и охрана птиц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32000" y="333360"/>
            <a:ext cx="2881080" cy="19400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364000" y="260280"/>
            <a:ext cx="2808360" cy="20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476280"/>
            <a:ext cx="8964720" cy="59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4   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октября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4 октября - отмечается  католический праздник - День Святого Франциска-  покровителя священных животных. Решение о праздновании 4 октября Международного  дня защиты животных было принято в 1931 году на Международном конгрессе  сторонников движения в защиту природы, проходившем во Флоренц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2359080" cy="2448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580000" y="333360"/>
            <a:ext cx="174312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476280"/>
            <a:ext cx="914400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29 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декабря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ff"/>
                </a:solidFill>
                <a:latin typeface="Times New Roman"/>
              </a:rPr>
              <a:t>29 декабря</a:t>
            </a: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 – День биологического разнообразия. В Рио - де - Жанейро в 1992 г. На конфенции ООН по окружающей среде была принята I Конвенция о сохранении биоразнообразие, которую подписали официальные представители более чем 50 стран. Она вступила в силу 29 декабря 1993 года, и с тех пор этот день считается Международным днем биологического разнообраз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i-main-pic" descr="Картинка 32 из 2376"/>
          <p:cNvPicPr/>
          <p:nvPr/>
        </p:nvPicPr>
        <p:blipFill>
          <a:blip r:embed="rId1"/>
          <a:stretch/>
        </p:blipFill>
        <p:spPr>
          <a:xfrm>
            <a:off x="971640" y="260280"/>
            <a:ext cx="2565360" cy="2562120"/>
          </a:xfrm>
          <a:prstGeom prst="rect">
            <a:avLst/>
          </a:prstGeom>
          <a:ln w="0">
            <a:noFill/>
          </a:ln>
        </p:spPr>
      </p:pic>
      <p:pic>
        <p:nvPicPr>
          <p:cNvPr id="145" name="i-main-pic" descr="Картинка 60 из 8401"/>
          <p:cNvPicPr/>
          <p:nvPr/>
        </p:nvPicPr>
        <p:blipFill>
          <a:blip r:embed="rId2"/>
          <a:stretch/>
        </p:blipFill>
        <p:spPr>
          <a:xfrm>
            <a:off x="5580000" y="333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8820000" cy="65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29 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200" spc="-1" strike="noStrike">
                <a:solidFill>
                  <a:srgbClr val="ccecff"/>
                </a:solidFill>
                <a:latin typeface="Times New Roman"/>
              </a:rPr>
              <a:t>сентября</a:t>
            </a:r>
            <a:endParaRPr b="0" lang="en-US" sz="1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Каждый год в последний понедельник сентября многие страны мира отмечают Всемирный день моря. Этот праздник также как и большинство международных памятных календарных дней был учрежден благодаря ООН в 1978 году. И начиная с этой даты Международный день моря отмечают в последнюю неделю сентябр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cff"/>
                </a:solidFill>
                <a:latin typeface="Times New Roman"/>
              </a:rPr>
              <a:t>Этот праздник создавался для того, чтобы привлечь внимание мировой общественности к необходимости бережного отношения к морю и его глубинным ресурс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fImg1" descr=""/>
          <p:cNvPicPr/>
          <p:nvPr/>
        </p:nvPicPr>
        <p:blipFill>
          <a:blip r:embed="rId1"/>
          <a:stretch/>
        </p:blipFill>
        <p:spPr>
          <a:xfrm>
            <a:off x="5651640" y="260280"/>
            <a:ext cx="2952720" cy="1949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260280"/>
            <a:ext cx="2732400" cy="2032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2T07:19:48Z</dcterms:created>
  <dc:creator>ЧЕРНОВ АЛЕКСЕЙ</dc:creator>
  <dc:description/>
  <dc:language>en-US</dc:language>
  <cp:lastModifiedBy>Архангельская ООШ</cp:lastModifiedBy>
  <dcterms:modified xsi:type="dcterms:W3CDTF">2011-03-01T04:02:19Z</dcterms:modified>
  <cp:revision>50</cp:revision>
  <dc:subject/>
  <dc:title>Заголовок слайда отсутствует</dc:title>
</cp:coreProperties>
</file>