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9F7-93BE-4694-8F97-ECBE485B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685-3DE5-4369-9AC5-C0C16C6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578-FB43-4D85-81A5-3C4319CC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85D-3D51-49F0-A0B7-DDE2A80F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C0F-2FDE-49FB-A5BC-954BB698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65B9-55A5-4CD2-8E13-EC7ECD8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305A-9534-46C9-AC54-B0746C1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5712-2C59-4B0A-9A36-DC4286FA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FA12-7AD9-41E1-971D-8FFD8CCB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B189-694A-44AE-92E0-AAC39BF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CCFF-852C-4758-9A5F-D634CA0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F59-F3EF-44FE-8399-C9CE321A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D98D-7EA8-4B12-86BF-17ADF13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1F78-F000-4A3E-A101-03D7E29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47F6-13B5-4DF8-A744-91FD295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03B1-EEFA-48B1-91CA-94E0BFEB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061F-21BC-438E-813F-C6958057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7898-E904-43E8-9F25-7A39A81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A523-8494-43E9-8FF1-A2A9DD1A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1FC5-E2B0-4F16-902B-B05470E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C0A9-CA5F-473E-81CF-A150285D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E187-36CC-4085-B475-37E11F5D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8B2-B069-4960-BE56-0022D485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270B-2035-4954-95B0-A5B2512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4A86-0540-43F2-9530-22112C6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6CEF-E1AA-4E6F-9FC6-8377B4F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5A4C-6B52-4BD2-B9C2-7C63F6D3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51CA-AF7B-4F43-80E8-B9EB5EA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852F-5C16-46D2-8D05-2325973B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CEB1-642C-4A5A-802B-852279B9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8CCE-C2C0-4D56-A618-DB17DB19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3B59-5B62-480E-AB44-4E9F1E3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20D5-13F3-4E0A-86BC-B80E4E6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2A5-D42A-4724-AFA5-F1B5289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D2E8-E33E-4114-BE46-3531C0E3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3D9B-A86C-4E76-A9C0-A70B6642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BCB8-729E-43B7-AC02-AEBF73D0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50EB-3DC7-4759-961C-6123087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F901-30D7-42FF-94E8-657B040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B4EB-5D4F-4CB8-85D6-CA57305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7AB7-18D0-434F-8A2E-835A8DA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6768-49AA-4932-ABE9-B2BE9796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7436-A2CB-4F72-9B9A-6F5C17FF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9F2C-5757-4F14-B904-D703B00C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9CA-FE9A-474E-9029-BE22298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F928-DCC4-4D96-B7C6-9A0E2DDE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6E5A7-BDF8-4682-84F7-01024E1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8AFF-8753-41B2-B697-CCE2FBE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6A17-7BDA-4474-92AE-290EECA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F368-4FB9-4C5A-BE55-2C9C7E03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301D-5B3E-4E55-BD30-9EE5628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C578-3016-47DE-9D4E-51F6DF0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B016-46C2-4723-BA21-599647F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008F-EB94-4AC5-B178-EF807EDE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B753-2143-4068-B6E2-9650A643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EF7-04CA-490F-8326-C477FA5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95C47-7318-4890-BFF7-2DB3AB51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3C2C-1713-4B1C-AF0B-E6AB0AF7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56A4-16B0-44F0-A28B-FF84B47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BE7C-1867-4A35-8414-FDDF68E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2BE2-D45D-4012-AA49-4BBAA35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ACA7-8495-497C-BE51-9B2955B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6EF0-9326-44E1-972F-543A067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8F5F-3D66-4081-B4D6-0EC4523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8D31-6C9F-461B-83F7-0028785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D6EEE-30BF-4102-B427-67C2F39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C84-5F68-49EE-937C-D08EC5B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100A-8F8F-4D8C-A1DC-89356D9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7DFB9-0C00-47CC-A491-C994F9FE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81EB-AF8B-4A0E-9401-D5F83D10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1940-4295-4911-AD74-42E1A939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CE35-F72D-4CFC-82A7-7484F72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D439-32CE-4BA0-BBAC-9FBC6F7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D01A-129E-4898-ACAC-B810FCCC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1A2A-6E57-4B5F-89F2-851CBDF6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B0CB-DFCD-4D64-9DA4-E9EFD864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C4E3-E766-49DD-BD78-9272392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1F2-736E-4A98-8246-AF76ADC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D76C-5972-470E-8238-F6855E4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271E-BA08-4658-B6A6-183A351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721EC-B1AD-49D2-AD74-7BE9756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DC8B6-3974-4FBD-A831-F6CE885B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8212-AE72-4374-AC0A-45E1876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C3A-258F-4DBF-9025-5000931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C58-C84E-4F66-878C-987430B2A39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DDB-8C21-48D5-8CF4-CB28B23852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BE9-9FD4-4403-A669-C9679A3D6EA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C5F3-1EF0-4001-8E09-3A3A3F45C1A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757-C7BE-42DC-978F-BF92FF14046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C04-82B3-4B47-9B6F-0F44A811B48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EB59-21A7-4546-A12A-764FB55C1D1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aditio-ru.org/wiki" TargetMode="External"/><Relationship Id="rId3" Type="http://schemas.openxmlformats.org/officeDocument/2006/relationships/hyperlink" Target="http://traditio-ru.org/wiki" TargetMode="External"/><Relationship Id="rId4" Type="http://schemas.openxmlformats.org/officeDocument/2006/relationships/hyperlink" Target="http://traditio-ru.org/wiki" TargetMode="External"/><Relationship Id="rId5" Type="http://schemas.openxmlformats.org/officeDocument/2006/relationships/hyperlink" Target="http://traditio-ru.org/wiki" TargetMode="External"/><Relationship Id="rId6" Type="http://schemas.openxmlformats.org/officeDocument/2006/relationships/hyperlink" Target="http://traditio-ru.org/wiki" TargetMode="External"/><Relationship Id="rId7" Type="http://schemas.openxmlformats.org/officeDocument/2006/relationships/hyperlink" Target="http://mer.kakras.ru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Акуловская  СОШ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динцовский район, Московская область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Corbel"/>
              </a:rPr>
              <a:t>«Старинные меры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Corbel"/>
              </a:rPr>
              <a:t>в русских пословицах и поговорках»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Corbel"/>
              </a:rPr>
              <a:t>Исследовательская работа по математик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140120" y="5292720"/>
            <a:ext cx="643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: Калинин Ан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 «Б»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учный руководитель: Бенд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рина Евген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Локот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равнялся длине руки от пальцев до локтя (по другим данным — «расстояние по прямой от локтевого сгиба до конца вытянутого среднего пальца руки»). Величина этой древнейшей меры длины, по разным источникам, составляла от 38 до 47 см.  В розничной торговле холстом, сукном, полотном —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локот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был основной меро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6" descr=""/>
          <p:cNvPicPr/>
          <p:nvPr/>
        </p:nvPicPr>
        <p:blipFill>
          <a:blip r:embed="rId2"/>
          <a:stretch/>
        </p:blipFill>
        <p:spPr>
          <a:xfrm>
            <a:off x="3714840" y="2500200"/>
            <a:ext cx="23050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356840" y="-3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ля мелких мер длины базовой величиной была, применяемая испокон на Руси мера — «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пядь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».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Малая пядь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(говорили — «пядь»; с 17-го века она называлась — «четверть» аршина) — расстояние между концами расставленных большого и указательного (или среднего) пальцев = 17,78 cм.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Большая пядь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— расстояние между концами большого пальца и мизинца (22-23 см.).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Пядь с кувырком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(«пядень с кувырком», по Далю — «пядь с кувыркой») — пядь с прибавкой двух суставов указательного пальца = 27-31 см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Рисунок 5" descr=""/>
          <p:cNvPicPr/>
          <p:nvPr/>
        </p:nvPicPr>
        <p:blipFill>
          <a:blip r:embed="rId2"/>
          <a:stretch/>
        </p:blipFill>
        <p:spPr>
          <a:xfrm>
            <a:off x="3714840" y="3429000"/>
            <a:ext cx="2581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99760" y="-3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Вершо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равнялся 1/16 аршина, 1/4 четверти. В современном исчислении — 4,44 см. Наименование «Вершок» происходит от слова «верх».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ри определении роста человека или животного счёт велся после двух аршин (обязательных для нормального взрослого человека): если говорилось, что измеряемый был 15 вершков роста, то это означало, что он был 2 аршина 15 вершков, то есть 209 с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rcRect l="21413" t="45901" r="23134" b="38479"/>
          <a:stretch/>
        </p:blipFill>
        <p:spPr>
          <a:xfrm>
            <a:off x="1042920" y="4221000"/>
            <a:ext cx="7920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Старинные русские меры объём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ная русская дометрическая мера объема жидкостей —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едр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= 1/40 бочки = 10 кружек = 30 фунтов воды = 20 водочных бутылок (0,6) = 16 винных бутылок (0,75) = 100 чарок = 200 шкаликов = 12 литров (15 л — по другим источникам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едро — железная, деревянная или кожаная посуда, преимущественно цилиндрической формы, с ушками или дужкой для ноше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обиходе, два ведра на коромысле должны быть в «подъём женщине». Деление на более мелкие меры проводилось по двоичному принципу: ведро делили на 2 полуведра или на 4 четверти ведра или на 8 получетвертей, а также на кружки и чарк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Рисунок 7" descr="http://im5-tub-ru.yandex.net/i?id=364195891-06-72&amp;n=17"/>
          <p:cNvPicPr/>
          <p:nvPr/>
        </p:nvPicPr>
        <p:blipFill>
          <a:blip r:embed="rId2"/>
          <a:stretch/>
        </p:blipFill>
        <p:spPr>
          <a:xfrm>
            <a:off x="428760" y="2643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Боч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7136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Бочк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как мера жидкостей применялась в основном в процессе торговли с иностранцами, которым запрещалось вести розничную торговлю вином на малые меры. Равнялась 40 ведрам (492 л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i-main-pic" descr="Картинка 1 из 120592"/>
          <p:cNvPicPr/>
          <p:nvPr/>
        </p:nvPicPr>
        <p:blipFill>
          <a:blip r:embed="rId2"/>
          <a:srcRect l="2568" t="0" r="16407" b="7264"/>
          <a:stretch/>
        </p:blipFill>
        <p:spPr>
          <a:xfrm>
            <a:off x="6134040" y="3500280"/>
            <a:ext cx="300996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13840" y="499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ра «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утыл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» появилась в России при Петре I. Русская бутылка = 1/20 ведра = 1/2 штофа = 5 чарок = 0,6 лит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Штоф= 1/10 ведра = 10 чаркам = 1,23 л. Появился при Петре I. Служил мерой объема всех алкогольных напитков. По форме штоф был похож на четвер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Рисунок 10" descr="http://upload.wikimedia.org/wikipedia/commons/thumb/e/e1/Normflasche-1.jpg/220px-Normflasche-1.jpg"/>
          <p:cNvPicPr/>
          <p:nvPr/>
        </p:nvPicPr>
        <p:blipFill>
          <a:blip r:embed="rId2"/>
          <a:stretch/>
        </p:blipFill>
        <p:spPr>
          <a:xfrm>
            <a:off x="1357200" y="3286080"/>
            <a:ext cx="1276560" cy="25243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6" descr="Файл:Штофы.jpg"/>
          <p:cNvPicPr/>
          <p:nvPr/>
        </p:nvPicPr>
        <p:blipFill>
          <a:blip r:embed="rId3"/>
          <a:srcRect l="3621" t="2334" r="63201" b="4833"/>
          <a:stretch/>
        </p:blipFill>
        <p:spPr>
          <a:xfrm>
            <a:off x="6215040" y="2143080"/>
            <a:ext cx="17334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Старинные русские меры вес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Гривн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 Это наиболее распространенная мера веса в розничной торговле и ремесле. Ее применяли и для взвешивания металлов, в частности, золота и сереб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ерковец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— эта большая мера веса, употреблялась в оптовой торговле преимущественно для взвешивания воска, меда и т. д. Берковец — от названия острова Бьерк. Так на Руси называлась мера веса в 10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уд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как раз стандартная бочка с воском, которую один человек мог закатить на купеческую ладью, плывущую на этот самый остров. (163,8 кг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олотник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равнялся 1/96 фунта, в современном исчислении 4,26 г. Про него говорили: «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мал золотник да дорог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». Это слово, первоначально обозначало зoлотую монету. Чай покупали на золотни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356840" y="-3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Фунт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(от латинского слова  — вес, гиря) равнялся 32 лотам, 96 золотникам, 1/40 пуда, в современном исчислении 409,50 г. Используется в сочетаниях: «</a:t>
            </a: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не фунт изюм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», «</a:t>
            </a: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узнать почем фунт лих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». Русский фунт был принят при Алексее Михайловиче. Сахар продавали фунт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Рисунок 19" descr="Набор русских гирь весом 10, 5, 3, 2 и 1 фунт."/>
          <p:cNvPicPr/>
          <p:nvPr/>
        </p:nvPicPr>
        <p:blipFill>
          <a:blip r:embed="rId2"/>
          <a:stretch/>
        </p:blipFill>
        <p:spPr>
          <a:xfrm>
            <a:off x="4000680" y="4143240"/>
            <a:ext cx="2180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Источники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Большая энциклопедия школьника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Старинные задачи» - Баврин И.И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Учебник –собеседник по математике» 5кл., Виленкин Н.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Фразеологический словарь русского языка» - Федосов И.В., А.Н.Лапицкий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тернет – сайт «Википедия»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</a:t>
            </a: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://</a:t>
            </a: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traditio-ru.org</a:t>
            </a: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/</a:t>
            </a: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wik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Старинные русские меры длины, веса, объёма. KAKRAS.R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85560" y="499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«Ты все расположил мерою, числом и весом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(Книга Премудрости Соломона 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«Сердце верит, а душа — мерит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(Русская пословица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Мера — то, с помощью чего измеряют, мерил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Мера — величина, размер, степень чего-либ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Мера (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устар.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) — синоним для единицы  физической величи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Мера— средство измерений, предназначенное для воспроизведения и хранения   значения физической величи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Цель моего исследов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Расширить познания в предметной обла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лучить представление о старинных русскими единицах измерен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знакомиться с их соответствиями  современным мерам измерен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Раскрыть смысл пословиц и поговорок, в которых есть названия старинных мер измер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рименять знания в процессе обуч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Частные задачи исследов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Подготовить сообщения «Старинные русские меры длины», «Старинные русские меры веса», «Старинные меры объема»  и выступить с ними на занятиях математике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Найти задачи со старинными мерами длины, которые можно решить на занятиях математического клуба школ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Выяснить: в каких произведениях русских (российских) авторов встречаются старинные меры длины; определить, что означают фразеологизмы, содержащие старинные меры длины, веса, объе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Старинные русские меры длин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Верста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— старорусская путевая мера. Этим словом, первоначально называли расстояние, пройденное от одного поворота плуга до другого во время пахоты. До царя Алексея Михайловича в                 1 версте считали 1000 саженей. При Петре Первом одна верста равнялась 500 саженей, в современном исчислении — 213,36 X 500 = 1066,8 м. «Верстой» также назывался верстовой столб на  дороге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1" descr="http://school91.tyumen-city.ru/creat/proekt/selezneva_tatiana/Lermontov/image/versta.png"/>
          <p:cNvPicPr/>
          <p:nvPr/>
        </p:nvPicPr>
        <p:blipFill>
          <a:blip r:embed="rId2"/>
          <a:srcRect l="22685" t="7712" r="8940" b="6610"/>
          <a:stretch/>
        </p:blipFill>
        <p:spPr>
          <a:xfrm>
            <a:off x="1714680" y="3786120"/>
            <a:ext cx="3933720" cy="29624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3" descr="d31_3"/>
          <p:cNvPicPr/>
          <p:nvPr/>
        </p:nvPicPr>
        <p:blipFill>
          <a:blip r:embed="rId3"/>
          <a:stretch/>
        </p:blipFill>
        <p:spPr>
          <a:xfrm>
            <a:off x="6357960" y="3714840"/>
            <a:ext cx="20192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Старинные русские меры длин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ревнерусская мера —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ажен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— одна из наиболее распространенных на Руси мер длины. Различных по назначению (и, соответственно, величине) саженей было больше десяти. «Маховая сажень» — расстояние между концами пальцев широко расставленных рук взрослого мужчины. «Косая сажень» — самая длинная: расстояние от носка левой ноги до конца среднего пальца поднятой вверх правой руки. Используется в словосочетании: «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у него косая сажень в плечах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» (в значении — богатырь, великан). Наименование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жен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происходит от глагола сягать (досягать). Для определения значения древнерусской сажени большую роль сыграла находка камня, на котором была высечена славянскими буквами надпись: «В лето 6576 (1068 г.) индикта 6 дня, Глеб князь мерил … 10000 и 4000 сажен». Из сравнения этого результата с измерениями топографов получено значение сажени 151,4 с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Старинные русские меры длин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2"/>
          <a:stretch/>
        </p:blipFill>
        <p:spPr>
          <a:xfrm>
            <a:off x="3357720" y="1643040"/>
            <a:ext cx="39290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ажен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этим значением совпали результаты измерений храмов и значение русских народных мер. Существовали саженные мерные веревки и деревянные «складени», имевшие применение при измерении расстояний и в строительстве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данным историков и архитекторов, саженей было более 10 и они имели свои названия, были несоизмеримы и не кратны одна другой. Сажени: городовая — 284,8 см, без названия — 258,4 см, великая — 244,0 см, греческая — 230,4 см, казенная — 217,6 см, царская — 197,4 см, церковная — 186,4 см, народная — 176,0 см, кладочная — 159,7 см, простая — 150,8 см, малая — 142,4 см и ещё одна без названия — 134,5 см (данные из одного источника), а так же — дворовая, мостова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ахов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— расстояние между концами средних пальцев раскинутых в стороны рук — 1,76 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с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первоначально «косовая») — 2,48 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14280" y="285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Аршин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— старинная русская мера длины, равная, в современном исчислении 0,7112 м. Аршином, так же, называли мерную линейку, на которую, обычно, наносили деления в вершках. Возможно, первоначально, «аршин» обозначал длину человеческого шага. Корень «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Ар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» в слове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аршин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— в древнерусском языке (и в других, соседних) означает «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земля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», «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поверхность земли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», и указывает на то, что эта мера могла применяться при определении длины пройденного пешком пути. Было и другое название этой меры —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 В дальнейшем, стали так же применять, под этим названием, равную величину — длину ру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Рисунок 7" descr=""/>
          <p:cNvPicPr/>
          <p:nvPr/>
        </p:nvPicPr>
        <p:blipFill>
          <a:blip r:embed="rId2"/>
          <a:stretch/>
        </p:blipFill>
        <p:spPr>
          <a:xfrm>
            <a:off x="3857760" y="3500280"/>
            <a:ext cx="2533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43:13Z</dcterms:created>
  <dc:creator>As</dc:creator>
  <dc:description/>
  <dc:language>en-US</dc:language>
  <cp:lastModifiedBy>Компьютер</cp:lastModifiedBy>
  <dcterms:modified xsi:type="dcterms:W3CDTF">2011-11-18T17:09:40Z</dcterms:modified>
  <cp:revision>23</cp:revision>
  <dc:subject/>
  <dc:title>Слайд 1</dc:title>
</cp:coreProperties>
</file>