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7038-ACF7-47DC-9B80-0778B1CE8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43D9-05C4-46BF-91FA-932651E6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B9A1-1D9D-4466-92FD-2B730B7F9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832E-2370-44F2-9E53-36F1CC7BC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6387-A193-44AA-8F02-54069F7E0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A408-EDEE-4FF3-917C-442DA640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C7E7-EAF6-4CED-B454-4AFED1C5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638C-E867-4090-A303-24414514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DB6C-8179-49C5-AFC3-1822F55E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E773-63F2-4203-96C1-F1FAD9C8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F37C-B4E6-4C98-9F22-F0D1CDE2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C439-5C69-437A-AEE9-964CA619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5BF2-8CA9-4A35-95DE-4140680A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FBF1-C485-48D8-ADE5-0F2A45E7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D91D-1BA3-45AC-99C9-F9A92864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18AB-4F3C-43A8-BB8D-981546888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3354-AEAF-4656-9D97-562AE5C7E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8994-D8CD-4013-9CB7-FEA6B87D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133B-947C-4DDF-9D2F-D85AC3A6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4C35-C5B9-43E7-9F9C-81F1FD42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2423-10E7-4EE9-91C8-C8AE67F1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23F1-F8D0-4C4C-BE74-0B8AE3A1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9741-67A7-4FF2-BFFE-40C51687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4F7C-34BE-4C5B-A220-0600B54F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42D2-AA10-4F40-B071-16A357A7B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0BDC-58B7-46B1-9639-51924C184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2205000"/>
            <a:ext cx="7058160" cy="3168720"/>
          </a:xfrm>
          <a:prstGeom prst="rect">
            <a:avLst/>
          </a:prstGeom>
          <a:solidFill>
            <a:srgbClr val="99cc00">
              <a:alpha val="26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Arial Black"/>
              </a:rPr>
              <a:t>Сельское хозяйство и задачи линейного программирования</a:t>
            </a: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843280" y="4797000"/>
            <a:ext cx="5976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втор: Моргунов Ник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итель: Мосягина А. 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Типы задач линейного программирования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ксимальное паросоче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ксимальный по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анспортная 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гра с нулевой сум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и о кормах и рацио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и о назначени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Электронное учебное пособие «Интерактивная математика» издательства «Дрофа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6265800" y="2813040"/>
                <a:ext cx="12319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24</m:t>
                    </m:r>
                    <m:r>
                      <m:t xml:space="preserve">≥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5" name="" descr=""/>
          <p:cNvPicPr/>
          <p:nvPr/>
        </p:nvPicPr>
        <p:blipFill>
          <a:blip r:embed="rId2"/>
          <a:srcRect l="15476" t="15332" r="15043" b="154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443640" y="2421000"/>
                <a:ext cx="2376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75</m:t>
                    </m:r>
                    <m:r>
                      <m:t xml:space="preserve">y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708360" y="2765520"/>
                <a:ext cx="194328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24</m:t>
                    </m:r>
                    <m:r>
                      <m:t xml:space="preserve">y</m:t>
                    </m:r>
                    <m:r>
                      <m:t xml:space="preserve">≥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276720" y="4508640"/>
                <a:ext cx="259848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24</m:t>
                            </m:r>
                            <m:r>
                              <m:t xml:space="preserve">y</m:t>
                            </m:r>
                            <m:r>
                              <m:t xml:space="preserve">≥</m:t>
                            </m:r>
                            <m:r>
                              <m:t xml:space="preserve">6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75</m:t>
                            </m:r>
                            <m:r>
                              <m:t xml:space="preserve">y</m:t>
                            </m:r>
                            <m:r>
                              <m:t xml:space="preserve">≥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179280" y="2997360"/>
            <a:ext cx="2448000" cy="325764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усть в рацион войдут х кг пшеницы  и у кг гороха. Их стоимость составит 10х+13у рублей, содержание белка – 0,003х+0,024у кг, а углеводов —0,15х+0,075у кг. Нам нужно найти такие х и у, для которых выполняется система неравен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rcRect l="41847" t="27773" r="15043" b="1857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0920" y="465264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так, нужно купить 400 кг пшеницы и 200 кг гороха – лучший вариант найден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87640" y="292428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0,25х+0,3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64000" y="2637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(4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2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77080" y="119700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63640" y="981000"/>
            <a:ext cx="547236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07407E-006 L 0.09444 -0.14699 E">
                                      <p:cBhvr>
                                        <p:cTn id="6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2. Транспортные задачи.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ермеру необходимо вывезти с поля на свеклопункт сахарную свёклу. У него имеются в наличии две автомашины. Известно, что первая машина может сделать не больше 5 рейсов, а вторая – не больше 9. составьте план перевозок, который обеспечивал бы максимальную прибыль, наименьшие затраты на перевозку одной тонны груза. Данные приведены в табли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Пусть первая машина может сделать х рейсов, а вторая у. Составим систему неравенств: 3х+3у – груз перевозимый обеими машинами, 1,2х+1,6у – эксплуатационные издержки, 7х+9у – прибыль. Нам нужно найти решение системы неравенств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23950" t="32660" r="17333" b="22108"/>
          <a:stretch/>
        </p:blipFill>
        <p:spPr>
          <a:xfrm>
            <a:off x="2700360" y="1773360"/>
            <a:ext cx="5799240" cy="4349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771640" y="4869000"/>
            <a:ext cx="3527640" cy="1465560"/>
          </a:xfrm>
          <a:prstGeom prst="rect">
            <a:avLst/>
          </a:prstGeom>
          <a:solidFill>
            <a:srgbClr val="c1c2c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шением данной системы является точка с координатами (5;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ая машина должна сделать 5 рейсов, а вторая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16360" y="3284640"/>
            <a:ext cx="1152720" cy="368280"/>
          </a:xfrm>
          <a:prstGeom prst="rect">
            <a:avLst/>
          </a:prstGeom>
          <a:solidFill>
            <a:srgbClr val="f1f1f7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(5;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79640" y="1844640"/>
            <a:ext cx="4968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2410920" y="1412640"/>
            <a:ext cx="475164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826920" y="2637000"/>
                <a:ext cx="160992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≤</m:t>
                            </m:r>
                            <m:r>
                              <m:t xml:space="preserve">9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≤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cover dir="r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96296E-006 L 0.0158 -0.03149 E">
                                      <p:cBhvr>
                                        <p:cTn id="12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2.59259E-006 L 0.03143 -0.05254 E">
                                      <p:cBhvr>
                                        <p:cTn id="16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3. Задачи о назначениях.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видуальный предприниматель выращивает нутрий и кроликов; он имеет 1000 клеток, причём в одной клетке могут жить два кролика или одна нутрия; по плану нужно вырастить не менее 300 кроликов и не менее 600 нутрий; за сутки одному кролику скармливают 4 кормовые единицы, а нутрии 5 единиц. Всего за сутки разрешается истратить не больше 8000 кормовых единиц; сколько нужно вырастить кроликов и нутрий, чтобы средняя стоимость одной особи была минимальна, если стоимость выращивания одной нутрии – 450 рублей, а одного кролика – 250 рубле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26920" y="1557360"/>
            <a:ext cx="2160720" cy="792000"/>
          </a:xfrm>
          <a:prstGeom prst="rect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554200" y="2825640"/>
                <a:ext cx="49536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627960" y="2813040"/>
                <a:ext cx="5079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262240" y="4629240"/>
                <a:ext cx="1079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y</m:t>
                            </m:r>
                            <m:r>
                              <m:t xml:space="preserve">≤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00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0,5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≤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32" name="" descr=""/>
          <p:cNvPicPr/>
          <p:nvPr/>
        </p:nvPicPr>
        <p:blipFill>
          <a:blip r:embed="rId2"/>
          <a:srcRect l="41742" t="27686" r="15312" b="15311"/>
          <a:stretch/>
        </p:blipFill>
        <p:spPr>
          <a:xfrm>
            <a:off x="179280" y="189000"/>
            <a:ext cx="8713800" cy="6534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72000" y="4437000"/>
            <a:ext cx="3960720" cy="1465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: для наиболее выгодного содержания фермеру необходимо вырастить 300 кроликов и 850 нутр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508720" y="2997360"/>
            <a:ext cx="1326960" cy="475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6659640" y="1197000"/>
            <a:ext cx="1944720" cy="409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78000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03640" y="620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(300;8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19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187280" y="1699920"/>
            <a:ext cx="5977080" cy="3529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1052640"/>
            <a:ext cx="2303280" cy="1728720"/>
          </a:xfrm>
          <a:prstGeom prst="rect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826920" y="1125360"/>
                <a:ext cx="180036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y</m:t>
                            </m:r>
                            <m:r>
                              <m:t xml:space="preserve">≤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00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0,5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≤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342120" y="4629240"/>
                <a:ext cx="1079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y</m:t>
                            </m:r>
                            <m:r>
                              <m:t xml:space="preserve">≤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00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0,5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≤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cover dir="r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2:02:52Z</dcterms:created>
  <dc:creator>SamLab.ws</dc:creator>
  <dc:description/>
  <dc:language>en-US</dc:language>
  <cp:lastModifiedBy>SamLab.ws</cp:lastModifiedBy>
  <dcterms:modified xsi:type="dcterms:W3CDTF">2011-10-30T17:35:43Z</dcterms:modified>
  <cp:revision>14</cp:revision>
  <dc:subject/>
  <dc:title>Сельское хозяйство и задачи линейного программирования </dc:title>
</cp:coreProperties>
</file>