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4.jpeg" ContentType="image/jpeg"/>
  <Override PartName="/ppt/media/image21.wmf" ContentType="image/x-wmf"/>
  <Override PartName="/ppt/media/image23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87C0-F9CC-498B-85BD-C37ABA53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336-44A2-421C-B569-CD1DB191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4AA-C1E0-48B7-BD30-EDFD5EB2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121-C285-40DE-A9C4-DD1D613F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0EBF-0832-4E03-B604-5D9D3411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2327-95DE-4850-B2F3-C190C0C3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75EC-2380-41D9-BE2F-6526D477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46F1-3892-443A-818A-9EA8225B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0C59-B596-42D6-8A73-192577FB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FA7C-57CB-40AD-A99A-21F670DE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6985-8A34-468F-9258-63E90CD3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428-394A-45E5-8188-BE612996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56E3-9B0F-4DC4-9FE1-215B8A19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3357-28F9-43F5-B2F9-160EE67C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A138-2AFA-4BDE-B43F-AE8D014F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450D-1D04-43E9-AC1C-8D780158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DE6E-EF21-43D9-A538-BD42D8CA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8F788-0013-4EB1-9D7D-C5AEB306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0CAC0-752C-4BAA-ABF4-7ABE9E2A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5C77A-48E0-4E1A-B462-FC33AA9C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E5E39-53EF-496B-BB8F-11A5BF19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2925D-DC47-4D01-BD78-4BD28EB8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96E-2B85-4CE0-A774-C4EAA773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60173-D6C1-439A-A0C1-26FE760D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87E7-3018-4327-AA7A-6EEAAB9E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C176A-0C87-442E-A339-AF50EA51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7C09A-568D-432F-9234-1A563B12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E7A34-87EA-4E78-AFBD-4135E2E2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733C2-ED44-47E4-8C01-F7761DBD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7F900-09FC-4F7E-8F22-3A2B9C6F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EC64A-41FB-49F7-970C-E1B7BF6C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28BE0-3E66-46BE-84E0-A84902AD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7CA0A-5CD9-482F-826C-A81A8B1E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F45-A647-48EB-B309-9B952672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C471F-E5BF-4C1C-9949-243EED73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A3DC0-CD67-47F8-8D55-64809F54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F67C4-343A-4967-B12E-00D62A28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E7B07-B79D-4324-AAE3-1A62F68D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CC538-D70F-415B-8354-3F61F12C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89028-1A34-415F-8AAF-DE1BE48A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9E388-64D7-499A-A9AB-F5E57D68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D7149-46BC-4057-AF9F-8E9572D2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D3BD6-D070-4E81-AFE0-EF4B7A09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0E4-2E54-433D-98DB-00129D2F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BEC-06AD-4C49-9A84-48B02A8B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D57-9583-4A54-BBC4-99441D64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294-5266-4352-9AB6-F2F8C688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578-2D6E-4342-8272-068488FB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3978-3568-4EF9-84F1-2541FC3B2C4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3FF9-1450-42F8-8C55-1B975339698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7C0F-1E0B-4A07-81F3-96CDBAA7E7E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09F5-FF95-4D91-9409-34B3D4F94D7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chakra-health.com/Pictures/apteka/panzinorm-forte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5"/>
          <p:cNvSpPr/>
          <p:nvPr/>
        </p:nvSpPr>
        <p:spPr>
          <a:xfrm>
            <a:off x="1219320" y="297000"/>
            <a:ext cx="69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угов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6"/>
          <p:cNvSpPr txBox="1"/>
          <p:nvPr/>
        </p:nvSpPr>
        <p:spPr>
          <a:xfrm>
            <a:off x="1676520" y="160020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следовательская работа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WordArt 7"/>
          <p:cNvSpPr txBox="1"/>
          <p:nvPr/>
        </p:nvSpPr>
        <p:spPr>
          <a:xfrm>
            <a:off x="1143000" y="2362320"/>
            <a:ext cx="70102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886200" y="4716360"/>
            <a:ext cx="5257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762120" y="22608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учение состава и свой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ерментативных препара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 flipV="1" rot="10800000">
            <a:off x="4267080" y="3999240"/>
            <a:ext cx="4648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ученица 10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викова Е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Евстра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мии МОУ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Лугов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Проблема исследования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действие различных  ферментативных препаратов на гидролиз белков, жиров и углеводов пищи. возможность  замены  дорогих ферментативных препаратов на более дешёвы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Объект исследования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лекарственные препараты, их строение и свойст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Предмет исследования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ферментативные препарат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Методы исследования:</a:t>
            </a:r>
            <a:br>
              <a:rPr sz="45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 изучила  литературу по данному вопрос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учила мнение жителей поселка путем  анкетирова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равнила состав и ферментативные  свойства  8-ми энзимных препаратов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пределила активность ферментов Мезима, а также препаратов Фестала и Пакреати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пределила действие ферментов ( амилаз, протеаз, липаз)  с помощью  качественного и ферментативного  анализа   веще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C:\Users\ЛЕНА\Desktop\ХИМИЯ Бор\i[4].jpg"/>
          <p:cNvPicPr/>
          <p:nvPr/>
        </p:nvPicPr>
        <p:blipFill>
          <a:blip r:embed="rId1"/>
          <a:stretch/>
        </p:blipFill>
        <p:spPr>
          <a:xfrm>
            <a:off x="2819520" y="2971800"/>
            <a:ext cx="3298680" cy="32767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дролазы  - катализируют реакции гидролиз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447560"/>
            <a:ext cx="7696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теаз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расщепляют белки до аминокислот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милазы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ферменты, катализирующие гидролиз крахмал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ипаз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частвует в расщеплении жиров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ние активност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теаз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энзимных препара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52280" y="2475000"/>
          <a:ext cx="8839440" cy="4209840"/>
        </p:xfrm>
        <a:graphic>
          <a:graphicData uri="http://schemas.openxmlformats.org/drawingml/2006/table">
            <a:tbl>
              <a:tblPr/>
              <a:tblGrid>
                <a:gridCol w="2287800"/>
                <a:gridCol w="2170080"/>
                <a:gridCol w="2171520"/>
                <a:gridCol w="2210040"/>
              </a:tblGrid>
              <a:tr h="262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Темп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гидролиза определена по  изменению окраски  раствора белка  с 0,5% -  водным раствор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нгид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З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2 минуты приобрел  фиолетовую окраску в результате реакции с 0,5% -  водным раствором нингидри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С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1 минуту приобрел  фиолетовую окраску в результате реакции с 0,5% - ным водным раствором нингидри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КРЕАТ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8 минут приобрел  фиолетовую окраску в результате реакции с 0,5% - ным водным раствором нингидри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Действие табачного ды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летовая окраска  через 8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10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15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Действие спи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вор поменял окраску  через 5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вор поменял окраску через  10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вор  поменял окраску через 8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Прямоугольник 4"/>
          <p:cNvSpPr/>
          <p:nvPr/>
        </p:nvSpPr>
        <p:spPr>
          <a:xfrm>
            <a:off x="2971800" y="838080"/>
            <a:ext cx="5257800" cy="1295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5"/>
          <p:cNvSpPr/>
          <p:nvPr/>
        </p:nvSpPr>
        <p:spPr>
          <a:xfrm>
            <a:off x="2971800" y="828720"/>
            <a:ext cx="61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репараты содержат протеазы и осуществляется гидрол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 действие табачного дыма все препараты с большим трудом реагировали с раствором продуктов горения табака  и окраска на усиливала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 действие спирта  хуже  всего изменил окраску  препарат мезим, а лучше всего   фест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7" descr="forex trading logo"/>
          <p:cNvPicPr/>
          <p:nvPr/>
        </p:nvPicPr>
        <p:blipFill>
          <a:blip r:embed="rId1"/>
          <a:stretch/>
        </p:blipFill>
        <p:spPr>
          <a:xfrm>
            <a:off x="152280" y="1066680"/>
            <a:ext cx="2133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следование активност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милаз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энзимных препарат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743200" y="457200"/>
            <a:ext cx="6400800" cy="1295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2971800" y="689400"/>
            <a:ext cx="6172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репараты содержат амилазу, гидролиз проходит почти с одинаковой скор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укты горения табака подавляют действие фермента амилаз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нол подавляет действие фермента амилаз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52280" y="1828800"/>
          <a:ext cx="8763120" cy="5029200"/>
        </p:xfrm>
        <a:graphic>
          <a:graphicData uri="http://schemas.openxmlformats.org/drawingml/2006/table">
            <a:tbl>
              <a:tblPr/>
              <a:tblGrid>
                <a:gridCol w="2376720"/>
                <a:gridCol w="2077920"/>
                <a:gridCol w="2154240"/>
                <a:gridCol w="2154240"/>
              </a:tblGrid>
              <a:tr h="482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изменения окраски (исчезновение синей окраск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з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с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креот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Температура 40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2 минуты исчезла синяя окр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 минуты исчезла синяя окр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5 минут исчезла синяя окр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Действие табачного ды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8 минут исчезла окр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8 минут исчезла окр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10 минут исчезла окр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Действие спи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4 минуты исчезла синяя окра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2 минуты исчезла синяя окр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 6  минут исчезла синяя окрас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9" name="Picture 27" descr="forex trading logo"/>
          <p:cNvPicPr/>
          <p:nvPr/>
        </p:nvPicPr>
        <p:blipFill>
          <a:blip r:embed="rId1"/>
          <a:stretch/>
        </p:blipFill>
        <p:spPr>
          <a:xfrm>
            <a:off x="533520" y="762120"/>
            <a:ext cx="2057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следование активност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липаз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энзимных препарат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935000"/>
          <a:ext cx="8458200" cy="4291200"/>
        </p:xfrm>
        <a:graphic>
          <a:graphicData uri="http://schemas.openxmlformats.org/drawingml/2006/table">
            <a:tbl>
              <a:tblPr/>
              <a:tblGrid>
                <a:gridCol w="2293920"/>
                <a:gridCol w="2006640"/>
                <a:gridCol w="2077920"/>
                <a:gridCol w="2079720"/>
              </a:tblGrid>
              <a:tr h="46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з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с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креат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Темп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С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гидролиза определена по  изменению окраски  эмульсии жира с реактивом Фелин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5  минуты изменил окраску (желто – зеленый цв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2 минуты  быстрее всех изменил окраску (желто – зеленый цв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8 минут очень медленно изменял окрас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Действие табачного ды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5 минут изменил окрас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5 минут изменил окрас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8 минут изменил окрас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Действие спи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5 минут изменил окрас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7 минут изменил окрас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9 минут изменил окрас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Прямоугольник 3"/>
          <p:cNvSpPr/>
          <p:nvPr/>
        </p:nvSpPr>
        <p:spPr>
          <a:xfrm>
            <a:off x="3733920" y="457200"/>
            <a:ext cx="5181480" cy="1371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0"/>
          <p:cNvSpPr/>
          <p:nvPr/>
        </p:nvSpPr>
        <p:spPr>
          <a:xfrm>
            <a:off x="3809880" y="540000"/>
            <a:ext cx="5334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репараты содержат липазу, гидролиз проходит наиболее быстро под действием фест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укты горения табака оказывают слабое  действие на работу  фермента липаз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нол подавляет действие фермента липаз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2" descr="forex trading logo"/>
          <p:cNvPicPr/>
          <p:nvPr/>
        </p:nvPicPr>
        <p:blipFill>
          <a:blip r:embed="rId1"/>
          <a:stretch/>
        </p:blipFill>
        <p:spPr>
          <a:xfrm>
            <a:off x="1219320" y="533520"/>
            <a:ext cx="2286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исследуемые препараты: Мезим, а также Панкреатин и  Фестал  содержат  ферменты поджелудочной железы- протеазы, амилазы и липазы, которые  облегчают переваривание белков, жиров, углеводов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мерно одинаковая скорость гидролиза  свидетельствует о том, что  данные препараты одинаково  эффективно действуют на  процессы  пищевар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начит Мезим можно заменить аналогичными ферментативными препаратами, более дешевыми по цене, но равными  по действ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сокая цена- это не признак качества, а свидетельство оригинальности препарата и средств, затраченных на его разработку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82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зим- это оригинальный препарат (цена 250 руб средняя цена в стране, а панкреатин его копия- 34 рубля). Оригинальные препараты создаются   фармакологическими фирмами  длительное время и при использование огромного количества средств на их разработку. На эти лекарства фирмы получают патент, действующий 15-20 лет. Когда заканчивается патент, препарат может производить  кто угодно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зим, как и другие лекарственные аналоги, относится к препаратам заместительной терапии. Широкое  и постоянное использование таких препаратов по идее должно угнетать за ненадобностью биопродукцию своих собственных  ферментов. Мы посоветовали бы поостеречься от постоянного применения Мезим, дабы не усугублять положение , а то собственная поджелудочная железа совсем « разленится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чти 100% опрошенных жителей из числа курящих, курят после еды, то есть  тогда, когда выработка ферментов, переваривающих пищу в организме максимальна, что еще больше усугубляет проблемы с пищеварение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0" descr="http://im6-tub.yandex.net/i?id=215341429-04-24"/>
          <p:cNvPicPr/>
          <p:nvPr/>
        </p:nvPicPr>
        <p:blipFill>
          <a:blip r:embed="rId1"/>
          <a:stretch/>
        </p:blipFill>
        <p:spPr>
          <a:xfrm>
            <a:off x="4952880" y="51055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2" descr="Картинка 1 из 16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8" descr="http://im7-tub.yandex.net/i?id=39919655-23-24"/>
          <p:cNvPicPr/>
          <p:nvPr/>
        </p:nvPicPr>
        <p:blipFill>
          <a:blip r:embed="rId4"/>
          <a:stretch/>
        </p:blipFill>
        <p:spPr>
          <a:xfrm>
            <a:off x="4572000" y="838080"/>
            <a:ext cx="2133720" cy="1219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нзимные препараты в аптеке 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828800"/>
          <a:ext cx="5943600" cy="4668840"/>
        </p:xfrm>
        <a:graphic>
          <a:graphicData uri="http://schemas.openxmlformats.org/drawingml/2006/table">
            <a:tbl>
              <a:tblPr/>
              <a:tblGrid>
                <a:gridCol w="3200400"/>
                <a:gridCol w="274320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препар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препар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анкреат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анзинор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Мез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Мезим  «Форт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Фес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Дигес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Энзис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5" name="Picture 36" descr="http://im2-tub.yandex.net/i?id=88107993-20-24"/>
          <p:cNvPicPr/>
          <p:nvPr/>
        </p:nvPicPr>
        <p:blipFill>
          <a:blip r:embed="rId5"/>
          <a:stretch/>
        </p:blipFill>
        <p:spPr>
          <a:xfrm>
            <a:off x="7156440" y="0"/>
            <a:ext cx="19875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8" descr="http://im8-tub.yandex.net/i?id=56284635-20-24"/>
          <p:cNvPicPr/>
          <p:nvPr/>
        </p:nvPicPr>
        <p:blipFill>
          <a:blip r:embed="rId6"/>
          <a:stretch/>
        </p:blipFill>
        <p:spPr>
          <a:xfrm>
            <a:off x="7315200" y="4838760"/>
            <a:ext cx="1828800" cy="2019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4" descr="http://im5-tub.yandex.net/i?id=22733283-00-24"/>
          <p:cNvPicPr/>
          <p:nvPr/>
        </p:nvPicPr>
        <p:blipFill>
          <a:blip r:embed="rId7"/>
          <a:stretch/>
        </p:blipFill>
        <p:spPr>
          <a:xfrm>
            <a:off x="1143000" y="838080"/>
            <a:ext cx="2590920" cy="838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6" descr="http://im2-tub.yandex.net/i?id=50401060-02-24"/>
          <p:cNvPicPr/>
          <p:nvPr/>
        </p:nvPicPr>
        <p:blipFill>
          <a:blip r:embed="rId8"/>
          <a:stretch/>
        </p:blipFill>
        <p:spPr>
          <a:xfrm>
            <a:off x="6934320" y="23623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http://im7-tub.yandex.net/i?id=27969817-19-24"/>
          <p:cNvPicPr/>
          <p:nvPr/>
        </p:nvPicPr>
        <p:blipFill>
          <a:blip r:embed="rId1"/>
          <a:stretch/>
        </p:blipFill>
        <p:spPr>
          <a:xfrm rot="20040600">
            <a:off x="5459400" y="61884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не стало интерес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5000"/>
            <a:ext cx="784872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чему рекламируют в основном препарат «Мезим»?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ково его действие на организм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ково действие других ферментативных препаратов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к можно исследовать действие  данных препаратов на процессы пищеварения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асто ли жители нашего поселка используют данные препараты и каким отдают предпочтение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авда ли что «Мезим» для желудка незаменим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ктуальность проблемы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2362320"/>
            <a:ext cx="4343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14480" indent="-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Возникают  проблемы с         пищеварением- 80% опрошенных.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14480" indent="-11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4480" indent="-11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4480" indent="-11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"/>
          <p:cNvGraphicFramePr/>
          <p:nvPr/>
        </p:nvGraphicFramePr>
        <p:xfrm>
          <a:off x="4191120" y="1752480"/>
          <a:ext cx="3276360" cy="22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752480"/>
                    <a:ext cx="32763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Прямоугольник 5"/>
          <p:cNvSpPr/>
          <p:nvPr/>
        </p:nvSpPr>
        <p:spPr>
          <a:xfrm flipH="1">
            <a:off x="456480" y="442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1 раза в неделю до 1 раза в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5"/>
          <p:cNvGraphicFramePr/>
          <p:nvPr/>
        </p:nvGraphicFramePr>
        <p:xfrm>
          <a:off x="4267080" y="4267080"/>
          <a:ext cx="3353040" cy="243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4267080"/>
                    <a:ext cx="335304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83772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Причина-переедание и нарушение диеты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4" name="Object 2"/>
          <p:cNvGraphicFramePr/>
          <p:nvPr/>
        </p:nvGraphicFramePr>
        <p:xfrm>
          <a:off x="5105520" y="0"/>
          <a:ext cx="4038480" cy="22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0"/>
                    <a:ext cx="40384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Прямоугольник 4"/>
          <p:cNvSpPr/>
          <p:nvPr/>
        </p:nvSpPr>
        <p:spPr>
          <a:xfrm>
            <a:off x="457200" y="3105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Употребляют: мезим и фес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3276720" y="2286000"/>
          <a:ext cx="3352680" cy="213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286000"/>
                    <a:ext cx="33526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Прямоугольник 7"/>
          <p:cNvSpPr/>
          <p:nvPr/>
        </p:nvSpPr>
        <p:spPr>
          <a:xfrm flipH="1">
            <a:off x="1218600" y="4952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Влияние рекла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5"/>
          <p:cNvGraphicFramePr/>
          <p:nvPr/>
        </p:nvGraphicFramePr>
        <p:xfrm>
          <a:off x="5334120" y="4572000"/>
          <a:ext cx="3809880" cy="2286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572000"/>
                    <a:ext cx="3809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560" y="533520"/>
            <a:ext cx="51051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6. Знают как действуют- 4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1"/>
          <p:cNvGraphicFramePr/>
          <p:nvPr/>
        </p:nvGraphicFramePr>
        <p:xfrm>
          <a:off x="5715000" y="152280"/>
          <a:ext cx="3429000" cy="19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52280"/>
                    <a:ext cx="34290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Прямоугольник 5"/>
          <p:cNvSpPr/>
          <p:nvPr/>
        </p:nvSpPr>
        <p:spPr>
          <a:xfrm>
            <a:off x="762120" y="3105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Знают состав- 6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4800600" y="2438280"/>
          <a:ext cx="3429000" cy="213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43828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5"/>
          <p:cNvSpPr/>
          <p:nvPr/>
        </p:nvSpPr>
        <p:spPr>
          <a:xfrm>
            <a:off x="457200" y="51822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8.Не могут обойтись- 6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6"/>
          <p:cNvGraphicFramePr/>
          <p:nvPr/>
        </p:nvGraphicFramePr>
        <p:xfrm>
          <a:off x="5791320" y="4762440"/>
          <a:ext cx="3352680" cy="2095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5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762440"/>
                    <a:ext cx="33526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09480" y="3805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9.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потребляют родственники- 80%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1"/>
          <p:cNvGraphicFramePr/>
          <p:nvPr/>
        </p:nvGraphicFramePr>
        <p:xfrm>
          <a:off x="4952880" y="380880"/>
          <a:ext cx="4038840" cy="24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80880"/>
                    <a:ext cx="403884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Rectangle 3"/>
          <p:cNvSpPr/>
          <p:nvPr/>
        </p:nvSpPr>
        <p:spPr>
          <a:xfrm>
            <a:off x="762120" y="343260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0. Курят после еды- 64 % куря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4800600" y="3200400"/>
          <a:ext cx="4114800" cy="2590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200400"/>
                    <a:ext cx="41148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6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C:\Users\ЛЕНА\Desktop\ХИМИЯ Бор\iCAR34DNH.jpg"/>
          <p:cNvPicPr/>
          <p:nvPr/>
        </p:nvPicPr>
        <p:blipFill>
          <a:blip r:embed="rId1"/>
          <a:stretch/>
        </p:blipFill>
        <p:spPr>
          <a:xfrm rot="20660400">
            <a:off x="622440" y="2906280"/>
            <a:ext cx="5014800" cy="30481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ель работы 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088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яснить влияние  Мезима и других ферментативных  лекарственных препаратов на гидролиз пищевых продукт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5" descr="C:\Users\ЛЕНА\Desktop\ХИМИЯ Бор\i[9].jpg"/>
          <p:cNvPicPr/>
          <p:nvPr/>
        </p:nvPicPr>
        <p:blipFill>
          <a:blip r:embed="rId2"/>
          <a:stretch/>
        </p:blipFill>
        <p:spPr>
          <a:xfrm rot="20521800">
            <a:off x="4968720" y="3104640"/>
            <a:ext cx="3810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00000"/>
                </a:solidFill>
                <a:uFillTx/>
                <a:latin typeface="Calibri"/>
              </a:rPr>
              <a:t>Задачи исследов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7315200" cy="40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учить химико-аналитические  свойства  функциональных групп белков, жиров и углево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пределить  ферментативную  активность  лекарств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равнить  качественный состав и свойства ферментативных препарат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работать алгоритм качественного анализ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пределить  действие ферментов на  гидролиз белков, жиров и углево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равнить  работу ферментов в различных препарат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яснить влияние  табачного дыма и  алкоголя на работу фермент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5" descr="http://im4-tub.yandex.net/i?id=157471095-10-24"/>
          <p:cNvPicPr/>
          <p:nvPr/>
        </p:nvPicPr>
        <p:blipFill>
          <a:blip r:embed="rId1"/>
          <a:stretch/>
        </p:blipFill>
        <p:spPr>
          <a:xfrm>
            <a:off x="6705720" y="304920"/>
            <a:ext cx="2286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НА</dc:creator>
  <dc:description/>
  <dc:language>en-US</dc:language>
  <cp:lastModifiedBy>ЛЕНА</cp:lastModifiedBy>
  <dcterms:modified xsi:type="dcterms:W3CDTF">2011-04-21T04:22:5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