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29.png" ContentType="image/png"/>
  <Override PartName="/ppt/media/image6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676-A49B-4472-BB1F-4F973764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87C-EE64-4F78-B4BD-5D9A538D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18C-BC6F-45FC-9399-09602666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F98-3C91-4E1B-A698-9E435005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983-C392-4388-86D1-B9987E30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8A8-6E0D-4BB6-89C7-442A333E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AD0-5D8E-4F9B-AB7E-0B4F6957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A30-303A-4BBF-93CA-C67D3997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B85-209A-46F3-9A40-60B2E6E0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C02-B8C7-4AF4-A702-6601CFC3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246-F4C0-40CA-953F-A8ACFD5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36B-30B7-4921-9FC5-3E5A3C0F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C416-ED3D-4C58-B5C9-4900B5E92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fromweb.ru/images/news3/000000000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newsfromweb.ru/images/news3/0000000001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700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Старооскольский индустриальны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78128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ема: «Влияние социальных сетей Интернет на подростк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3440" y="4554360"/>
            <a:ext cx="3095640" cy="16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удентка гр.АК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ньев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ведева О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6381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рый Ос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360" y="4917960"/>
            <a:ext cx="3203640" cy="175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5205240"/>
            <a:ext cx="12812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95280" y="692280"/>
          <a:ext cx="8137440" cy="418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92280"/>
                    <a:ext cx="813744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4000" y="1139760"/>
          <a:ext cx="8604000" cy="3441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39760"/>
                    <a:ext cx="860400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33336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Согласны ли вы с тем, что существует тенденция к появлению зависимости человека от социальных сетей?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5640" y="2781360"/>
          <a:ext cx="6480360" cy="3147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781360"/>
                    <a:ext cx="648036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362640" y="5189400"/>
            <a:ext cx="278136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920" y="1989000"/>
            <a:ext cx="87850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щать фотографии своего дебоша на пьяной вечеринке - это может повредить при трудоустройстве на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робности романтических свиданий или слухи о личной жизни ваших друзей опять же оставляют отрицательное впечатление у стороннего наблюд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одить рабочее время за пополнением списка друзей или общением со старыми не лучший способ использовать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, вы считаете, что сможете удалить компрометирующие фотографии и стереть улики, но подобные изображения могут быть сохранены в кэше или где-то еще, и от них практически невозможно будет изба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-165240"/>
            <a:ext cx="66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Вещи, котор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не следу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делать в социальных сет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81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740720" y="545472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842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79244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ичение времени пребывания в се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иск альтернативных способов время препровождения (например, занятия спортом, рисование, вышивание, чтение книг и т.п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казание большего внимания своей реальной жизни (проблемам в школе, в семье, друзья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величение времени пребывания в компании дру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Пути решения проблем, связанных с использованием социальных се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201080" y="907920"/>
            <a:ext cx="1979280" cy="151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451640" y="4869000"/>
            <a:ext cx="1692360" cy="1623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00720" y="5300640"/>
            <a:ext cx="1584000" cy="1378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00000" y="5300640"/>
            <a:ext cx="2087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11592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Компьютер может стать другом или заклятым врагом, может помочь в беде, а может добавить кучу проблем, может помочь найти единомышленников, а может привести к одиночеств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324036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3240000" cy="217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87280" y="551664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Monotype Corsiva"/>
              </a:rPr>
              <a:t>Решать только ВАМ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549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смотреть влияние социальных сетей на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чи исследования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Выявить какие проблемы связаны с использованием Интерн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Выделить пути решения проблем, связанных с использованием социальных с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омпьютерная зависимость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1484280"/>
            <a:ext cx="2232000" cy="183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8000" y="5281560"/>
            <a:ext cx="2016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81720" y="200160"/>
            <a:ext cx="992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пособы виртуального общ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637920" cy="6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651640" y="3068640"/>
            <a:ext cx="3203280" cy="2401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414972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сеть — интерактивный многопользовательский веб-сайт, контент которого наполняется самими участниками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981000"/>
            <a:ext cx="3168720" cy="792360"/>
          </a:xfrm>
          <a:prstGeom prst="flowChartPunchedTape">
            <a:avLst/>
          </a:prstGeom>
          <a:gradFill rotWithShape="0">
            <a:gsLst>
              <a:gs pos="0">
                <a:srgbClr val="ccecff"/>
              </a:gs>
              <a:gs pos="50000">
                <a:srgbClr val="cc66ff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1655640" cy="792360"/>
          </a:xfrm>
          <a:prstGeom prst="flowChartPunchedTape">
            <a:avLst/>
          </a:prstGeom>
          <a:gradFill rotWithShape="0">
            <a:gsLst>
              <a:gs pos="0">
                <a:srgbClr val="ccecff"/>
              </a:gs>
              <a:gs pos="50000">
                <a:srgbClr val="cc66ff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ферен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2060640"/>
            <a:ext cx="792360" cy="792000"/>
          </a:xfrm>
          <a:prstGeom prst="flowChartPunchedTape">
            <a:avLst/>
          </a:prstGeom>
          <a:gradFill rotWithShape="0">
            <a:gsLst>
              <a:gs pos="0">
                <a:srgbClr val="ccecff"/>
              </a:gs>
              <a:gs pos="50000">
                <a:srgbClr val="cc66ff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2360" y="836640"/>
            <a:ext cx="2305080" cy="792000"/>
          </a:xfrm>
          <a:prstGeom prst="flowChartPunchedTape">
            <a:avLst/>
          </a:prstGeom>
          <a:gradFill rotWithShape="0">
            <a:gsLst>
              <a:gs pos="0">
                <a:srgbClr val="ccecff"/>
              </a:gs>
              <a:gs pos="50000">
                <a:srgbClr val="cc66ff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1916280"/>
            <a:ext cx="1368360" cy="792000"/>
          </a:xfrm>
          <a:prstGeom prst="flowChartPunchedTape">
            <a:avLst/>
          </a:prstGeom>
          <a:gradFill rotWithShape="0">
            <a:gsLst>
              <a:gs pos="0">
                <a:srgbClr val="ccecff"/>
              </a:gs>
              <a:gs pos="50000">
                <a:srgbClr val="cc66ff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3141720"/>
            <a:ext cx="3168720" cy="792000"/>
          </a:xfrm>
          <a:prstGeom prst="flowChartPunchedTape">
            <a:avLst/>
          </a:prstGeom>
          <a:gradFill rotWithShape="0">
            <a:gsLst>
              <a:gs pos="0">
                <a:srgbClr val="ccecff"/>
              </a:gs>
              <a:gs pos="50000">
                <a:srgbClr val="cc66ff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rcRect l="0" t="0" r="8994" b="0"/>
          <a:stretch/>
        </p:blipFill>
        <p:spPr>
          <a:xfrm>
            <a:off x="6588000" y="836640"/>
            <a:ext cx="2556000" cy="2370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26028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Социальные сети Ру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&quot;В контакте&quot; обошла &quot;Одноклассников&quot;"/>
          <p:cNvPicPr/>
          <p:nvPr/>
        </p:nvPicPr>
        <p:blipFill>
          <a:blip r:embed="rId3"/>
          <a:stretch/>
        </p:blipFill>
        <p:spPr>
          <a:xfrm>
            <a:off x="683892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14 из 407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7964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2360" y="1359000"/>
            <a:ext cx="6551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Контакт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популярная социальная сеть. зарегистрировано более 30 миллионов человек. Зарегистрированы все - от млада до вел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дноклассн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популярная социальная сеть. В «Одноклассниках» зарегистрированы  люди, окончившие школу или университет. Эта социальная сеть - возможность для них пообщаться со своими бывшими одноклассниками или однокурсниками, с которыми, возможно, они уже долго не виде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й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сайта Mail.Ru. При регистрации почты на этом сайте вам сразу предлагается создать страничку в «Моем мире». в основном «тусят» школьники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оложительные сторон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оциальных с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7128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Единственный способ связаться с человеком находящимся дале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иск человека по малому количеству свед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ольшой объем мультимедийной информации, в том числе и новинок аудио и видео фай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Хранилище для фотоальбомов, видеороликов и ваших личных запис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40360" y="3933720"/>
            <a:ext cx="286884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2087640" cy="1559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492360" y="465300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400" y="188640"/>
            <a:ext cx="663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трицательные сторон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оциальных с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ые сети вызывают самое настоящее привыкание, как наркот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Пробить» информацию о ком-то гораздо проще, чем раньше, и различным инстанциям это не составляет больших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латные услуги – рассылка смайл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сылка спам-сообщений и взлом аккаунтов, подмена стра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латные игровые услу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бор данных из игр, для занесения в список рассылки  рекл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лефонные мошенни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льшивые главные страниц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4296"/>
          <a:stretch/>
        </p:blipFill>
        <p:spPr>
          <a:xfrm>
            <a:off x="6502320" y="-100080"/>
            <a:ext cx="2641680" cy="1873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380360" y="2862360"/>
            <a:ext cx="171612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95280" y="54450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383160" y="4687920"/>
            <a:ext cx="2652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189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Результаты анкетир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5640" y="1341360"/>
          <a:ext cx="7848720" cy="3811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848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957240"/>
          <a:ext cx="8497800" cy="4127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957240"/>
                    <a:ext cx="84978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95280" y="765000"/>
          <a:ext cx="8497800" cy="37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765000"/>
                    <a:ext cx="849780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5:32:23Z</dcterms:created>
  <dc:creator>user</dc:creator>
  <dc:description/>
  <dc:language>en-US</dc:language>
  <cp:lastModifiedBy>Оксана</cp:lastModifiedBy>
  <dcterms:modified xsi:type="dcterms:W3CDTF">2012-01-19T06:30:42Z</dcterms:modified>
  <cp:revision>60</cp:revision>
  <dc:subject/>
  <dc:title>Слайд 1</dc:title>
</cp:coreProperties>
</file>