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jpeg" ContentType="image/jpeg"/>
  <Override PartName="/ppt/media/image2.png" ContentType="image/png"/>
  <Override PartName="/ppt/media/image24.jpeg" ContentType="image/jpeg"/>
  <Override PartName="/ppt/media/image15.png" ContentType="image/png"/>
  <Override PartName="/ppt/media/image40.jpeg" ContentType="image/jpeg"/>
  <Override PartName="/ppt/media/image44.jpeg" ContentType="image/jpeg"/>
  <Override PartName="/ppt/media/image38.jpeg" ContentType="image/jpeg"/>
  <Override PartName="/ppt/media/image46.jpeg" ContentType="image/jpeg"/>
  <Override PartName="/ppt/media/image54.png" ContentType="image/png"/>
  <Override PartName="/ppt/media/image41.jpeg" ContentType="image/jpeg"/>
  <Override PartName="/ppt/media/image45.jpeg" ContentType="image/jpeg"/>
  <Override PartName="/ppt/media/image55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3.jpeg" ContentType="image/jpeg"/>
  <Override PartName="/ppt/media/image37.jpeg" ContentType="image/jpeg"/>
  <Override PartName="/ppt/media/image51.png" ContentType="image/png"/>
  <Override PartName="/ppt/media/image53.png" ContentType="image/png"/>
  <Override PartName="/ppt/media/image56.png" ContentType="image/png"/>
  <Override PartName="/ppt/media/image36.jpeg" ContentType="image/jpeg"/>
  <Override PartName="/ppt/media/image11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994B-421E-4296-B03B-BA07A177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995C-F779-4FAB-B7B6-C95E826C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031-567D-4A94-ADB9-EE7434A2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5058-D92F-4CAC-AA3F-8D1BEBFD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6101-2CFF-4F44-A978-7DBF11EA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26BD-1E8B-49C8-9ECE-73E5562E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8F8-5F32-4509-AC7C-2CFCA13A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98F0-0109-45CA-A0C2-972BD9F7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0905-7013-4B93-BA9B-4346904E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501-7C94-4D19-8CD7-8A329DCB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C601-0F42-4577-9616-78AEAFE3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34F6-4289-47E9-8351-142C70B0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1FFB-2C4A-4EEE-A332-1B26EE13B4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elemniteDB2.jpg" TargetMode="External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581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5ffff"/>
                </a:solidFill>
                <a:latin typeface="Tahoma"/>
              </a:rPr>
              <a:t>Работу выполнил ученик 5 класса</a:t>
            </a:r>
            <a:br>
              <a:rPr sz="1600"/>
            </a:br>
            <a:r>
              <a:rPr b="1" i="1" lang="ru-RU" sz="1600" spc="-1" strike="noStrike">
                <a:solidFill>
                  <a:srgbClr val="e5ffff"/>
                </a:solidFill>
                <a:latin typeface="Tahoma"/>
              </a:rPr>
              <a:t>Воронин Олег</a:t>
            </a:r>
            <a:br>
              <a:rPr sz="1600"/>
            </a:br>
            <a:r>
              <a:rPr b="1" i="1" lang="ru-RU" sz="1600" spc="-1" strike="noStrike">
                <a:solidFill>
                  <a:srgbClr val="e5ffff"/>
                </a:solidFill>
                <a:latin typeface="Tahoma"/>
              </a:rPr>
              <a:t>2011-2012  уч. г.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267920"/>
            <a:ext cx="640080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следовательская работа на тем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WordArt 7"/>
          <p:cNvSpPr txBox="1"/>
          <p:nvPr/>
        </p:nvSpPr>
        <p:spPr>
          <a:xfrm rot="20280600">
            <a:off x="390240" y="3198960"/>
            <a:ext cx="7651800" cy="20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5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Минералы Дмитровского район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под микроскоп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1844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емень (нашёл на карьер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икроскоп видны небольшие углубления, выступы, плавные и резкие переходы цве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Рисунок 11" descr="Описание: C:\Users\Галя\Desktop\минералы\IMG_0422.JPG"/>
          <p:cNvPicPr/>
          <p:nvPr/>
        </p:nvPicPr>
        <p:blipFill>
          <a:blip r:embed="rId1"/>
          <a:stretch/>
        </p:blipFill>
        <p:spPr>
          <a:xfrm>
            <a:off x="3564000" y="2349360"/>
            <a:ext cx="2303280" cy="17211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8" descr="Описание: C:\Users\Галя\Desktop\минералы\IMG_0419.JPG"/>
          <p:cNvPicPr/>
          <p:nvPr/>
        </p:nvPicPr>
        <p:blipFill>
          <a:blip r:embed="rId2"/>
          <a:stretch/>
        </p:blipFill>
        <p:spPr>
          <a:xfrm>
            <a:off x="4643280" y="4149720"/>
            <a:ext cx="2376720" cy="17794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9" descr="Описание: C:\Users\Галя\Desktop\минералы\IMG_0418.JPG"/>
          <p:cNvPicPr/>
          <p:nvPr/>
        </p:nvPicPr>
        <p:blipFill>
          <a:blip r:embed="rId3"/>
          <a:stretch/>
        </p:blipFill>
        <p:spPr>
          <a:xfrm>
            <a:off x="539640" y="2276640"/>
            <a:ext cx="2376720" cy="17794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0" descr="Описание: C:\Users\Галя\Desktop\минералы\IMG_0420.JPG"/>
          <p:cNvPicPr/>
          <p:nvPr/>
        </p:nvPicPr>
        <p:blipFill>
          <a:blip r:embed="rId4"/>
          <a:stretch/>
        </p:blipFill>
        <p:spPr>
          <a:xfrm>
            <a:off x="1116000" y="4076640"/>
            <a:ext cx="2376360" cy="17794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Описание: C:\Users\Галя\Desktop\минералы\IMG_0421.JPG"/>
          <p:cNvPicPr/>
          <p:nvPr/>
        </p:nvPicPr>
        <p:blipFill>
          <a:blip r:embed="rId5"/>
          <a:stretch/>
        </p:blipFill>
        <p:spPr>
          <a:xfrm>
            <a:off x="6156360" y="2276640"/>
            <a:ext cx="2305080" cy="1725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720" y="26287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0" y="6889320"/>
            <a:ext cx="25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Calibri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6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под микроскоп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нит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Нашел в мкр РТС, в большой ям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микроскопом видны все составляющие гранит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Рисунок 14" descr="Описание: C:\Users\Галя\Desktop\минералы\IMG_0417.JPG"/>
          <p:cNvPicPr/>
          <p:nvPr/>
        </p:nvPicPr>
        <p:blipFill>
          <a:blip r:embed="rId1"/>
          <a:stretch/>
        </p:blipFill>
        <p:spPr>
          <a:xfrm>
            <a:off x="5646600" y="3068640"/>
            <a:ext cx="2519640" cy="1886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3" descr="Описание: C:\Users\Галя\Desktop\минералы\IMG_0416.JPG"/>
          <p:cNvPicPr/>
          <p:nvPr/>
        </p:nvPicPr>
        <p:blipFill>
          <a:blip r:embed="rId2"/>
          <a:stretch/>
        </p:blipFill>
        <p:spPr>
          <a:xfrm>
            <a:off x="3132000" y="3062160"/>
            <a:ext cx="2514600" cy="18925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2" descr="Описание: C:\Users\Галя\Desktop\минералы\IMG_0423.JPG"/>
          <p:cNvPicPr/>
          <p:nvPr/>
        </p:nvPicPr>
        <p:blipFill>
          <a:blip r:embed="rId3"/>
          <a:stretch/>
        </p:blipFill>
        <p:spPr>
          <a:xfrm>
            <a:off x="611280" y="3068640"/>
            <a:ext cx="2520720" cy="18939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720" y="-3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720" y="16790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0" y="3412080"/>
            <a:ext cx="259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Calibri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8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под микроскоп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юд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Выдолбил из гранита, найденного в мкр РТС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 микроскопом можно увидеть кристаллы слюды в виде замысловатых полосо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Рисунок 17" descr="Описание: C:\Users\Галя\Desktop\минералы\IMG_0409.JPG"/>
          <p:cNvPicPr/>
          <p:nvPr/>
        </p:nvPicPr>
        <p:blipFill>
          <a:blip r:embed="rId1"/>
          <a:stretch/>
        </p:blipFill>
        <p:spPr>
          <a:xfrm>
            <a:off x="395280" y="4221000"/>
            <a:ext cx="2171880" cy="1629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9" descr="Описание: C:\Users\Галя\Desktop\минералы\IMG_0411.JPG"/>
          <p:cNvPicPr/>
          <p:nvPr/>
        </p:nvPicPr>
        <p:blipFill>
          <a:blip r:embed="rId2"/>
          <a:stretch/>
        </p:blipFill>
        <p:spPr>
          <a:xfrm>
            <a:off x="395280" y="2664000"/>
            <a:ext cx="2171880" cy="16286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0" descr=""/>
          <p:cNvPicPr/>
          <p:nvPr/>
        </p:nvPicPr>
        <p:blipFill>
          <a:blip r:embed="rId3"/>
          <a:stretch/>
        </p:blipFill>
        <p:spPr>
          <a:xfrm>
            <a:off x="4653000" y="2671920"/>
            <a:ext cx="2871720" cy="3159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8" descr="Описание: C:\Users\Галя\Desktop\минералы\IMG_0410.JPG"/>
          <p:cNvPicPr/>
          <p:nvPr/>
        </p:nvPicPr>
        <p:blipFill>
          <a:blip r:embed="rId4"/>
          <a:stretch/>
        </p:blipFill>
        <p:spPr>
          <a:xfrm>
            <a:off x="2505240" y="2664000"/>
            <a:ext cx="2138040" cy="16063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Описание: C:\Users\Галя\Desktop\минералы\IMG_0407.JPG"/>
          <p:cNvPicPr/>
          <p:nvPr/>
        </p:nvPicPr>
        <p:blipFill>
          <a:blip r:embed="rId5"/>
          <a:stretch/>
        </p:blipFill>
        <p:spPr>
          <a:xfrm>
            <a:off x="2527200" y="4260960"/>
            <a:ext cx="2116080" cy="15890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0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98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под микроскоп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варц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Нашел в мкр РТС, в большой яме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фотографии  можно увидеть кристаллы кварца (молочного и красного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Рисунок 6" descr="Описание: C:\Users\Галя\Desktop\минералы\IMG_0413.JPG"/>
          <p:cNvPicPr/>
          <p:nvPr/>
        </p:nvPicPr>
        <p:blipFill>
          <a:blip r:embed="rId1"/>
          <a:stretch/>
        </p:blipFill>
        <p:spPr>
          <a:xfrm>
            <a:off x="5003640" y="3068640"/>
            <a:ext cx="2160720" cy="16272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Описание: C:\Users\Галя\Desktop\минералы\IMG_0415.JPG"/>
          <p:cNvPicPr/>
          <p:nvPr/>
        </p:nvPicPr>
        <p:blipFill>
          <a:blip r:embed="rId2"/>
          <a:stretch/>
        </p:blipFill>
        <p:spPr>
          <a:xfrm>
            <a:off x="2627280" y="3068640"/>
            <a:ext cx="2160720" cy="16272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" descr="Описание: C:\Users\Галя\Desktop\минералы\IMG_0414.JPG"/>
          <p:cNvPicPr/>
          <p:nvPr/>
        </p:nvPicPr>
        <p:blipFill>
          <a:blip r:embed="rId3"/>
          <a:stretch/>
        </p:blipFill>
        <p:spPr>
          <a:xfrm>
            <a:off x="0" y="3068640"/>
            <a:ext cx="2195640" cy="16527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-2520" y="1190160"/>
            <a:ext cx="41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Calibri"/>
              </a:rPr>
              <a:t>    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-4320" y="2641320"/>
            <a:ext cx="49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Calibri"/>
              </a:rPr>
              <a:t>      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3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под микроскоп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8160" y="1980720"/>
            <a:ext cx="82882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лемнит (чёртов палец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нашел в куче гравия недалеко от п. Мельчевки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икроскоп можно увидеть кристаллизировавшиеся ткани раковины белемнита, впадины и трещины старинной окаменел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Рисунок 23" descr="Описание: C:\Users\Галя\Desktop\минералы\IMG_0427.JPG"/>
          <p:cNvPicPr/>
          <p:nvPr/>
        </p:nvPicPr>
        <p:blipFill>
          <a:blip r:embed="rId1"/>
          <a:stretch/>
        </p:blipFill>
        <p:spPr>
          <a:xfrm>
            <a:off x="398520" y="2714760"/>
            <a:ext cx="1809720" cy="13618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2" descr="Описание: C:\Users\Галя\Desktop\минералы\IMG_0426.JPG"/>
          <p:cNvPicPr/>
          <p:nvPr/>
        </p:nvPicPr>
        <p:blipFill>
          <a:blip r:embed="rId2"/>
          <a:stretch/>
        </p:blipFill>
        <p:spPr>
          <a:xfrm>
            <a:off x="395280" y="4076640"/>
            <a:ext cx="1809720" cy="13622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21" descr="Описание: C:\Users\Галя\Desktop\минералы\IMG_0425.JPG"/>
          <p:cNvPicPr/>
          <p:nvPr/>
        </p:nvPicPr>
        <p:blipFill>
          <a:blip r:embed="rId3"/>
          <a:stretch/>
        </p:blipFill>
        <p:spPr>
          <a:xfrm>
            <a:off x="2178000" y="2733840"/>
            <a:ext cx="1790640" cy="13428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5" descr="Описание: C:\Users\Галя\Desktop\минералы\IMG_0424.JPG"/>
          <p:cNvPicPr/>
          <p:nvPr/>
        </p:nvPicPr>
        <p:blipFill>
          <a:blip r:embed="rId4"/>
          <a:stretch/>
        </p:blipFill>
        <p:spPr>
          <a:xfrm>
            <a:off x="2158920" y="4067280"/>
            <a:ext cx="1809720" cy="13618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7" descr="Описание: C:\Users\Галя\Desktop\минералы\IMG_0428.JPG"/>
          <p:cNvPicPr/>
          <p:nvPr/>
        </p:nvPicPr>
        <p:blipFill>
          <a:blip r:embed="rId5"/>
          <a:stretch/>
        </p:blipFill>
        <p:spPr>
          <a:xfrm>
            <a:off x="3968640" y="2733840"/>
            <a:ext cx="1814760" cy="13572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720" y="2723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0" y="432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6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25" descr="Описание: http://upload.wikimedia.org/wikipedia/commons/thumb/3/33/BelemniteDB2.jpg/220px-BelemniteDB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57360"/>
            <a:ext cx="2457360" cy="34369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26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572000" cy="34322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800" y="32853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614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2625840" y="3213000"/>
            <a:ext cx="1803240" cy="792360"/>
          </a:xfrm>
          <a:prstGeom prst="pi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елемн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ывод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инерал – это природное тело с определённым химическим составом и кристаллической структурой, образующееся в результате природных физико-химических процессов и обладающее определёнными физическими, механическими и химическими свойств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ходе своих исследований я узнал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 микроскопом можно увидеть мелкие кристаллы, незаметные невооружённым глазом конструкц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митровском районе встречаются различные минерал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инералы окружают нас повсю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знь человека невозможно представить без минералов. Их используют в строительстве, быту, производстве или же просто коллекционирую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сточники литератур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нига «Самый Популярный Справочник ДРАГОЦЕННЫЕ КАМНИ И МИНЕРАЛЫ» Корнелия Суссик-Форнефель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тернет – энциклопедия «Википед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3" descr=""/>
          <p:cNvPicPr/>
          <p:nvPr/>
        </p:nvPicPr>
        <p:blipFill>
          <a:blip r:embed="rId1"/>
          <a:stretch/>
        </p:blipFill>
        <p:spPr>
          <a:xfrm>
            <a:off x="0" y="4041720"/>
            <a:ext cx="414036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03640" cy="2390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2"/>
          <a:stretch/>
        </p:blipFill>
        <p:spPr>
          <a:xfrm>
            <a:off x="2987640" y="0"/>
            <a:ext cx="3745080" cy="3745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"/>
          <p:cNvPicPr/>
          <p:nvPr/>
        </p:nvPicPr>
        <p:blipFill>
          <a:blip r:embed="rId3"/>
          <a:stretch/>
        </p:blipFill>
        <p:spPr>
          <a:xfrm>
            <a:off x="4788000" y="5114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"/>
          <p:cNvPicPr/>
          <p:nvPr/>
        </p:nvPicPr>
        <p:blipFill>
          <a:blip r:embed="rId4"/>
          <a:stretch/>
        </p:blipFill>
        <p:spPr>
          <a:xfrm>
            <a:off x="0" y="2349360"/>
            <a:ext cx="3398760" cy="2354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5"/>
          <a:stretch/>
        </p:blipFill>
        <p:spPr>
          <a:xfrm>
            <a:off x="2700360" y="3573360"/>
            <a:ext cx="2979720" cy="1982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6"/>
          <a:stretch/>
        </p:blipFill>
        <p:spPr>
          <a:xfrm>
            <a:off x="0" y="4695840"/>
            <a:ext cx="2700360" cy="2162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7"/>
          <a:stretch/>
        </p:blipFill>
        <p:spPr>
          <a:xfrm>
            <a:off x="5904000" y="3141720"/>
            <a:ext cx="3240000" cy="2147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8"/>
          <a:stretch/>
        </p:blipFill>
        <p:spPr>
          <a:xfrm>
            <a:off x="6516720" y="0"/>
            <a:ext cx="2627280" cy="1968480"/>
          </a:xfrm>
          <a:prstGeom prst="rect">
            <a:avLst/>
          </a:prstGeom>
          <a:ln w="0">
            <a:noFill/>
          </a:ln>
        </p:spPr>
      </p:pic>
      <p:sp>
        <p:nvSpPr>
          <p:cNvPr id="148" name="WordArt 12"/>
          <p:cNvSpPr txBox="1"/>
          <p:nvPr/>
        </p:nvSpPr>
        <p:spPr>
          <a:xfrm rot="21047400">
            <a:off x="1510920" y="1125000"/>
            <a:ext cx="7632720" cy="33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65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792000"/>
                </a:gradFill>
                <a:latin typeface="Impact"/>
              </a:rPr>
              <a:t>Спасибо за внимание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792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Что такое минералы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91516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нералы – это определенные вещества, которые обладают кристаллической структурой и самостоятельно образуются в приро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нералы распространены по всю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ш дом, Земля, Луна, Солнечная система, Вселенная – везде мы можем встретить минерал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сегодняшний день известно более 4-х тысяч видов минерал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ждый год открывают несколько десятков видов новых минерал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7380360" y="981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2"/>
          <a:stretch/>
        </p:blipFill>
        <p:spPr>
          <a:xfrm>
            <a:off x="6227640" y="4292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6732720" y="2781360"/>
            <a:ext cx="2200320" cy="2076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4"/>
          <a:stretch/>
        </p:blipFill>
        <p:spPr>
          <a:xfrm>
            <a:off x="5364000" y="1413000"/>
            <a:ext cx="2095560" cy="21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к образуются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вестно 3 процесса образования минера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3384720" cy="2171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3780000" y="2924280"/>
            <a:ext cx="2984400" cy="2093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3"/>
          <a:stretch/>
        </p:blipFill>
        <p:spPr>
          <a:xfrm>
            <a:off x="7238880" y="2492280"/>
            <a:ext cx="190512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4"/>
          <a:stretch/>
        </p:blipFill>
        <p:spPr>
          <a:xfrm>
            <a:off x="6084720" y="4653000"/>
            <a:ext cx="2735280" cy="20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к образуются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ый – связан с магмой. Магма – это расплав, который содержит практически все химические элементы, летучие компоненты и воду в виде пара и образуется в недрах земли. Температура магмы достигает 1200°С и, попадая в более холодные верхние слои земной коры, магма начинает остыват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к образуются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торой процесс минералообразования связан с внешними факторами, такими как солнечное излучение, осадки, выветривание, суточные и годовые колебания температу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к образуются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тий процесс связан воздействием на  уже образовавшиеся минералы колебаний давления и температуры. Например, при воздействии внедрившейся магмы на известняки образуется мрам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6734160" y="2781360"/>
            <a:ext cx="2409840" cy="2421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инералы Подмосковь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611964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одмосковье встречаются различные минералы. Например кремень, кварц, халцедон, агат, гипс, железный колчедан и 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6588000" y="1341360"/>
            <a:ext cx="2556000" cy="189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6300720" y="4724280"/>
            <a:ext cx="2843280" cy="230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4"/>
          <a:stretch/>
        </p:blipFill>
        <p:spPr>
          <a:xfrm>
            <a:off x="3635280" y="4422600"/>
            <a:ext cx="3095640" cy="243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5"/>
          <a:stretch/>
        </p:blipFill>
        <p:spPr>
          <a:xfrm>
            <a:off x="1116000" y="4651200"/>
            <a:ext cx="2592360" cy="2206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6"/>
          <a:stretch/>
        </p:blipFill>
        <p:spPr>
          <a:xfrm>
            <a:off x="0" y="3716280"/>
            <a:ext cx="111600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инералы Подмосковь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митрове  встречаются различные минералы. Их находят в Дмитровском карьере. Кроме кремней среди флювиогляциальных образований в Дмитровских карьерах можно найти: небольшие жеоды кварца в валунах окремненных известняков; красивые кристаллы граната, андалузита и ставролита в гальке и валунах кристаллических сланцев, принесенных в Подмосковье из далекой Карелии в ледниковую эпоху; окремненные палеозойские кораллы и изредка хорошей сохранности аммониты, белемниты и пелециподы в обломках ожелезненных мезозойских аргиллитов, которые где-то рядом были захвачены ледниковыми процесс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227640" y="4673520"/>
            <a:ext cx="2916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ои исследов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497844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меня тоже есть образцы разных видов. Это кремень, гранит, известняк, кварц, слюда, белемнит  (чёртов палец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4" descr="IMG_0580"/>
          <p:cNvPicPr/>
          <p:nvPr/>
        </p:nvPicPr>
        <p:blipFill>
          <a:blip r:embed="rId1"/>
          <a:stretch/>
        </p:blipFill>
        <p:spPr>
          <a:xfrm>
            <a:off x="1979640" y="5445000"/>
            <a:ext cx="2087640" cy="1567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IMG_0583"/>
          <p:cNvPicPr/>
          <p:nvPr/>
        </p:nvPicPr>
        <p:blipFill>
          <a:blip r:embed="rId2"/>
          <a:stretch/>
        </p:blipFill>
        <p:spPr>
          <a:xfrm>
            <a:off x="-108000" y="3789360"/>
            <a:ext cx="2195640" cy="164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IMG_0585"/>
          <p:cNvPicPr/>
          <p:nvPr/>
        </p:nvPicPr>
        <p:blipFill>
          <a:blip r:embed="rId3"/>
          <a:stretch/>
        </p:blipFill>
        <p:spPr>
          <a:xfrm>
            <a:off x="4067280" y="5445000"/>
            <a:ext cx="2233440" cy="167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IMG_0588"/>
          <p:cNvPicPr/>
          <p:nvPr/>
        </p:nvPicPr>
        <p:blipFill>
          <a:blip r:embed="rId4"/>
          <a:stretch/>
        </p:blipFill>
        <p:spPr>
          <a:xfrm>
            <a:off x="1908000" y="380844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IMG_0592"/>
          <p:cNvPicPr/>
          <p:nvPr/>
        </p:nvPicPr>
        <p:blipFill>
          <a:blip r:embed="rId5"/>
          <a:stretch/>
        </p:blipFill>
        <p:spPr>
          <a:xfrm>
            <a:off x="4067280" y="3805200"/>
            <a:ext cx="2233440" cy="1676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IMG_0586"/>
          <p:cNvPicPr/>
          <p:nvPr/>
        </p:nvPicPr>
        <p:blipFill>
          <a:blip r:embed="rId6"/>
          <a:stretch/>
        </p:blipFill>
        <p:spPr>
          <a:xfrm>
            <a:off x="0" y="5445000"/>
            <a:ext cx="20289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8:04:06Z</dcterms:created>
  <dc:creator>duk</dc:creator>
  <dc:description/>
  <dc:language>en-US</dc:language>
  <cp:lastModifiedBy>AG</cp:lastModifiedBy>
  <dcterms:modified xsi:type="dcterms:W3CDTF">2011-12-19T09:31:24Z</dcterms:modified>
  <cp:revision>8</cp:revision>
  <dc:subject/>
  <dc:title>Слайд 1</dc:title>
</cp:coreProperties>
</file>