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6.png" ContentType="image/png"/>
  <Override PartName="/ppt/media/image33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272A-4F5D-4C0A-8118-6A5D21FB4B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9F5B-A324-4E3E-B7A5-94D9C579CA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AD82-57A2-4443-AB60-9DEAC2D7E4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59D6-7EC3-4315-9B7E-F421DA7A02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8DC2-59C8-4BA3-B964-8F98B69BF4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55AD-0707-4DAB-85A5-A7015F93BC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8264-41A1-4E5F-BC21-5FD97AD5D3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CBA4-8E96-4C11-A6C1-F27B7E3677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6133-895D-4760-9D79-F22CE67579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C924-58BF-4DD6-885E-48AC6F775A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5C4D-AA95-401D-BCD3-2D56BF3532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DDBF-07B4-446D-92F6-78F7A4C34D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6A9A-5C87-4CC4-964D-EB4C518C2B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A9DD-AA89-424F-A852-8D40E24E8A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946F-03EE-4551-8F84-660ABC5572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80DD-4BDA-4B30-9FE3-53447C83DA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FFE1-F2D3-4FD8-8964-959F7B4551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E007-C2AB-46E3-9E8A-E0C3B22515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B392-166E-42A5-AC48-4FB2518856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89B3-7E21-4E3E-BB15-D4BB27A17C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A8A1-545F-45E1-99BC-45BB3D099E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3BE8-7184-4B3A-B631-CC28FD53E2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D3D8-17D3-49ED-987F-AE11C734AB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4A04-D019-494B-B735-E33FACD7EA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01C5-F0C2-408E-B700-743DEC4A2E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44CC-9BA6-4F7A-BCE5-00F12CD261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D99B-4F19-4B93-8729-FBDE5E9AFF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6529-4F50-4129-A67A-8D72E5BB91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32AE-A8F8-4B4A-A3B9-CF068D7175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C609-4F75-444C-BC8B-23944A1C0E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9C7D-973F-482C-9A3D-0C6EF3A052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C0CD-762E-4E7A-A3D0-6D6BADA19B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B0AA-51FB-4F50-A063-D6CC4A2A6A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705-2393-4E0F-B203-61AF09CD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02DA-912A-43B1-978A-94436290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14B-9A96-473D-9633-A69916F9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526B-9B33-4189-8458-CBA54CCD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AC8F-6560-40DA-96E3-19A45972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0B11-F091-43B7-8C18-E6425EE1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8197-84DB-48CE-AE6C-67779520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346D-3F81-44A6-8EB8-97928D04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D8E8-D5CF-4500-8981-FFD96CC4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2B4F-6255-461D-ADAF-1A19AC0B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7753-67FD-4EF5-83D0-3CEF7C50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8B1-4551-4DA2-B0E4-CBDE90D2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081D-4D4C-4629-900C-1798F313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3FAD-1C5B-4CDE-B18C-05B859E7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A045-C0E2-4E63-8216-535AAA64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063E-F937-4EB7-8848-AA184497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BB4B-E282-4D65-9AAD-F9C7158D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41BA5-18C4-4427-BB6F-C023528A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DAC77-D520-4414-9528-D01525B3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B4552-62E6-4119-A6ED-68CDC134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2D1BC-74F0-44F0-A449-74331B24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FEA15-B385-4C4D-AD69-A00F7E04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6731-2533-41C0-8A82-5E95BFD5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CB0A9-55EB-4C62-BD01-097F7DEE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EAC8E-C535-4674-9E34-AC834C25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CDCD0-84BB-4B71-AC96-E204F92A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545BA-ECFF-4040-A76C-685D9265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D0E06-191F-460F-BDF3-165F0B69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3E9C7-6EA6-4728-9B67-C768BA79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4E4D1-BF68-4054-BDA4-AB5E3DDE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B268-AF5F-4A9C-A904-4080FEC2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80E0-691D-49A8-A159-AC6C6274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9917-4230-44F1-A096-0888389D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7EEB-EE66-4A85-AB92-8A99EAF9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3EE-DD28-4537-A821-808D7038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F1EB-0703-4876-98C8-BBF88D2A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3F14-C9C2-4CF1-B484-6BFD1A2638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33AF-398F-45F8-AF09-C80B841B65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08B7-C53F-4A0D-99E5-8BD21ED822D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0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15.jpeg"/><Relationship Id="rId3" Type="http://schemas.openxmlformats.org/officeDocument/2006/relationships/image" Target="../media/image25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следовательская работа на тему: «Экология здорового питания: нитраты, их влияние на организм челове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ила: ученица 11 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У «СОШ №19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о. Электрост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арыше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995640" y="59500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12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 употреблении продуктов с повышенным содержанием нитратов, в организм поступают не только сами нитраты, но и их метаболиты: нитриты и нитрозосоединения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4716360" y="2492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863640" y="34290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ньшение кислородной емкости крови и развитие гипоксии (кислородного голода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0" t="0" r="3275" b="0"/>
          <a:stretch/>
        </p:blipFill>
        <p:spPr>
          <a:xfrm>
            <a:off x="1476360" y="4653000"/>
            <a:ext cx="2522520" cy="19987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5003640" y="4653000"/>
            <a:ext cx="2521080" cy="19321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424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гко переносимая доза нитратов для человека в день – 150-200 мг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дельно допустимая доза – 500 мг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оксичная доза – 600 мг (для взрослых), 10 мг (для грудного ребенка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Нитраты поступают в организм человека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 овощами – 70%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 водой – 20%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 мясными, молочными и консервированными продуктами – 6%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Экспериментальная часть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ель работы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учив литературу о нитратах и нитритах, овладеть методикой их опреде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ределить качественное содержание нитратов в овощах, купленных на рынк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ределить факторы, позволяющие снизить содержание нитратов в продук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ерспективные цели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ь наличие нитратов в овощах и фруктах, выращенных на собственном огородном участ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авнить количество нитратов в продукции, купленной на рынке и в магазине и выращенной на собственном участ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ь количественное содержание нитратов в сельскохозяйственной проду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Оборудование и реактивы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рфоровая ступка с пестиком, предметные стёкла, медицинский шприц, стеклянная палочка, пинцет, 1%-ый раствор дифениламина в концентрированной серной кисло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4" descr="Изображение 072"/>
          <p:cNvPicPr/>
          <p:nvPr/>
        </p:nvPicPr>
        <p:blipFill>
          <a:blip r:embed="rId1"/>
          <a:stretch/>
        </p:blipFill>
        <p:spPr>
          <a:xfrm>
            <a:off x="1908000" y="3284640"/>
            <a:ext cx="5369040" cy="3238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роведение работы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560" y="220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опытов мы взяли овощи, купленные на городском рынке “Южный”. Растирали овощи в ступке и исследовали содержание нитратов в них, пользуясь методи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Методика определения нитратов в овощах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нная методика основана на качественной реакции на нитраты, которую проводят с помощью 1%-ого раствора дифениламина в концентрированной серной кисло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предметное стекло положить кашицу из образцов или капнуть несколько капель сока, затем добавить качественный реактив (несколько капель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едить за появление окрас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тенсивность этой окраски сравнить с таблицей 1, показывающей степень содержания нитра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Таблица 1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11280" y="1916280"/>
          <a:ext cx="8007120" cy="4190760"/>
        </p:xfrm>
        <a:graphic>
          <a:graphicData uri="http://schemas.openxmlformats.org/drawingml/2006/table">
            <a:tbl>
              <a:tblPr/>
              <a:tblGrid>
                <a:gridCol w="4579920"/>
                <a:gridCol w="3427200"/>
              </a:tblGrid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уальные призна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аски срез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ра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едно – голубоват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яя, постепенно исчезающ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e7b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но – синяя, устойчив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овое окрашивани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начительно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окрашивани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12"/>
          <p:cNvSpPr/>
          <p:nvPr/>
        </p:nvSpPr>
        <p:spPr>
          <a:xfrm>
            <a:off x="468360" y="5013360"/>
            <a:ext cx="8207280" cy="1368360"/>
          </a:xfrm>
          <a:prstGeom prst="rect">
            <a:avLst/>
          </a:prstGeom>
          <a:gradFill rotWithShape="0">
            <a:gsLst>
              <a:gs pos="0">
                <a:srgbClr val="5e765e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Хвостик» - темно-синяя, быстронаступающая, устойчивая окра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жура – синяя, быстроисчезающая окра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тральная часть – розовая окра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06" descr="Изображение 028"/>
          <p:cNvPicPr/>
          <p:nvPr/>
        </p:nvPicPr>
        <p:blipFill>
          <a:blip r:embed="rId2"/>
          <a:srcRect l="16330" t="16100" r="3586" b="40224"/>
          <a:stretch/>
        </p:blipFill>
        <p:spPr>
          <a:xfrm>
            <a:off x="3132000" y="1557360"/>
            <a:ext cx="2324160" cy="939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07" descr="Изображение 022"/>
          <p:cNvPicPr/>
          <p:nvPr/>
        </p:nvPicPr>
        <p:blipFill>
          <a:blip r:embed="rId3"/>
          <a:srcRect l="14841" t="12523" r="0" b="49908"/>
          <a:stretch/>
        </p:blipFill>
        <p:spPr>
          <a:xfrm>
            <a:off x="3132000" y="3429000"/>
            <a:ext cx="2260800" cy="952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08" descr="Изображение 014"/>
          <p:cNvPicPr/>
          <p:nvPr/>
        </p:nvPicPr>
        <p:blipFill>
          <a:blip r:embed="rId4"/>
          <a:srcRect l="11818" t="14269" r="0" b="28698"/>
          <a:stretch/>
        </p:blipFill>
        <p:spPr>
          <a:xfrm>
            <a:off x="3276720" y="5229360"/>
            <a:ext cx="2120760" cy="901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13" descr="огурцы"/>
          <p:cNvPicPr/>
          <p:nvPr/>
        </p:nvPicPr>
        <p:blipFill>
          <a:blip r:embed="rId5"/>
          <a:stretch/>
        </p:blipFill>
        <p:spPr>
          <a:xfrm>
            <a:off x="7740720" y="0"/>
            <a:ext cx="1403280" cy="102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Цель проекта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зучить литературу о превращениях нитратов в растениях и организме челов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Экспериментальным путем выявить содержание нитратов в овощах,      узнать их влияние на жизнедеятельность и здоровье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68360" y="5013360"/>
            <a:ext cx="8207280" cy="1511280"/>
          </a:xfrm>
          <a:prstGeom prst="rect">
            <a:avLst/>
          </a:prstGeom>
          <a:gradFill rotWithShape="0">
            <a:gsLst>
              <a:gs pos="0">
                <a:srgbClr val="7676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gradFill rotWithShape="0">
            <a:gsLst>
              <a:gs pos="0">
                <a:srgbClr val="76765e"/>
              </a:gs>
              <a:gs pos="50000">
                <a:srgbClr val="ffffcc"/>
              </a:gs>
              <a:gs pos="100000">
                <a:srgbClr val="76765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тральная часть (сердцевина) – бледно-розовая окра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жура – бледно-голубая окра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едина (между кожурой и сердцевиной) – бледно-голубая окра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Изображение 036"/>
          <p:cNvPicPr/>
          <p:nvPr/>
        </p:nvPicPr>
        <p:blipFill>
          <a:blip r:embed="rId2"/>
          <a:srcRect l="0" t="18708" r="1704" b="25126"/>
          <a:stretch/>
        </p:blipFill>
        <p:spPr>
          <a:xfrm>
            <a:off x="3203640" y="1700280"/>
            <a:ext cx="2222280" cy="965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Изображение 038"/>
          <p:cNvPicPr/>
          <p:nvPr/>
        </p:nvPicPr>
        <p:blipFill>
          <a:blip r:embed="rId3"/>
          <a:srcRect l="7926" t="14280" r="8773" b="35349"/>
          <a:stretch/>
        </p:blipFill>
        <p:spPr>
          <a:xfrm>
            <a:off x="3276720" y="3213000"/>
            <a:ext cx="2158920" cy="978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Изображение 054"/>
          <p:cNvPicPr/>
          <p:nvPr/>
        </p:nvPicPr>
        <p:blipFill>
          <a:blip r:embed="rId4"/>
          <a:srcRect l="30098" t="36191" r="24794" b="39715"/>
          <a:stretch/>
        </p:blipFill>
        <p:spPr>
          <a:xfrm>
            <a:off x="3348000" y="5300640"/>
            <a:ext cx="2209680" cy="876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картофель"/>
          <p:cNvPicPr/>
          <p:nvPr/>
        </p:nvPicPr>
        <p:blipFill>
          <a:blip r:embed="rId5"/>
          <a:stretch/>
        </p:blipFill>
        <p:spPr>
          <a:xfrm>
            <a:off x="7308720" y="5481720"/>
            <a:ext cx="1835280" cy="1376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5280" y="5373720"/>
            <a:ext cx="8209080" cy="1079640"/>
          </a:xfrm>
          <a:prstGeom prst="rect">
            <a:avLst/>
          </a:prstGeom>
          <a:gradFill rotWithShape="0">
            <a:gsLst>
              <a:gs pos="0">
                <a:srgbClr val="765e47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gradFill rotWithShape="0">
            <a:gsLst>
              <a:gs pos="0">
                <a:srgbClr val="765e47"/>
              </a:gs>
              <a:gs pos="50000">
                <a:srgbClr val="ffcc99"/>
              </a:gs>
              <a:gs pos="100000">
                <a:srgbClr val="765e47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Хвостик» - бледно-голубая окра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жура – темно-синяя, постепенно исчезающая окра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тральная часть – темно-фиолетовая, устойчивая окра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DSC00118"/>
          <p:cNvPicPr/>
          <p:nvPr/>
        </p:nvPicPr>
        <p:blipFill>
          <a:blip r:embed="rId2"/>
          <a:stretch/>
        </p:blipFill>
        <p:spPr>
          <a:xfrm>
            <a:off x="3276720" y="1413000"/>
            <a:ext cx="1638360" cy="1079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DSC00127(01)"/>
          <p:cNvPicPr/>
          <p:nvPr/>
        </p:nvPicPr>
        <p:blipFill>
          <a:blip r:embed="rId3"/>
          <a:stretch/>
        </p:blipFill>
        <p:spPr>
          <a:xfrm>
            <a:off x="3564000" y="3429000"/>
            <a:ext cx="1536480" cy="927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DSC00126(01)"/>
          <p:cNvPicPr/>
          <p:nvPr/>
        </p:nvPicPr>
        <p:blipFill>
          <a:blip r:embed="rId4"/>
          <a:stretch/>
        </p:blipFill>
        <p:spPr>
          <a:xfrm>
            <a:off x="3780000" y="5445000"/>
            <a:ext cx="1574640" cy="927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морковь"/>
          <p:cNvPicPr/>
          <p:nvPr/>
        </p:nvPicPr>
        <p:blipFill>
          <a:blip r:embed="rId5"/>
          <a:stretch/>
        </p:blipFill>
        <p:spPr>
          <a:xfrm>
            <a:off x="7524720" y="0"/>
            <a:ext cx="1619280" cy="118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gradFill rotWithShape="0">
            <a:gsLst>
              <a:gs pos="0">
                <a:srgbClr val="764747"/>
              </a:gs>
              <a:gs pos="5000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Хвостик» - бледно-розовая окра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жура – бледно-розовая окра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альная часть – бледно-розовая окра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68360" y="5084640"/>
            <a:ext cx="8226360" cy="1008360"/>
          </a:xfrm>
          <a:prstGeom prst="rect">
            <a:avLst/>
          </a:prstGeom>
          <a:gradFill rotWithShape="0">
            <a:gsLst>
              <a:gs pos="0">
                <a:srgbClr val="764747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5" descr="DSC00124"/>
          <p:cNvPicPr/>
          <p:nvPr/>
        </p:nvPicPr>
        <p:blipFill>
          <a:blip r:embed="rId2"/>
          <a:stretch/>
        </p:blipFill>
        <p:spPr>
          <a:xfrm>
            <a:off x="3492360" y="1484280"/>
            <a:ext cx="1651320" cy="1066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DSC00134"/>
          <p:cNvPicPr/>
          <p:nvPr/>
        </p:nvPicPr>
        <p:blipFill>
          <a:blip r:embed="rId3"/>
          <a:srcRect l="159" t="6423" r="5224" b="13566"/>
          <a:stretch/>
        </p:blipFill>
        <p:spPr>
          <a:xfrm>
            <a:off x="3492360" y="3068640"/>
            <a:ext cx="1714680" cy="1079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DSC00130"/>
          <p:cNvPicPr/>
          <p:nvPr/>
        </p:nvPicPr>
        <p:blipFill>
          <a:blip r:embed="rId4"/>
          <a:srcRect l="12157" t="0" r="7874" b="-493"/>
          <a:stretch/>
        </p:blipFill>
        <p:spPr>
          <a:xfrm>
            <a:off x="3492360" y="4869000"/>
            <a:ext cx="1828800" cy="1028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помидор"/>
          <p:cNvPicPr/>
          <p:nvPr/>
        </p:nvPicPr>
        <p:blipFill>
          <a:blip r:embed="rId5"/>
          <a:stretch/>
        </p:blipFill>
        <p:spPr>
          <a:xfrm>
            <a:off x="7632720" y="0"/>
            <a:ext cx="1511280" cy="1206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gradFill rotWithShape="0">
            <a:gsLst>
              <a:gs pos="0">
                <a:srgbClr val="765e47"/>
              </a:gs>
              <a:gs pos="50000">
                <a:srgbClr val="ffcc99"/>
              </a:gs>
              <a:gs pos="100000">
                <a:srgbClr val="765e47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Хвостик» - бледно-розовая окра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шние чешуи – бледно-розовая окра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утренние чешуи – бледно-розовая окра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68360" y="4941720"/>
            <a:ext cx="8207280" cy="1151280"/>
          </a:xfrm>
          <a:prstGeom prst="rect">
            <a:avLst/>
          </a:prstGeom>
          <a:gradFill rotWithShape="0">
            <a:gsLst>
              <a:gs pos="0">
                <a:srgbClr val="765e47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Изображение 048"/>
          <p:cNvPicPr/>
          <p:nvPr/>
        </p:nvPicPr>
        <p:blipFill>
          <a:blip r:embed="rId2"/>
          <a:srcRect l="21145" t="-194" r="0" b="0"/>
          <a:stretch/>
        </p:blipFill>
        <p:spPr>
          <a:xfrm>
            <a:off x="3348000" y="1197000"/>
            <a:ext cx="1790640" cy="927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Изображение 045"/>
          <p:cNvPicPr/>
          <p:nvPr/>
        </p:nvPicPr>
        <p:blipFill>
          <a:blip r:embed="rId3"/>
          <a:srcRect l="23169" t="30854" r="23195" b="33230"/>
          <a:stretch/>
        </p:blipFill>
        <p:spPr>
          <a:xfrm>
            <a:off x="3203640" y="2781360"/>
            <a:ext cx="2222280" cy="876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DSC00135"/>
          <p:cNvPicPr/>
          <p:nvPr/>
        </p:nvPicPr>
        <p:blipFill>
          <a:blip r:embed="rId4"/>
          <a:stretch/>
        </p:blipFill>
        <p:spPr>
          <a:xfrm>
            <a:off x="3492360" y="4365720"/>
            <a:ext cx="1828800" cy="927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лук"/>
          <p:cNvPicPr/>
          <p:nvPr/>
        </p:nvPicPr>
        <p:blipFill>
          <a:blip r:embed="rId5"/>
          <a:stretch/>
        </p:blipFill>
        <p:spPr>
          <a:xfrm>
            <a:off x="7658280" y="0"/>
            <a:ext cx="1485720" cy="1054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832360"/>
          </a:xfrm>
          <a:prstGeom prst="rect">
            <a:avLst/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ая жилка внешнего листа – темно-синяя, устойчивая окра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ягкая часть внешнего листа – отсутствие окра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ая часть – бледно-голубая окра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черыжка – темно-синяя, устойчивая окра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68360" y="6165720"/>
            <a:ext cx="8224920" cy="358920"/>
          </a:xfrm>
          <a:prstGeom prst="rect">
            <a:avLst/>
          </a:prstGeom>
          <a:gradFill rotWithShape="0">
            <a:gsLst>
              <a:gs pos="0">
                <a:srgbClr val="5e765e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Изображение 059"/>
          <p:cNvPicPr/>
          <p:nvPr/>
        </p:nvPicPr>
        <p:blipFill>
          <a:blip r:embed="rId2"/>
          <a:srcRect l="27573" t="11814" r="22119" b="38894"/>
          <a:stretch/>
        </p:blipFill>
        <p:spPr>
          <a:xfrm>
            <a:off x="3564000" y="1052640"/>
            <a:ext cx="1676160" cy="888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Изображение 060"/>
          <p:cNvPicPr/>
          <p:nvPr/>
        </p:nvPicPr>
        <p:blipFill>
          <a:blip r:embed="rId3"/>
          <a:srcRect l="34601" t="22831" r="30718" b="35859"/>
          <a:stretch/>
        </p:blipFill>
        <p:spPr>
          <a:xfrm>
            <a:off x="3564000" y="2349360"/>
            <a:ext cx="1714320" cy="1028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Изображение 061"/>
          <p:cNvPicPr/>
          <p:nvPr/>
        </p:nvPicPr>
        <p:blipFill>
          <a:blip r:embed="rId4"/>
          <a:srcRect l="30489" t="11365" r="25947" b="36433"/>
          <a:stretch/>
        </p:blipFill>
        <p:spPr>
          <a:xfrm>
            <a:off x="3564000" y="3933720"/>
            <a:ext cx="1701720" cy="102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Изображение 062"/>
          <p:cNvPicPr/>
          <p:nvPr/>
        </p:nvPicPr>
        <p:blipFill>
          <a:blip r:embed="rId5"/>
          <a:srcRect l="33370" t="16512" r="22336" b="33681"/>
          <a:stretch/>
        </p:blipFill>
        <p:spPr>
          <a:xfrm>
            <a:off x="3635280" y="5516640"/>
            <a:ext cx="1600200" cy="927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капуста"/>
          <p:cNvPicPr/>
          <p:nvPr/>
        </p:nvPicPr>
        <p:blipFill>
          <a:blip r:embed="rId6"/>
          <a:stretch/>
        </p:blipFill>
        <p:spPr>
          <a:xfrm>
            <a:off x="7740720" y="5595840"/>
            <a:ext cx="1403280" cy="1262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721480"/>
          </a:xfrm>
          <a:prstGeom prst="rect">
            <a:avLst/>
          </a:prstGeom>
          <a:gradFill rotWithShape="0">
            <a:gsLst>
              <a:gs pos="0">
                <a:srgbClr val="764747"/>
              </a:gs>
              <a:gs pos="5000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Хвостик» - темно-синяя окраска (почти черная), устойчи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хняя часть – темно-синяя окраска (почти черная), устойчи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жура - темно-синяя окраска (почти черная), устойчи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тральная часть - темно-синяя окраска (почти черная), устойчи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468360" y="5950080"/>
            <a:ext cx="8207280" cy="718920"/>
          </a:xfrm>
          <a:prstGeom prst="rect">
            <a:avLst/>
          </a:prstGeom>
          <a:gradFill rotWithShape="0">
            <a:gsLst>
              <a:gs pos="0">
                <a:srgbClr val="764747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Изображение 071"/>
          <p:cNvPicPr/>
          <p:nvPr/>
        </p:nvPicPr>
        <p:blipFill>
          <a:blip r:embed="rId2"/>
          <a:srcRect l="31751" t="13902" r="22693" b="34792"/>
          <a:stretch/>
        </p:blipFill>
        <p:spPr>
          <a:xfrm>
            <a:off x="3492360" y="981000"/>
            <a:ext cx="1656000" cy="1005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Изображение 067"/>
          <p:cNvPicPr/>
          <p:nvPr/>
        </p:nvPicPr>
        <p:blipFill>
          <a:blip r:embed="rId3"/>
          <a:srcRect l="28346" t="18626" r="29537" b="25204"/>
          <a:stretch/>
        </p:blipFill>
        <p:spPr>
          <a:xfrm>
            <a:off x="3564000" y="2565360"/>
            <a:ext cx="1655640" cy="1038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Изображение 065"/>
          <p:cNvPicPr/>
          <p:nvPr/>
        </p:nvPicPr>
        <p:blipFill>
          <a:blip r:embed="rId4"/>
          <a:srcRect l="32588" t="16178" r="26648" b="29594"/>
          <a:stretch/>
        </p:blipFill>
        <p:spPr>
          <a:xfrm>
            <a:off x="3419640" y="3933720"/>
            <a:ext cx="2145960" cy="1244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Изображение 068"/>
          <p:cNvPicPr/>
          <p:nvPr/>
        </p:nvPicPr>
        <p:blipFill>
          <a:blip r:embed="rId5"/>
          <a:srcRect l="28794" t="18984" r="28417" b="36048"/>
          <a:stretch/>
        </p:blipFill>
        <p:spPr>
          <a:xfrm>
            <a:off x="3708360" y="5805360"/>
            <a:ext cx="1513080" cy="876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редис"/>
          <p:cNvPicPr/>
          <p:nvPr/>
        </p:nvPicPr>
        <p:blipFill>
          <a:blip r:embed="rId6"/>
          <a:stretch/>
        </p:blipFill>
        <p:spPr>
          <a:xfrm>
            <a:off x="7667640" y="0"/>
            <a:ext cx="1476360" cy="1206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Результаты тестирования образцов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деры по высокому содержанию нитра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6" descr="огурцы"/>
          <p:cNvPicPr/>
          <p:nvPr/>
        </p:nvPicPr>
        <p:blipFill>
          <a:blip r:embed="rId1"/>
          <a:stretch/>
        </p:blipFill>
        <p:spPr>
          <a:xfrm>
            <a:off x="250920" y="4457880"/>
            <a:ext cx="2555640" cy="1869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редис"/>
          <p:cNvPicPr/>
          <p:nvPr/>
        </p:nvPicPr>
        <p:blipFill>
          <a:blip r:embed="rId2"/>
          <a:stretch/>
        </p:blipFill>
        <p:spPr>
          <a:xfrm>
            <a:off x="2556000" y="2924280"/>
            <a:ext cx="3816360" cy="3117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капуста"/>
          <p:cNvPicPr/>
          <p:nvPr/>
        </p:nvPicPr>
        <p:blipFill>
          <a:blip r:embed="rId3"/>
          <a:stretch/>
        </p:blipFill>
        <p:spPr>
          <a:xfrm>
            <a:off x="6084720" y="3841920"/>
            <a:ext cx="2880000" cy="2587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539280" y="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деры по низкому содержанию нитра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6" descr="лук"/>
          <p:cNvPicPr/>
          <p:nvPr/>
        </p:nvPicPr>
        <p:blipFill>
          <a:blip r:embed="rId1"/>
          <a:stretch/>
        </p:blipFill>
        <p:spPr>
          <a:xfrm>
            <a:off x="250920" y="2138400"/>
            <a:ext cx="4105080" cy="2911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картофель"/>
          <p:cNvPicPr/>
          <p:nvPr/>
        </p:nvPicPr>
        <p:blipFill>
          <a:blip r:embed="rId2"/>
          <a:stretch/>
        </p:blipFill>
        <p:spPr>
          <a:xfrm>
            <a:off x="2700360" y="1341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помидор"/>
          <p:cNvPicPr/>
          <p:nvPr/>
        </p:nvPicPr>
        <p:blipFill>
          <a:blip r:embed="rId3"/>
          <a:stretch/>
        </p:blipFill>
        <p:spPr>
          <a:xfrm>
            <a:off x="5830920" y="2781360"/>
            <a:ext cx="3313080" cy="26445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морковь"/>
          <p:cNvPicPr/>
          <p:nvPr/>
        </p:nvPicPr>
        <p:blipFill>
          <a:blip r:embed="rId4"/>
          <a:stretch/>
        </p:blipFill>
        <p:spPr>
          <a:xfrm>
            <a:off x="2771640" y="4435560"/>
            <a:ext cx="3313080" cy="2422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Распределение нитратов в овощах по зонам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244" name="Picture 4" descr="Рисунок1"/>
          <p:cNvPicPr/>
          <p:nvPr/>
        </p:nvPicPr>
        <p:blipFill>
          <a:blip r:embed="rId1"/>
          <a:stretch/>
        </p:blipFill>
        <p:spPr>
          <a:xfrm>
            <a:off x="539640" y="1700280"/>
            <a:ext cx="3033720" cy="27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5" name="Picture 5" descr="Копия Рисунок1"/>
          <p:cNvPicPr/>
          <p:nvPr/>
        </p:nvPicPr>
        <p:blipFill>
          <a:blip r:embed="rId2"/>
          <a:stretch/>
        </p:blipFill>
        <p:spPr>
          <a:xfrm>
            <a:off x="4356000" y="1844640"/>
            <a:ext cx="199404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6" name="Picture 9" descr="Рисунок11"/>
          <p:cNvPicPr/>
          <p:nvPr/>
        </p:nvPicPr>
        <p:blipFill>
          <a:blip r:embed="rId3"/>
          <a:stretch/>
        </p:blipFill>
        <p:spPr>
          <a:xfrm>
            <a:off x="1692360" y="4491000"/>
            <a:ext cx="3382920" cy="236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7" name="Picture 10" descr="Рисунок12"/>
          <p:cNvPicPr/>
          <p:nvPr/>
        </p:nvPicPr>
        <p:blipFill>
          <a:blip r:embed="rId4"/>
          <a:stretch/>
        </p:blipFill>
        <p:spPr>
          <a:xfrm>
            <a:off x="6058080" y="3833640"/>
            <a:ext cx="3085920" cy="30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Копия Рисунок12"/>
          <p:cNvPicPr/>
          <p:nvPr/>
        </p:nvPicPr>
        <p:blipFill>
          <a:blip r:embed="rId1"/>
          <a:stretch/>
        </p:blipFill>
        <p:spPr>
          <a:xfrm>
            <a:off x="3276720" y="2565360"/>
            <a:ext cx="30398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9" name="Picture 5" descr="Копия Рисунок13"/>
          <p:cNvPicPr/>
          <p:nvPr/>
        </p:nvPicPr>
        <p:blipFill>
          <a:blip r:embed="rId2"/>
          <a:stretch/>
        </p:blipFill>
        <p:spPr>
          <a:xfrm>
            <a:off x="6516720" y="333360"/>
            <a:ext cx="236844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0" name="Picture 6" descr="Рисунок13"/>
          <p:cNvPicPr/>
          <p:nvPr/>
        </p:nvPicPr>
        <p:blipFill>
          <a:blip r:embed="rId3"/>
          <a:stretch/>
        </p:blipFill>
        <p:spPr>
          <a:xfrm>
            <a:off x="395280" y="260280"/>
            <a:ext cx="2806560" cy="336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Задачи проекта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смотреть проблему повышенного содержания нитратов в сельскохозяйственной проду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учить влияние соединений азота на растительные организ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казать влияние нитратов на жизнедеятельность и здоровье челове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учиться экспериментально определять нитрат-ион в растительных объект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ложить меры по предотвращению отравления нитрат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Подведение итогов эксперимента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007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.к. нитратов больше в кожуре овощей и плодов, то их (особенно огурцы и кабачки) надо очищать от кожуры, а у пряных трав надо выбрасывать их стебли и использовать только листь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ранить овощи и плоды надо в холодильнике, т.к. при температуре +2°С невозможно превращение нитратов в более ядовитые вещества - нитриты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снизить количество нитратов в старых клубнях картофеля, его клубни следует залить 1%-ным раствором поваренной сол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траты более активно накапливаются растениями при недостатке света, поэтому выращивать культуры с высокой накопительной способностью нитратов нельзя в тенистых мест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ходимо иметь контрольные средства в каждом овощном магазине, на каждом рынке, с тем чтобы допускать к продаже продукцию только с низким содержанием нитра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уменьшения содержания нитратов овощи лучше подкармливать органическими удобрен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Заключени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мое дорогое у человека – это его здоровье, которое невозможно купить и которое во многом зависит от правильного и безопасного питания. Недаром существует пословица: «Скажи мне, что ты ешь, и я скажу тебе, чем ты болеешь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4"/>
          <p:cNvSpPr txBox="1"/>
          <p:nvPr/>
        </p:nvSpPr>
        <p:spPr>
          <a:xfrm>
            <a:off x="468360" y="692280"/>
            <a:ext cx="8064360" cy="56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99ff33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99ff33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99ff33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99ff33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99ff33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имание!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99ff33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Объекты исследования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ртоф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мид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гур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ди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рков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пчатый л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пу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Нитраты – прекрасные азотные удобрения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0074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и необходимы для нормального питания растен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9638" t="9323" r="7464" b="19717"/>
          <a:stretch/>
        </p:blipFill>
        <p:spPr>
          <a:xfrm>
            <a:off x="1692360" y="2708280"/>
            <a:ext cx="5976720" cy="3836880"/>
          </a:xfrm>
          <a:prstGeom prst="rect">
            <a:avLst/>
          </a:prstGeom>
          <a:ln w="57240">
            <a:solidFill>
              <a:srgbClr val="700000"/>
            </a:solidFill>
            <a:miter/>
          </a:ln>
        </p:spPr>
      </p:pic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При недостатке азота в почве у растений наступает азотное голодание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е зеленой окраски листьев (листья приобретают бледно-зеленую окраску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льная задержка ро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зотные удобрения вносят под все культуры, так как они увеличивают урожа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итраты, являются элементом питания растений. Их высокая концентрация в почве совершенно не токсична для растений, напротив, она способствует усиленному росту наземной части растений, более активному протеканию фотосинтеза, лучшему формированию репродуктивных органов и в конечном итоге – более высокому урожа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rcRect l="0" t="0" r="4031" b="0"/>
          <a:stretch/>
        </p:blipFill>
        <p:spPr>
          <a:xfrm>
            <a:off x="2556000" y="3789360"/>
            <a:ext cx="3600360" cy="26654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сли в почве избыток нитратов, то они не успевают полностью превратиться в аминокислоты. Нитраты по корню поднимаются и могут осесть в любой части растения. Они превращаются в нитриты и отравляют организ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2771640" y="2421000"/>
            <a:ext cx="34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стения         нитратонакопит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rcRect l="0" t="0" r="1726" b="0"/>
          <a:stretch/>
        </p:blipFill>
        <p:spPr>
          <a:xfrm>
            <a:off x="250920" y="2060640"/>
            <a:ext cx="2663640" cy="20318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1763640" y="4508640"/>
            <a:ext cx="2592360" cy="19447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5" name="Picture 8" descr=""/>
          <p:cNvPicPr/>
          <p:nvPr/>
        </p:nvPicPr>
        <p:blipFill>
          <a:blip r:embed="rId3"/>
          <a:stretch/>
        </p:blipFill>
        <p:spPr>
          <a:xfrm>
            <a:off x="4932360" y="4508640"/>
            <a:ext cx="2521080" cy="19508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66" name="Picture 9" descr=""/>
          <p:cNvPicPr/>
          <p:nvPr/>
        </p:nvPicPr>
        <p:blipFill>
          <a:blip r:embed="rId4"/>
          <a:stretch/>
        </p:blipFill>
        <p:spPr>
          <a:xfrm>
            <a:off x="6084720" y="2133720"/>
            <a:ext cx="2735280" cy="18968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 поступлении в организм человека высоких доз нитратов, через 4-6 часов появляю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ошно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ыш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инение кожных покров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ре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оловокруж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и в затылк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рдцеби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ая слабость орга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5:54:06Z</dcterms:created>
  <dc:creator>User</dc:creator>
  <dc:description/>
  <dc:language>en-US</dc:language>
  <cp:lastModifiedBy>Лариса</cp:lastModifiedBy>
  <dcterms:modified xsi:type="dcterms:W3CDTF">2011-12-08T03:48:24Z</dcterms:modified>
  <cp:revision>5</cp:revision>
  <dc:subject/>
  <dc:title>Слайд 1</dc:title>
</cp:coreProperties>
</file>