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F00E-BF1A-49C8-A2F3-9C9B87B7D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6A08-A68B-4335-B137-EE1E1678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677F-A8F4-4296-912E-CD616BE3F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05C6-7E4B-43A6-8D9A-980501C22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67AEF-4C6F-4EE8-8C11-671D08017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FD8A-28CB-410B-8005-0EC5F8BA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8E77-A679-4295-B89B-81C3C2DB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4D67-9D23-420E-96FF-F13F02AB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1DA5-6173-47DC-AB2C-7A5E081C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D1F3-CAF1-4410-8F24-6F0ABEA3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DBE8-0C86-4BEE-8CC5-0D71DA24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9592-2E2E-4850-B4B3-F2AC19CC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EE89-7A31-475A-AB9D-C4B2E0C6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A73D-3F26-405C-BE75-90CA33E9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776D-B748-4E18-8619-12009172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6B8B-D3D9-4B32-834C-0FE325BBE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A863-A0BE-4CA8-ADC1-1B3609396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4226-14AC-41B5-9B89-41636ACA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F44B-A6DF-4EC0-B092-91805033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AE3F-5583-4DAB-ADB8-7C0081B6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695A-3AC9-4863-A86C-8447BF57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F76D-6CF8-43C0-8A7C-304B279C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ED65-C294-41AE-8236-6C23A9D7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2298-AE2F-4FAC-A8AA-CB5521BE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scifair_INSIDE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 algn="ctr">
              <a:spcBef>
                <a:spcPts val="79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 algn="ctr">
              <a:spcBef>
                <a:spcPts val="79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E26E-41D9-4539-8EC3-FD013C263D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114560" y="1609560"/>
            <a:ext cx="6933960" cy="19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" descr="scifair_front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 algn="ctr">
              <a:spcBef>
                <a:spcPts val="79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 algn="ctr">
              <a:spcBef>
                <a:spcPts val="79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EF5C-4DFB-443B-AC2E-CDAA2B8B2D78}" type="slidenum"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356680" cy="612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учная работ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ченика 6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ласс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ицея №6 им.А.С.Пушкин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Юрченко Павл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тему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учный руководитель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иронова Ольга Анатольевна        </a:t>
            </a:r>
            <a:r>
              <a:rPr b="0" lang="ru-RU" sz="3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692000" y="263664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Times New Roman"/>
              </a:rPr>
              <a:t>Левши среди нас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28400" y="1857240"/>
            <a:ext cx="871524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казать о феномене левш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мотреть теории их возникновени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нять, насколько сильно они отличаются от “правшей”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ой внесли вклад во все сферы нашей жизни  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ое отношение к левшам не только в нашей стране, но и во всем мире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оит ли что-то менять, чтобы левшам, особенно «маленьким левшам», в нашей стране стало жить легч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Verdana"/>
              </a:rPr>
              <a:t>Задачи рабо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Verdana"/>
              </a:rPr>
              <a:t>ГИПОТЕЗ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адаптации левшей в школе нужны особые психологические и педагогические подходы, т.к. у этих детей особое ощущение и понимание мира, в силу их физиологических особенност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642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Чем отличаются дети – левши  от правшей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87854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сихологи утверждают, что дети-левши более эмоциональны, неуравновешенны, чувствительны к мнению близких, чем праворукие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56908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евши вынуждены адаптироваться к окружающим условиям жизни и привыкли к этому, поэтому, в результате лучше и быстрее, чем правши, могут найти выход или то, что им нужно, приспосабливаются к любым условиям - левшам это приходится делать с детства и потом не вызывает особых проблем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акие же выходы для левшей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?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2060280"/>
            <a:ext cx="874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ctr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упить специальные товары для левшей, но стоят они на порядок дороже обычных, к тому, же в России, в отличие от развитых стран, только начинают производитьс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ctr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спосабливаться к тому, что есть, - зачастую, это приносит раны и ссадины - это свой опыт, но некоторые приспосабливаются работать своими инструментами, поэтому хоть часто получается криво, но зато получаетс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ctr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росить это дело и заниматься тем, что не требует такого труда, - не работать руками, а работать головой. Это каждый левша решает сам для себя. </a:t>
            </a:r>
            <a:br>
              <a:rPr sz="24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НОШЕНИЕ К ЛЕВШАМ В НАШЕЙ СТРАН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1989000"/>
            <a:ext cx="8991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Лет двадцать назад,  в отечественной педагогике вопрос о выборе руки для письма, о щадящем отношении к леворуким детям решался до удивительного просто — всем писать только правой рукой, а значит  леворуких детей — надо переучивать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Вывод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8812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ка еще нет четкого и однозначного ответа на вопрос, что является причиной леворукости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еворукость - это не патология и не недостаток развити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еворукость - очень важная индивидуальная особенность ребенка, которую необходимо учитывать в процессе обучения и воспита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Я надеюсь, что наступит такой момент, когда комфортно будут обучаться в школах нашего государства и праворукие и леворукие ученики, то есть они будут обеспечены необходимым оборудование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результате моей работы я выяснил, что сложности ожидают детей-левшей, сдающих экзамены  ГИ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нашей стране это особенно важно, ведь не важно, правши, левши – мы все граждане одной большой страны! И, если мы сможем изменить отношение людей в нашем государстве, то мы станем только сплоченнее и сильнее! Ведь наш    будущий президент тоже левш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20:25:39Z</dcterms:created>
  <dc:creator>xXx</dc:creator>
  <dc:description/>
  <cp:keywords/>
  <dc:language>en-US</dc:language>
  <cp:lastModifiedBy>Павел</cp:lastModifiedBy>
  <dcterms:modified xsi:type="dcterms:W3CDTF">2012-12-19T03:34:14Z</dcterms:modified>
  <cp:revision>34</cp:revision>
  <dc:subject/>
  <dc:title>Проект для научной выстав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3731049</vt:lpwstr>
  </property>
</Properties>
</file>