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05E1-8C95-4397-A665-DC2EAF07B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567A-8B89-4E96-AAFC-8D54BB19E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F2EF-EBAB-4488-9066-69FFD7480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A2D5-BD71-461E-AD58-AA6FF5174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6742C-0F0E-4269-BF03-3E48183E0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9C80F-77C4-4ABF-A291-28588E788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97476-758D-4895-B93E-9BC2DAEA5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7B759-FC9C-498E-92F7-45E4B4497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C2375-6585-44B0-B8D0-0F0A6DE4C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2B0DA-6990-490C-B259-9E96E2261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E572D-182E-45B5-AA28-6CA5A58E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8279-A42F-497A-B203-702BFEC72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85F7E-5C69-4A19-A25D-282F1F96B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D1589-A093-4077-8711-067B0B90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12EE3-00FF-438C-8727-F1D1A92DE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CE144-488D-4AEB-B9D3-31D69B394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4541C-1287-4373-8241-002AB91A3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1F72-53F1-4058-B8B0-05ECED75E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67B3-113E-4A7B-AD33-423706327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287C-E7BB-42CC-B705-6F17C890D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7A94-6F5B-42DB-BEB6-3800C6970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F0E4-E151-43B6-98A2-4E960388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B91E-875C-4914-A319-DBE684F2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1897-343D-42A3-9D06-E7CB8E59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37C91-D2B2-4242-AEA5-537A60D5EF30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3D790-4102-41DB-BE0E-74A13EA61428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20905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боту выполнил Росляков Артё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ченик ГБОУ СОШ №40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подаватель Смирнова Наталья Николаев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Прямоугольник 2" descr=""/>
          <p:cNvPicPr/>
          <p:nvPr/>
        </p:nvPicPr>
        <p:blipFill>
          <a:blip r:embed="rId2"/>
          <a:stretch/>
        </p:blipFill>
        <p:spPr>
          <a:xfrm>
            <a:off x="-152280" y="2139840"/>
            <a:ext cx="938844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Rectangle 2" descr=""/>
          <p:cNvPicPr/>
          <p:nvPr/>
        </p:nvPicPr>
        <p:blipFill>
          <a:blip r:embed="rId1"/>
          <a:stretch/>
        </p:blipFill>
        <p:spPr>
          <a:xfrm>
            <a:off x="396720" y="2273400"/>
            <a:ext cx="8223480" cy="13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1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вижение пространства - это отображение пространства на себя, сохраняющее расстояние между точкам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Picture 6" descr="centr"/>
          <p:cNvPicPr/>
          <p:nvPr/>
        </p:nvPicPr>
        <p:blipFill>
          <a:blip r:embed="rId2"/>
          <a:stretch/>
        </p:blipFill>
        <p:spPr>
          <a:xfrm>
            <a:off x="3419640" y="2921040"/>
            <a:ext cx="5040000" cy="36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89" name="Rectangle 3" descr=""/>
          <p:cNvPicPr/>
          <p:nvPr/>
        </p:nvPicPr>
        <p:blipFill>
          <a:blip r:embed="rId2"/>
          <a:stretch/>
        </p:blipFill>
        <p:spPr>
          <a:xfrm>
            <a:off x="920880" y="1554120"/>
            <a:ext cx="8223120" cy="4498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image006"/>
          <p:cNvPicPr/>
          <p:nvPr/>
        </p:nvPicPr>
        <p:blipFill>
          <a:blip r:embed="rId3"/>
          <a:stretch/>
        </p:blipFill>
        <p:spPr>
          <a:xfrm>
            <a:off x="2087640" y="3573360"/>
            <a:ext cx="630072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178920" y="1268280"/>
            <a:ext cx="822636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25600" indent="-39456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игура называется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симметричной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относительно точки О, если для каждой точки фигуры симметричная ей точка относительно точки О также принадлежит этой фигуре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-39456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-39456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сли фигура переходит в себя при симметрии относительно точки О, то точку  О называют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центром симметрии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той фигур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-39456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Блок-схема: узел 3"/>
          <p:cNvSpPr/>
          <p:nvPr/>
        </p:nvSpPr>
        <p:spPr>
          <a:xfrm>
            <a:off x="4808520" y="5864400"/>
            <a:ext cx="46080" cy="45720"/>
          </a:xfrm>
          <a:prstGeom prst="flowChartConnector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12" descr=""/>
          <p:cNvPicPr/>
          <p:nvPr/>
        </p:nvPicPr>
        <p:blipFill>
          <a:blip r:embed="rId2"/>
          <a:stretch/>
        </p:blipFill>
        <p:spPr>
          <a:xfrm>
            <a:off x="6227640" y="4002120"/>
            <a:ext cx="261648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975"/>
                            </p:stCondLst>
                            <p:childTnLst>
                              <p:par>
                                <p:cTn id="5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975"/>
                            </p:stCondLst>
                            <p:childTnLst>
                              <p:par>
                                <p:cTn id="5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08000" y="0"/>
            <a:ext cx="9036000" cy="40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Общие свойства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Центральная симметрия является движением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и центральной симметрии прямая переходит в прямую  , отрезок в отрезок ,плоскость в плоскост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8" descr=""/>
          <p:cNvPicPr/>
          <p:nvPr/>
        </p:nvPicPr>
        <p:blipFill>
          <a:blip r:embed="rId1"/>
          <a:stretch/>
        </p:blipFill>
        <p:spPr>
          <a:xfrm>
            <a:off x="1258920" y="3141720"/>
            <a:ext cx="6697800" cy="60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Rectangle 2" descr=""/>
          <p:cNvPicPr/>
          <p:nvPr/>
        </p:nvPicPr>
        <p:blipFill>
          <a:blip r:embed="rId1"/>
          <a:stretch/>
        </p:blipFill>
        <p:spPr>
          <a:xfrm>
            <a:off x="311040" y="274680"/>
            <a:ext cx="8607600" cy="1249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2" descr="229820_html_420085a3"/>
          <p:cNvPicPr/>
          <p:nvPr/>
        </p:nvPicPr>
        <p:blipFill>
          <a:blip r:embed="rId2"/>
          <a:stretch/>
        </p:blipFill>
        <p:spPr>
          <a:xfrm>
            <a:off x="755640" y="1773360"/>
            <a:ext cx="3514680" cy="2819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9" name="Picture 33" descr=""/>
          <p:cNvPicPr/>
          <p:nvPr/>
        </p:nvPicPr>
        <p:blipFill>
          <a:blip r:embed="rId3"/>
          <a:stretch/>
        </p:blipFill>
        <p:spPr>
          <a:xfrm>
            <a:off x="5148360" y="2855880"/>
            <a:ext cx="271296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0" y="-360"/>
            <a:ext cx="4896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98240" indent="-37404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основе античных построек лежала архитектурная идея правильности, целостности, ритмичности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еще очень важным для классической архитектуры было правило симметрии, то есть равновесия и равнозначности противоположных сторон — левой и правой. Строго симметрично строятся геометрические орнаменты; в классической архитектуре господствуют прямые линии, углы, круги, равенство колонн, окон, арок, сводов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Объект 14" descr="243454810.jpg"/>
          <p:cNvPicPr/>
          <p:nvPr/>
        </p:nvPicPr>
        <p:blipFill>
          <a:blip r:embed="rId1"/>
          <a:stretch/>
        </p:blipFill>
        <p:spPr>
          <a:xfrm>
            <a:off x="4900680" y="1755720"/>
            <a:ext cx="4103640" cy="835200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11"/>
          <p:cNvSpPr/>
          <p:nvPr/>
        </p:nvSpPr>
        <p:spPr>
          <a:xfrm>
            <a:off x="4610160" y="620640"/>
            <a:ext cx="44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Симметрия в архитектур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Прямоугольник 1" descr=""/>
          <p:cNvPicPr/>
          <p:nvPr/>
        </p:nvPicPr>
        <p:blipFill>
          <a:blip r:embed="rId1"/>
          <a:stretch/>
        </p:blipFill>
        <p:spPr>
          <a:xfrm>
            <a:off x="536400" y="122400"/>
            <a:ext cx="8047080" cy="152388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3" descr="161881_296432.jpg"/>
          <p:cNvPicPr/>
          <p:nvPr/>
        </p:nvPicPr>
        <p:blipFill>
          <a:blip r:embed="rId2"/>
          <a:stretch/>
        </p:blipFill>
        <p:spPr>
          <a:xfrm>
            <a:off x="5126040" y="1487520"/>
            <a:ext cx="3427560" cy="511488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5"/>
          <p:cNvSpPr/>
          <p:nvPr/>
        </p:nvSpPr>
        <p:spPr>
          <a:xfrm>
            <a:off x="609480" y="1274760"/>
            <a:ext cx="457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нтичные философы считали симметрию, порядок и определенность сущностью прекрасного. Архитекторы, художники, даже поэты и музыканты с древнейших времен знали законы симметр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6"/>
          <p:cNvSpPr/>
          <p:nvPr/>
        </p:nvSpPr>
        <p:spPr>
          <a:xfrm>
            <a:off x="536400" y="4944960"/>
            <a:ext cx="8282160" cy="18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eb966"/>
                </a:solidFill>
                <a:latin typeface="Times New Roman"/>
              </a:rPr>
              <a:t>Симметрия … является той идеей, посредством которой человек на протяжении веков пытался постичь и создать порядок, красоту и совершен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eb966"/>
                </a:solidFill>
                <a:latin typeface="Century Gothic"/>
              </a:rPr>
              <a:t>                                    </a:t>
            </a:r>
            <a:r>
              <a:rPr b="1" lang="ru-RU" sz="1800" spc="-1" strike="noStrike">
                <a:solidFill>
                  <a:srgbClr val="ceb966"/>
                </a:solidFill>
                <a:latin typeface="Century Gothic"/>
              </a:rPr>
              <a:t>Вейль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eb966"/>
                </a:solidFill>
                <a:latin typeface="Century Gothic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.С. Атанасян, В.Ф. Бутузов, С.Б. Кадомцев, Л.С. Киселёва, Э.Г.Позняк. Геометрия 10-11.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”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свещени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”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АО Московские учебники.Москва.2011 го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Яндекс браузер картин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икипед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8T16:29:21Z</dcterms:created>
  <dc:creator>User</dc:creator>
  <dc:description/>
  <dc:language>en-US</dc:language>
  <cp:lastModifiedBy>Nataly</cp:lastModifiedBy>
  <dcterms:modified xsi:type="dcterms:W3CDTF">2012-12-11T15:53:07Z</dcterms:modified>
  <cp:revision>22</cp:revision>
  <dc:subject/>
  <dc:title>Центральная симметрия</dc:title>
</cp:coreProperties>
</file>