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CC1E-7FA8-4FC7-B09C-7FC6CE8BA1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читать из 100, 1000, 10000, 1000000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CF32-5B34-4310-BA02-F3FB3EE414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44B-21F7-4070-93B2-D33C1160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19B-AF5C-4F48-8AEA-F07244FE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0DC-8F14-41AC-A6B2-5F521462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370-9300-457F-9B8B-3DC82F15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F875-BA49-4795-9717-F7231AE7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0262-6C99-4552-A5E6-2D76B58D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45CB-180D-471A-983F-D4CAB893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E8C9-DC81-4863-8A27-CF34BC1A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2248-6F23-49EA-B317-D371BBFF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F6F2-2DC0-4A15-AC40-79D46612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2140-AF1B-4542-8864-047A41E1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1C5-3401-41E3-93E6-83877EC5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F4E6-F4EE-414E-B469-A59F706B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CC72-2D20-4A20-A6D2-21DB7D6D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FA99-02BF-437C-AB25-20287F2D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229D-582D-451A-BA14-56516511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80E3-0747-49AC-ABF3-A57C7603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42E-7CC0-4B3E-909A-6EB32E10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248B-7804-47B2-AE44-D5B56758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FD2-6DC9-497B-9DAB-90019651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BEA-9FC7-47BB-A26D-6B60D286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16E6-6E63-4407-B5BE-3B7513DA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B8E-51CB-45AF-AAEB-2730698B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82A-907F-42E5-BC59-99B10A61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9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E2BB-DB4F-4B40-9CBA-03A2A03F0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9D84-3B07-4AA7-99E6-ABF1B55785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204640"/>
            <a:ext cx="914400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9d9ff"/>
                </a:solidFill>
                <a:latin typeface="Arial"/>
              </a:rPr>
              <a:t>Приемы устного счета</a:t>
            </a:r>
            <a:endParaRPr b="1" lang="en-US" sz="6000" spc="-1" strike="noStrike">
              <a:solidFill>
                <a:srgbClr val="d9d9ff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1680" y="259920"/>
            <a:ext cx="8540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П р и м е р   4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ычислить 82 ∙ 94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Р е ш е н и е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0 – 82 = 1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0 – 94 = 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8 ∙ 6 = 108; 08 – последние две цифр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2 – 6 = 76 + 1 = 77 – первые две цифр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Таким образом: 82 ∙ 94 = 7 70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3"/>
          <p:cNvSpPr/>
          <p:nvPr/>
        </p:nvSpPr>
        <p:spPr>
          <a:xfrm>
            <a:off x="324000" y="1700280"/>
            <a:ext cx="8607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азительно! Вы запросто сможете проделывать такие вещи в уме, если будете делать в точности противоположенное тому, чему вас, вероятно, учили в школе! Вместо того чтобы вычитать справа налево, вам нужно делать это слева напра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иная с той цифры, которая располагается левее всех, вы вычитаете, её (и все последующие) из девятки, планомерно продвигаясь вправо. Последнюю и только последнюю вы вычитаете из 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пример, если бы вам вдруг захотелось вычесть 58 из 100, вы отняли бы 5 от 9, что дало бы вам 4, а затем 8 из 10, что дало бы вам 2, и алле-оп! Правильный ответ 42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1763640" y="260280"/>
            <a:ext cx="653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ff"/>
                </a:solidFill>
                <a:latin typeface="Bookman Old Style"/>
              </a:rPr>
              <a:t>Как вычитать из 100, 1000, 10000, 1000000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миллионом это ничуть не сложнее. Если бы вам вдруг захотелось вычесть 795 238 из 1 000 000, вы отняли бы 7 от 9 =2, затем 9 от 9 = 0, затем 5 от 9 = 4, затем 2 от 9 = 7, затем 3 от 9 = 6, и, наконец 8 от 10 = 2. И вот вам правильный ответ: 204 76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179280" y="1628640"/>
            <a:ext cx="89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хотя бы одно слагаемое близко к "круглому" числу десятков, сотен, тысяч и т.д. (100, 300, 1000, т.е.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А*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- z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где z - сравнительно мало), то вычисления можно упрост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ведя одно из слагаемых к ближайшему "круглому" числ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полнив более легкое вычисление с "круглым" и затем учтя поправку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7 + 198 = 187 + (198 + 2) - 2 = 187 + 200 - 2 = 387 - 2 = 385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же при вычитании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8 - 197 = 358 - 200 + 3 = 158 + 3 = 16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4"/>
          <p:cNvSpPr/>
          <p:nvPr/>
        </p:nvSpPr>
        <p:spPr>
          <a:xfrm>
            <a:off x="1214280" y="404640"/>
            <a:ext cx="767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d9ff"/>
                </a:solidFill>
                <a:latin typeface="Bookman Old Style"/>
              </a:rPr>
              <a:t>Промежуточное приведение к "круглым" числ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684360" y="155736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этого достаточно к уменьшаемому числу прибавить дополнение вычитаемого до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и из полученной суммы вычесть дополняемое число до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При этом выраженное через дополнение число, чтобы не забыть вычесть дополняемое -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записывают так: сначала ставят "1" и заключают ее в скобки (либо ставят над ней знак "минус" и т.п.), затем пишут само дополнение числа. При таком способе число 7587 запишется как (1)2413; 98 - как (1)0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736920" y="620640"/>
            <a:ext cx="789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ff"/>
                </a:solidFill>
                <a:latin typeface="Bookman Old Style"/>
              </a:rPr>
              <a:t>Переход от вычитания к сложению</a:t>
            </a:r>
            <a:r>
              <a:rPr b="1" lang="en-US" sz="2800" spc="-1" strike="noStrike">
                <a:solidFill>
                  <a:srgbClr val="d9d9ff"/>
                </a:solidFill>
                <a:latin typeface="Bookman Old Style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3"/>
          <p:cNvSpPr/>
          <p:nvPr/>
        </p:nvSpPr>
        <p:spPr>
          <a:xfrm>
            <a:off x="179280" y="76500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ность чисел 36742 - 9854 проще найти, сведя вычисления к нахождению суммы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    36742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(1)0146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_______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     26888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Вот так (через дополнение) записывать вычитаемое не обязательно: начиная со старшего разряда, пишем сразу ответ, мысленно имея перед собой число в виде его дополнения или даже только тот разряд, который сейчас вычисляется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читание из чисел вида (A*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+ z) сводится к вычитанию из (A*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, а затем разность увеличивается на (z)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300015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298756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______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001244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       15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______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       12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79640" y="189000"/>
            <a:ext cx="195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3"/>
          <p:cNvSpPr/>
          <p:nvPr/>
        </p:nvSpPr>
        <p:spPr>
          <a:xfrm>
            <a:off x="353880" y="1197000"/>
            <a:ext cx="8790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умножения числа на однозначный множитель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пример, 34*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устно, необходимо выполнять действия, начиная со старшего разряда, последовательно складывая результаты (30*9=270, 4*9=36, 270+36=30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ля эффективного устного счёта полезно знать таблицу умножения до 19*9. В этом случае умножение 147*8 выполняется в уме так: 147*8=140*8+7*8= 1120 + 56= 1176. Однако, не зная таблицу умножения до 19*9, на практике удобнее вычислять все подобные примеры как 147*8=(150-3)*8=150*8-3*8=1200-24=117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же есть особенности при умножение на 9. для того чтобы умножить число на 9 надо к множимому приписать 0 и к получаемому числу отнять множимое, например 45*9=450-45=4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3"/>
          <p:cNvSpPr/>
          <p:nvPr/>
        </p:nvSpPr>
        <p:spPr>
          <a:xfrm>
            <a:off x="179280" y="1341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ли одно из умножаемых раскладывается на однозначные множители, действие удобно выполнять, последовательно перемножая на эти множители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приме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225*6=225*2*3=450*3=1350. Также, проще может оказаться 225*6=(200+25)*6=200*6+25*6=1200+150=135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ществует ещё несколько способов устного счета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приме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ри умножении на 1,5 умножаемое нужно разделить пополам и прибавить к умножаемому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пример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8*1,5= 48/2+48=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3"/>
          <p:cNvSpPr/>
          <p:nvPr/>
        </p:nvSpPr>
        <p:spPr>
          <a:xfrm>
            <a:off x="201600" y="1484280"/>
            <a:ext cx="8942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зведение числа вида X5 (оканчивающегося пятеркой) в квадрат производится по схеме: умножаем X на X+1 и приписываем 25 справа, т.е. (X5)² = (X*(X+1))*100 + 25. Например, 65² = 6*7 и приписываем справа 25 = 4225 или 95² = 9025 (9*10 и приписать 25 справа). Доказательство: (X*10+5)² = X²*100 + 2*X*10*5 + 25 = X*100*(X+1) + 2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ff"/>
                </a:solidFill>
                <a:latin typeface="Arial Black"/>
              </a:rPr>
              <a:t>ДЕЛЕНИЕ НА 5 (50), 25 (250)</a:t>
            </a:r>
            <a:endParaRPr b="1" lang="en-US" sz="2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8000" y="981000"/>
            <a:ext cx="9036000" cy="564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и приемы основываются на том, ч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5 =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· — ;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50 =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· — ;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25 =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· — ;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250 =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· ——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ким образом, чтобы разделить данное число на 5 (50) его над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ножить на 2 и разделить на 10 (100), а для того чтобы разделить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 (250), его надо умножить на 4 и разделить на 100 (100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 р и м е р ы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35 : 5 = 235 · 2 : 10 = 4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25 : 5 = 825 · 2 : 10 = 165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30 : 50 = 430 · 2 : 100 = 86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6 020 : 50 = 86 020 · 2 : 100 = 17 204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225 : 25 = 1 225 · 4 : 100 = 4 900 : 100 = 49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25 : 25 = 725 · 4 : 100 = 2 900 : 100 = 29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62 : 250 = 562 · 4 : 1000 = 2 248 : 1000 = 2,248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56 : 250 = 456 · 4 : 1000 = 1 824 : 1000 = 1, 824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9d9ff"/>
                </a:solidFill>
                <a:latin typeface="Arial Black"/>
              </a:rPr>
              <a:t>УМНОЖЕНИЕ ДВУХЗНАЧНЫХ ЧИСЕЛ НА 11</a:t>
            </a:r>
            <a:endParaRPr b="1" lang="en-US" sz="23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3640" y="1052640"/>
            <a:ext cx="8351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умножении двухзначного числа на 11 возможны д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уча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мма цифр числа, умножаемого на 11, меньше 10. В этом случае надо между ними вставить их сумм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 х 11 = 1(1 + 7)7 = 187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1 х 11 = 8(8 + 1)1 = 89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мма цифр числа, умножаемого на 11, больше 9. В этом случае надо между ними вставить количество единиц в сумме цифр данного числа, а первую цифру множимого числа увеличит на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 х 11 = (2 + 1)08 = 308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 х 11 = (9 + 1)34 = 103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+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9+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 rot="5400000">
            <a:off x="2483640" y="4869720"/>
            <a:ext cx="216000" cy="503280"/>
          </a:xfrm>
          <a:custGeom>
            <a:avLst/>
            <a:gdLst>
              <a:gd name="textAreaLeft" fmla="*/ 0 w 216000"/>
              <a:gd name="textAreaRight" fmla="*/ 78120 w 21600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95"/>
                </a:lnTo>
                <a:cubicBezTo>
                  <a:pt x="10800" y="10395"/>
                  <a:pt x="16200" y="11295"/>
                  <a:pt x="21600" y="11295"/>
                </a:cubicBezTo>
                <a:cubicBezTo>
                  <a:pt x="16200" y="11295"/>
                  <a:pt x="10800" y="12195"/>
                  <a:pt x="10800" y="1309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 rot="5400000">
            <a:off x="6660360" y="4941000"/>
            <a:ext cx="216000" cy="503280"/>
          </a:xfrm>
          <a:custGeom>
            <a:avLst/>
            <a:gdLst>
              <a:gd name="textAreaLeft" fmla="*/ 0 w 216000"/>
              <a:gd name="textAreaRight" fmla="*/ 78120 w 21600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95"/>
                </a:lnTo>
                <a:cubicBezTo>
                  <a:pt x="10800" y="10395"/>
                  <a:pt x="16200" y="11295"/>
                  <a:pt x="21600" y="11295"/>
                </a:cubicBezTo>
                <a:cubicBezTo>
                  <a:pt x="16200" y="11295"/>
                  <a:pt x="10800" y="12195"/>
                  <a:pt x="10800" y="1309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ff"/>
                </a:solidFill>
                <a:latin typeface="Arial Black"/>
              </a:rPr>
              <a:t>УМНОЖЕНИЕ НА 9, 99, 999.</a:t>
            </a:r>
            <a:endParaRPr b="1" lang="en-US" sz="2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096560"/>
            <a:ext cx="8928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множение на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4 · (10 – 1) = 254 · 10 – 254 · 1 = 2 540 – 254 = 2 286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8 478 · (10 – 1) = 38 478 · 10 – 38 478 = 384 780 – 38 478 = 346 30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ким образом, для умножения многозначного числа на 9 над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писать к нему справа нуль и вычесть из результата множимое чис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 а п р и м е р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4 · 9 = 2 540 – 254 = 2 286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8 478 · 9 = 384 780 – 38 478 = 346 30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множение на 99, на 99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ножение на 99, на 999 осуществляется тем же способом, что и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. В этих случаях приписывают два, три нуля и вычитают множим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исл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24 · 99 = 32 400 – 324 = 32 076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46 · 999 = 546 000 – 546 = 545 45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738000"/>
            <a:ext cx="8928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множение числа, состоящего из одинаковых цифр, на двухзначное число, 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торого сумма цифр равно 10, наприме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3 ·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  8 888 ·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   66 666 ·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этих случаях поступаем так: цифру десятков двухзначного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величиваем на 1 и умножаем на цифру, которая повторяется в многозначн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исле; приписываем множимое без двух его цифр; далее справа приписыва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ухзначное, например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 · 5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произведение цифры единиц множителя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у цифру, которая повторяется у множимог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3 · 91 = | (9 + 1) · 3 | 3 | 1 · 3 |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3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               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888 · 64 = | (6 + 1) · 8 | 88 | 4 · 8 |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8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2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6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6 666 · 37 = | (3 + 1) · 6 | 666 | 7 · 6 |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6 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8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d9ff"/>
                </a:solidFill>
                <a:latin typeface="Arial Black"/>
              </a:rPr>
              <a:t>УМНОЖЕНИЕ НА 4 И НА 8</a:t>
            </a:r>
            <a:endParaRPr b="1" lang="en-US" sz="36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6000" y="1412640"/>
            <a:ext cx="8928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устно умножить число на 4 его дважды удваив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2 х 4 = 224 х 2 = 4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5 х 4 = 670 х 2 = 13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устно умножить число на 8 его трижды удваив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17 х 8 = 434 х 4 = 868 х 2 = 17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Еще удобнее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17 х 8 = 200 х 8 + 17 х 8 = 1600 х 136 = 173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ление на 4 и на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устно разделить число из 4, его дважды делят попол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6 : 4 = 38 : 2 = 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36 : 4 = 118 : 2 = 5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устно разделить число из 8, его трижды делят попол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64 : 8 = 232 : 4 = 116 : 2 = 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16 : 8 = 258 : 4 = 129 : 2 = 6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6119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9d9ff"/>
                </a:solidFill>
                <a:latin typeface="Arial Black"/>
              </a:rPr>
              <a:t>Деление на 4 и на 8</a:t>
            </a:r>
            <a:br>
              <a:rPr sz="3300"/>
            </a:br>
            <a:endParaRPr b="1" lang="en-US" sz="33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5946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бы устно разделить число из 4, его дважды делят попол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6 : 4 = 38 : 2 = 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36 : 4 = 118 : 2 = 5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бы устно разделить число из 8, его трижды делят попол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64 : 8 = 232 : 4 = 116 : 2 =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16 : 8 = 258 : 4 = 129 : 2 = 6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ff"/>
                </a:solidFill>
                <a:latin typeface="Arial Black"/>
              </a:rPr>
              <a:t>ПРИЗНАКИ ДЕЛИМОСТИ ЧИСЕЛ</a:t>
            </a:r>
            <a:endParaRPr b="1" lang="en-US" sz="2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0" y="1052280"/>
            <a:ext cx="9036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смотрим некоторые признаки делимости чис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2 делятся все четные числа, т.е. оканчивающие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ифрами 0, 2, 4, 6, 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изнак делимости на 9, а значит, и на 3: если сум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циф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числа делится на 9 (на 3), то число обязатель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ели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без остатка) на 9 (на 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 р и м е р ы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) 2358711 : 9 = ?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) 357 : 9 =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+ 3 + 5 + 8 + 7 + 1 + 1 = 27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3 + 5 + 7 = 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елится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Не дел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) 357 : 3 = ?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) 17426 : 3 =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+ 5 + 7 = 1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1 + 7 + 4 + 2 + 6 =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елится на 3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Не делится на 3, и 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115920"/>
            <a:ext cx="85104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ff"/>
                </a:solidFill>
                <a:latin typeface="Arial Black"/>
              </a:rPr>
              <a:t>ПОЛЕЗНО ЗАПОМНИТЬ:</a:t>
            </a:r>
            <a:endParaRPr b="1" lang="en-US" sz="2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1557000"/>
            <a:ext cx="8028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помнив это, легко выполнять устно умножение числа 37 на 6, 9,12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7 х 6 = 37 х 3 х 2 = 2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7 х 9 = 37 х 3 х 3 = 3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7 х 12 = 37 х 3 х 4 = 4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7 х 15 = 37 х 3 х 5 = 555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помнив это, легко выполнять устно умножение следующего род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7 х 13 = 100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1 х 11 = 100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43 х 7 = 1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7 х 26 = 200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1 х 22 = 200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43 х 14 =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7 х 39 = 300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1 х 33 = 300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43 х 21 = 3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т.д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и т.д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012000" y="2565360"/>
          <a:ext cx="2519280" cy="854280"/>
        </p:xfrm>
        <a:graphic>
          <a:graphicData uri="http://schemas.openxmlformats.org/drawingml/2006/table">
            <a:tbl>
              <a:tblPr/>
              <a:tblGrid>
                <a:gridCol w="251928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х 11 х 13 = 100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778200" y="765000"/>
          <a:ext cx="2233800" cy="473400"/>
        </p:xfrm>
        <a:graphic>
          <a:graphicData uri="http://schemas.openxmlformats.org/drawingml/2006/table">
            <a:tbl>
              <a:tblPr/>
              <a:tblGrid>
                <a:gridCol w="223380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 х 3 = 11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50560" y="-36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ы ч и с л и т ь :   а) 13  ∙  64; б) 24  ∙  1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Р е ш е н и 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произведение 13  ∙  64 не изменится, если первый множитель умножить на 2, а второй разделить на 2, т.е. 13  ∙  64 = 26  ∙  32 = 52  ∙  16 и так далее, пока не получим 832  ∙  1 = 83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  ∙  17 = 12  ∙  34 = 6  ∙  68 = 3  ∙  136 = 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учше так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  ∙  17 = 24  ∙  16 + 24, 24  ∙  16 =48  ∙  8 = 96  ∙  4 = 192  ∙  2 = 384  ∙  1 = 384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гда 24  ∙  17 = 384  +  24 = 40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Занимательное умножение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д чисе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 ∙  11 = 12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∙  9 + 2 =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1  ∙  111 = 1232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12  ∙  9 + 3 = 1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11  ∙  1111 = 123432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123  ∙  9 + 4 = 11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111  ∙  11111 = 12345432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1234  ∙  9 + 5 = 111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…………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12345  ∙  9 + 6 = 1111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1111111  ∙  111111111 = 1234567898765432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123456  ∙  9 + 7 = 11111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  ∙  9 + 7 = 8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8  ∙  9 + 6 = 88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87  ∙  9 + 5 = 888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876  ∙  9 + 4 = 8888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8765  ∙  9 + 3 = 88888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87654  ∙  9 + 2 = 888888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876543  ∙  9 + 1 = 8888888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8765432  ∙  9 + 0 = 88888888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5280" y="-387720"/>
            <a:ext cx="620208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ff"/>
                </a:solidFill>
                <a:latin typeface="Arial Black"/>
              </a:rPr>
              <a:t>ВОЗВЕДЕНИЕ В КВАДРАТ ЧИСЕЛ, ОКАНЧИВАЮЩИХСЯ НА 5</a:t>
            </a:r>
            <a:endParaRPr b="1" lang="en-US" sz="2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557360"/>
            <a:ext cx="8748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юбое такое число можно представить в виде 10А + 5, где А – общ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личество десятков в числе (например, в 395А = 39). Умножим чи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А + 5 само на себя (сначала – на 10А, потом – на 5 и результ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ожим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10А + 5) ∙ (10А + 5) = (10А + 5)10А + (10А + 5)5 = 100А2 + 50А + 50А + 25 = 100А ∙ А + 100А + 25 = 100А(А +1) + 2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этом числе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А(А+1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 количество сотен. Т.е., чтобы возвести в квад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исло, оканчивающееся на 5, надо: отбросив 5, перемножить оставшееся чи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десятков) на следующее по порядку и к результату приписать 25. Например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бы 395 умножить на 395, надо 39 умножить на 40, а это 1560, и припис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рава 25, т.е. 395 ∙ 395 = 156 02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алогичн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∙ 15 = 225 (1 умножаем на 2 и приписываем 25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5 ∙ 75 = 5 625 (7 умножаем на 8 и приписываем 25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 005 ∙ 9 005 = 810 900 [900 умножаем на 901 (устно – наоборот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1 ∙ 900 = 810 900) и приписываем справа 25). Проверьте себ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делив последний результат на 9005 столбиком или на калькулято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помните этот прием умножения, он поможет вам не р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1040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ff"/>
                </a:solidFill>
                <a:latin typeface="Arial Black"/>
              </a:rPr>
              <a:t>ВОЗВЕДЕНИЕ В КВАДРАТ ТРЕХЗНАЧНЫХ ЧИСЕЛ, </a:t>
            </a:r>
            <a:br>
              <a:rPr sz="2400"/>
            </a:br>
            <a:r>
              <a:rPr b="0" lang="en-US" sz="2400" spc="-1" strike="noStrike">
                <a:solidFill>
                  <a:srgbClr val="d9d9ff"/>
                </a:solidFill>
                <a:latin typeface="Arial Black"/>
              </a:rPr>
              <a:t>ОКАНЧИВАЮЩИХСЯ НА 25</a:t>
            </a:r>
            <a:endParaRPr b="1" lang="en-US" sz="2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9280" y="198864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получения квадрата трехзначного числа (например, 325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пишем в конце 625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число сотен (3) умножаем на 5, у полученного числа (15) последню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ифру (5) пишем впереди числа 625, а первую цифру (1) запоминае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число сотен данного числа (3) возводим в квадрат (3 ∙ 3 = 9)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бавляем ту цифру, которую только что запомнили (9 + 1), 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лученный результат (10) пишем впереди написанных нами чисел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2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 р и м е р ы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5 ∙ 125 = [625;  1 ∙ 5 = 5;  0;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62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 1 ∙ 1 = 1;    1 + 0 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 = 15 625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25 ∙ 725 = [625;  7 ∙ 5 = 35;  3;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62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 7 ∙ 7 = 49;  49 + 3 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 = 525 625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25 ∙ 525 = [625;  5 ∙ 5 = 25;  2;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62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 5 ∙ 5 = 25;  25 + 2 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 = 275 625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25 ∙ 625 = [625;  6 ∙ 5 = 30;  3;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62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 6 ∙ 6 = 36;  36 + 3 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 = 390 625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5 ∙ 225 = [625;  2 ∙ 5 = 10;  1;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62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 2 ∙ 2 = 4;    4 + 1 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 = 50 625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1040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ff"/>
                </a:solidFill>
                <a:latin typeface="Arial Black"/>
              </a:rPr>
              <a:t>ВОЗВЕДЕНИЕ В КВАДРАТ ЧИСЕЛ ПЯТОГО</a:t>
            </a:r>
            <a:br>
              <a:rPr sz="2400"/>
            </a:br>
            <a:r>
              <a:rPr b="0" lang="en-US" sz="2400" spc="-1" strike="noStrike">
                <a:solidFill>
                  <a:srgbClr val="d9d9ff"/>
                </a:solidFill>
                <a:latin typeface="Arial Black"/>
              </a:rPr>
              <a:t>И ШЕСТОГО ДЕСЯТКОВ</a:t>
            </a:r>
            <a:endParaRPr b="1" lang="en-US" sz="2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16000" y="1386000"/>
            <a:ext cx="8928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бы возвести в квадрат число пятого десятка (4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,….49), надо к числу единиц прибавить 15, затем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ученной сумме приписать квадрат дополнения чис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диниц до 10 (если этот квадрат – однозначное число, 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д ним приписывается 0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 а п р и м е 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15 + 3) ∙ 100 + 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1849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15 + 8) ∙ 100 +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304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ще проще возвести в квадрат число шестого десятка (5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, …. 59). Для этого надо к числу единиц прибавить 25 и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й сумме приписать квадрат числа един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 а п р и м е 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25 + 4) ∙ 100 +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916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25 + 7) ∙ 100 + 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3249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39280" y="907560"/>
            <a:ext cx="8388360" cy="65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умножить число на 5 (50), надо разделить его на 2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ножить на 10 (10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 р и м е р 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46 ∙ 5 = 446 : 2 ∙ 10 = 2 23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672 ∙ 50 = 4 672 : 2 ∙ 100 = 233 6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38 ∙ 5 = 638 : 2 ∙ 10 = 3 19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32 ∙ 50 = 832 : 2 ∙ 100 = 41 6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ы умножить число на 25 (250), надо умножить его на 100 (1 000)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делить на 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 р и м е р 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8 ∙ 25 = 8800 : 4 = 2 2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24 ∙ 250 = 24 000 : 4 = 6 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8 ∙ 25 = 24 800 : 4 = 6 2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484 ∙ 250 = 484 000 : 4 = 121 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256 ∙ 25 = 125 600 : 4 = 31 4006     404 ∙ 250 = 6 404 000 : 4 = 1 601 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115560"/>
            <a:ext cx="85104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ff"/>
                </a:solidFill>
                <a:latin typeface="Arial Black"/>
              </a:rPr>
              <a:t>УМНОЖЕНИЕ ДВУХЗНАЧНЫХ ЧИСЕЛ,</a:t>
            </a:r>
            <a:br>
              <a:rPr sz="2400"/>
            </a:br>
            <a:r>
              <a:rPr b="0" lang="en-US" sz="2400" spc="-1" strike="noStrike">
                <a:solidFill>
                  <a:srgbClr val="d9d9ff"/>
                </a:solidFill>
                <a:latin typeface="Arial Black"/>
              </a:rPr>
              <a:t>БЛИЗКИХ К 100</a:t>
            </a:r>
            <a:endParaRPr b="1" lang="en-US" sz="2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55640" y="1268280"/>
            <a:ext cx="7632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 р и м е р 1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числить 95 ∙ 89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 е ш е н и е : чтобы получить две послед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ифры ответа (единицы и десятки), необходимо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0 – 95 = 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– 89 = 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результаты перемножить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5 ∙ 11 = 5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бы получить первые две цифры (тысячи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тни), надо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 – 11 = 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езультате имеем: 95 ∙ 89 = 8 4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24000" y="333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П р и м е р   2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ычислить 93 ∙ 87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Р е ш е н и е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0 – 93 = 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0 – 87 = 1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7 ∙ 13 = 91 – последние две цифр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93 – 13 = 80 – первые две цифр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Таким образом: 93 ∙ 87 = 8 09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24000" y="333360"/>
            <a:ext cx="85406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П р и м е р   3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ычислить 98 ∙ 87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Р е ш е н и е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0 – 98 = 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0 – 87 = 1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 ∙ 13 = 26 – последние две цифр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98 – 13 = 85 – первые две цифр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Таким образом: 98 ∙ 87 = 8 52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9:02:43Z</dcterms:created>
  <dc:creator>Теропевт</dc:creator>
  <dc:description/>
  <dc:language>en-US</dc:language>
  <cp:lastModifiedBy>User</cp:lastModifiedBy>
  <dcterms:modified xsi:type="dcterms:W3CDTF">2013-01-21T19:19:18Z</dcterms:modified>
  <cp:revision>28</cp:revision>
  <dc:subject/>
  <dc:title>ПРИЕМЫ УСТНОГО СЧЕТА</dc:title>
</cp:coreProperties>
</file>