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4.jpeg" ContentType="image/jpeg"/>
  <Override PartName="/ppt/media/image35.png" ContentType="image/png"/>
  <Override PartName="/ppt/media/image5.jpeg" ContentType="image/jpeg"/>
  <Override PartName="/ppt/media/image39.png" ContentType="image/png"/>
  <Override PartName="/ppt/media/image41.png" ContentType="image/png"/>
  <Override PartName="/ppt/media/image33.png" ContentType="image/png"/>
  <Override PartName="/ppt/media/image45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0E85-97F8-495A-A12B-574C2727F5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286-F32F-45A8-9D40-234FED4FB7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A45-9526-4746-8C0E-6F8859BA7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A4A7-BB74-4CA0-9FC1-EB3C42798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429E-6F1E-4E7E-84AC-0D2AA6E26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D6D8-84B9-4389-B000-1EB17C7B3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051-4090-45C0-9C6B-D9CB7B51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18E-CFA1-4A9A-B7D2-3849E977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8CD-7768-4E80-8043-704079B9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E1B-3C34-4968-9685-7C67C8CD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B4E8-2E1C-4E5E-8A5C-DFBDD36A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5634-EC7E-4AB0-ACF7-F933EE74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35F7-4F53-4BB5-8ED8-F4B3983C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BC55-C061-4415-A629-FED954A4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CA4F-4975-4232-86AF-A4F3A12B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CEA9-E022-4ABE-A73C-35FC26F4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A723-E414-466A-A85D-498FA51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AED-E16E-4591-8EA3-4362C441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B94C-DEBF-452A-BF45-1EBF0EEE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B29B-4583-468A-BB27-A857F7B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CFCF-7719-4059-941A-E92105DA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D37C-42FB-4191-88EB-783D231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52B-3DDE-41FD-9560-4CF5E25F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E85C-24A6-44A7-90CA-ED377670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B50AB-B8F4-4A55-B5FB-D5230608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8A3F-5118-4D49-AF7B-0A3D742A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6E33-CAAB-452C-90F8-3D0DC65B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EFE4-C9D0-45BE-8274-74FAA184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E27-CB2B-4498-8757-F6DC1DEA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B2C3-AD70-4EFA-95F4-DA0CEDE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A3FE-F0EB-4656-87AF-1D847B5E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4245-1F24-486F-9EFB-D1992FE1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C9A0-B4D8-4DA9-895A-9F4BA1A1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8835-9FB4-4942-9E71-F247C62F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427F-3E45-48F1-9227-860BD5BD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4DE4-C3FA-4B0D-AB7B-F17F3C16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F8E9-E425-4004-84B3-7DE5D8E6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E417-95DE-42F8-9B6C-D2F8752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041A5-8F27-465A-8A7B-57093FC3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3AC-0E69-45E4-B03E-562C06B5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B0CE-A10A-4F11-BE7F-23F6916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31AB-9967-49CE-B52A-9DCB5CC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3289-A10E-4C7F-8BDF-B5A62071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B5350-8F18-4F7C-A503-6B49E915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4D2D-ED7F-4910-BE97-F6D9B23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40FCD-4C76-462F-A6E8-856F056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F9FEA-2283-4B0B-BAA3-F52DBAD3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7CC1-7FA3-415A-8F47-1C821562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F775-9CEE-4F7F-AE9C-2854FAC5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D92A8-7CAB-4614-9602-E4C21E62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01E-9BEC-4E7B-AC16-F7509FE0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CC28-F11B-4E84-B048-591B109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F5564-422F-4C1C-8C50-CF857E7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D10D-44DD-4C0B-BAC5-E7DDE914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7785-01A6-4427-B98E-2106EE10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8A8C7-4D48-48C0-8839-87AB06F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3D619-B03A-42B9-8EE1-81F2946A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F695-9B25-4705-BC6D-792E4F55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F13C1-106E-407B-9B1F-C4CB591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294AA-5516-4E8D-B70A-22C25511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5B47D-EF23-446E-94A3-9F1B57C6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45E-8394-4ED9-8F2A-082340F1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153E7-CEE7-4098-8E98-01599606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08F-0F71-4209-B156-3DC944C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0D2-9BE2-44D2-8F9C-02E4C3F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B77-2FA6-4BC4-95D6-0B8E4434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708-DD27-4583-9ED9-46F2B828731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7337-5266-49BC-B386-314D75FC1C2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7057-AA23-4005-A1B6-E348B903C9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B59E-753D-4E8B-8AF1-2D2FD1D80F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7B6-D663-4A9F-AAC6-A9228D3E6AE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2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203640" y="4005000"/>
            <a:ext cx="571824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mbria"/>
              </a:rPr>
              <a:t>Выполнила: Андрова Алина Валерьевна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mbria"/>
              </a:rPr>
              <a:t>ученица 11 «а» класса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mbria"/>
              </a:rPr>
              <a:t>Руководитель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mbria"/>
              </a:rPr>
              <a:t>Тиунова Людмила Владимировна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mbria"/>
              </a:rPr>
              <a:t>учитель хими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5480" y="1557000"/>
            <a:ext cx="871524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а здравствует Шампунь!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(Изучение состава и свойств шампуней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476360" y="18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Гай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У «Пои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аблюдение обазования пен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2" name="Picture 2" descr="K:\P1040885.JPG"/>
          <p:cNvPicPr/>
          <p:nvPr/>
        </p:nvPicPr>
        <p:blipFill>
          <a:blip r:embed="rId1"/>
          <a:stretch/>
        </p:blipFill>
        <p:spPr>
          <a:xfrm>
            <a:off x="3780000" y="1413000"/>
            <a:ext cx="518616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13" name="TextBox 4"/>
          <p:cNvSpPr/>
          <p:nvPr/>
        </p:nvSpPr>
        <p:spPr>
          <a:xfrm>
            <a:off x="8317080" y="6165720"/>
            <a:ext cx="647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324000" y="981000"/>
            <a:ext cx="3168360" cy="1320120"/>
          </a:xfrm>
          <a:prstGeom prst="roundRect">
            <a:avLst>
              <a:gd name="adj" fmla="val 16667"/>
            </a:avLst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лить в мерный цилиндр воду 25 м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468360" y="2637000"/>
            <a:ext cx="2808360" cy="914760"/>
          </a:xfrm>
          <a:prstGeom prst="roundRect">
            <a:avLst>
              <a:gd name="adj" fmla="val 16667"/>
            </a:avLst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Добавить 0,2 мл шампу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324000" y="3860640"/>
            <a:ext cx="3095640" cy="1319400"/>
          </a:xfrm>
          <a:prstGeom prst="roundRect">
            <a:avLst>
              <a:gd name="adj" fmla="val 16667"/>
            </a:avLst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збалтывать в течение 1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468360" y="5013360"/>
            <a:ext cx="2879640" cy="1455480"/>
          </a:xfrm>
          <a:prstGeom prst="roundRect">
            <a:avLst>
              <a:gd name="adj" fmla="val 16667"/>
            </a:avLst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змерить высоту столба пены сразу и через каждые 5, 10, 15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трелка вниз 12"/>
          <p:cNvSpPr/>
          <p:nvPr/>
        </p:nvSpPr>
        <p:spPr>
          <a:xfrm>
            <a:off x="1763640" y="234936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низ 13"/>
          <p:cNvSpPr/>
          <p:nvPr/>
        </p:nvSpPr>
        <p:spPr>
          <a:xfrm>
            <a:off x="1763640" y="357336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низ 14"/>
          <p:cNvSpPr/>
          <p:nvPr/>
        </p:nvSpPr>
        <p:spPr>
          <a:xfrm>
            <a:off x="1763640" y="479736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одержимое 3" descr=""/>
          <p:cNvPicPr/>
          <p:nvPr/>
        </p:nvPicPr>
        <p:blipFill>
          <a:blip r:embed="rId1"/>
          <a:stretch/>
        </p:blipFill>
        <p:spPr>
          <a:xfrm>
            <a:off x="244440" y="328680"/>
            <a:ext cx="7369200" cy="49816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8172360" y="6165720"/>
            <a:ext cx="647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5"/>
              <p:cNvSpPr txBox="1"/>
              <p:nvPr/>
            </p:nvSpPr>
            <p:spPr>
              <a:xfrm>
                <a:off x="4859280" y="4721400"/>
                <a:ext cx="35942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 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 ma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пределение уровня рН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8" name="Picture 2" descr="K:\P1040888.JPG"/>
          <p:cNvPicPr/>
          <p:nvPr/>
        </p:nvPicPr>
        <p:blipFill>
          <a:blip r:embed="rId1"/>
          <a:stretch/>
        </p:blipFill>
        <p:spPr>
          <a:xfrm>
            <a:off x="2700360" y="1628640"/>
            <a:ext cx="6083280" cy="456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9" name="Picture 3" descr="K:\P1040876.JPG"/>
          <p:cNvPicPr/>
          <p:nvPr/>
        </p:nvPicPr>
        <p:blipFill>
          <a:blip r:embed="rId2"/>
          <a:stretch/>
        </p:blipFill>
        <p:spPr>
          <a:xfrm>
            <a:off x="684360" y="1916280"/>
            <a:ext cx="2914560" cy="281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0" name="TextBox 5"/>
          <p:cNvSpPr/>
          <p:nvPr/>
        </p:nvSpPr>
        <p:spPr>
          <a:xfrm>
            <a:off x="8172360" y="6165720"/>
            <a:ext cx="647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TextBox 6"/>
          <p:cNvGrpSpPr/>
          <p:nvPr/>
        </p:nvGrpSpPr>
        <p:grpSpPr>
          <a:xfrm>
            <a:off x="195120" y="4840200"/>
            <a:ext cx="2524320" cy="1411920"/>
            <a:chOff x="195120" y="4840200"/>
            <a:chExt cx="2524320" cy="1411920"/>
          </a:xfrm>
        </p:grpSpPr>
        <p:pic>
          <p:nvPicPr>
            <p:cNvPr id="332" name="TextBox 6" descr=""/>
            <p:cNvPicPr/>
            <p:nvPr/>
          </p:nvPicPr>
          <p:blipFill>
            <a:blip r:embed="rId3"/>
            <a:stretch/>
          </p:blipFill>
          <p:spPr>
            <a:xfrm>
              <a:off x="195120" y="4840200"/>
              <a:ext cx="25243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95280" y="5183280"/>
              <a:ext cx="223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Датчик р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35" name="Содержимое 3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582040" cy="6205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4"/>
          <p:cNvSpPr/>
          <p:nvPr/>
        </p:nvSpPr>
        <p:spPr>
          <a:xfrm>
            <a:off x="8172360" y="6165720"/>
            <a:ext cx="647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пределение суспензирующей способности шампуне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8172360" y="6165720"/>
            <a:ext cx="647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395280" y="1700280"/>
            <a:ext cx="6048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сса угля, не подвергшегося суспенз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олостой опыт(0,25 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уг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уголь, перешедший в раств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K:\P1040972.JPG"/>
          <p:cNvPicPr/>
          <p:nvPr/>
        </p:nvPicPr>
        <p:blipFill>
          <a:blip r:embed="rId1"/>
          <a:stretch/>
        </p:blipFill>
        <p:spPr>
          <a:xfrm>
            <a:off x="1258920" y="3789360"/>
            <a:ext cx="5816520" cy="277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1" name="Picture 7" descr="K:\P1040973.JPG"/>
          <p:cNvPicPr/>
          <p:nvPr/>
        </p:nvPicPr>
        <p:blipFill>
          <a:blip r:embed="rId2"/>
          <a:stretch/>
        </p:blipFill>
        <p:spPr>
          <a:xfrm>
            <a:off x="6156360" y="1125360"/>
            <a:ext cx="2530440" cy="26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43" name="Содержимое 3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180640" cy="62053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8172360" y="6165720"/>
            <a:ext cx="647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4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8826480" cy="4657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:\P1040870.JPG"/>
          <p:cNvPicPr/>
          <p:nvPr/>
        </p:nvPicPr>
        <p:blipFill>
          <a:blip r:embed="rId2"/>
          <a:stretch/>
        </p:blipFill>
        <p:spPr>
          <a:xfrm>
            <a:off x="250920" y="3357720"/>
            <a:ext cx="3025800" cy="31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TextBox 5"/>
          <p:cNvSpPr/>
          <p:nvPr/>
        </p:nvSpPr>
        <p:spPr>
          <a:xfrm>
            <a:off x="8172360" y="6165720"/>
            <a:ext cx="647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5"/>
              <p:cNvSpPr txBox="1"/>
              <p:nvPr/>
            </p:nvSpPr>
            <p:spPr>
              <a:xfrm>
                <a:off x="3995640" y="4869000"/>
                <a:ext cx="40737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эмульсии</m:t>
                        </m:r>
                      </m:num>
                      <m:den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общий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4952880" cy="72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Моющая способност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3" name="Picture 2" descr="F:\исслед 2012\P1040975.JPG"/>
          <p:cNvPicPr/>
          <p:nvPr/>
        </p:nvPicPr>
        <p:blipFill>
          <a:blip r:embed="rId1"/>
          <a:stretch/>
        </p:blipFill>
        <p:spPr>
          <a:xfrm>
            <a:off x="3200400" y="828720"/>
            <a:ext cx="5772240" cy="2962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8172360" y="6165720"/>
            <a:ext cx="647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179280" y="907920"/>
            <a:ext cx="3168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елую шерсть испачкать грязью и кра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пустить в мыльный раствор шампуня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(0,2 мл шампуня на 25 мл воды)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 1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збалтывать в течение 30 секу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тж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полосн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суш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3419640" y="4221000"/>
            <a:ext cx="5329080" cy="199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Лучше всех отмыл шампунь марки «Ушастый нянь», хуже всех –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Palmoliv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8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Определение органолептических свойств шампун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8" name="Picture 3" descr="C:\Users\ASUS\Desktop\Новая папка (2)\021120121089.jpg"/>
          <p:cNvPicPr/>
          <p:nvPr/>
        </p:nvPicPr>
        <p:blipFill>
          <a:blip r:embed="rId1"/>
          <a:stretch/>
        </p:blipFill>
        <p:spPr>
          <a:xfrm>
            <a:off x="3348000" y="765000"/>
            <a:ext cx="3600360" cy="27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9" name="Picture 2" descr="C:\Users\ASUS\Desktop\Новая папка (2)\021120121088.jpg"/>
          <p:cNvPicPr/>
          <p:nvPr/>
        </p:nvPicPr>
        <p:blipFill>
          <a:blip r:embed="rId2"/>
          <a:stretch/>
        </p:blipFill>
        <p:spPr>
          <a:xfrm>
            <a:off x="4716360" y="2781360"/>
            <a:ext cx="3373560" cy="253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0" name="Picture 4" descr="C:\Users\ASUS\Desktop\Новая папка (2)\021120121090.jpg"/>
          <p:cNvPicPr/>
          <p:nvPr/>
        </p:nvPicPr>
        <p:blipFill>
          <a:blip r:embed="rId3"/>
          <a:stretch/>
        </p:blipFill>
        <p:spPr>
          <a:xfrm>
            <a:off x="6516720" y="4581360"/>
            <a:ext cx="243828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61" name="TextBox 6"/>
          <p:cNvGrpSpPr/>
          <p:nvPr/>
        </p:nvGrpSpPr>
        <p:grpSpPr>
          <a:xfrm>
            <a:off x="324000" y="3591000"/>
            <a:ext cx="2504880" cy="712800"/>
            <a:chOff x="324000" y="3591000"/>
            <a:chExt cx="2504880" cy="712800"/>
          </a:xfrm>
        </p:grpSpPr>
        <p:pic>
          <p:nvPicPr>
            <p:cNvPr id="362" name="TextBox 6" descr=""/>
            <p:cNvPicPr/>
            <p:nvPr/>
          </p:nvPicPr>
          <p:blipFill>
            <a:blip r:embed="rId4"/>
            <a:stretch/>
          </p:blipFill>
          <p:spPr>
            <a:xfrm>
              <a:off x="324000" y="3591000"/>
              <a:ext cx="25048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95360" y="3673440"/>
              <a:ext cx="224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. Окрас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TextBox 7"/>
          <p:cNvGrpSpPr/>
          <p:nvPr/>
        </p:nvGrpSpPr>
        <p:grpSpPr>
          <a:xfrm>
            <a:off x="324000" y="4309920"/>
            <a:ext cx="2144520" cy="712800"/>
            <a:chOff x="324000" y="4309920"/>
            <a:chExt cx="2144520" cy="712800"/>
          </a:xfrm>
        </p:grpSpPr>
        <p:pic>
          <p:nvPicPr>
            <p:cNvPr id="365" name="TextBox 7" descr=""/>
            <p:cNvPicPr/>
            <p:nvPr/>
          </p:nvPicPr>
          <p:blipFill>
            <a:blip r:embed="rId5"/>
            <a:stretch/>
          </p:blipFill>
          <p:spPr>
            <a:xfrm>
              <a:off x="324000" y="4309920"/>
              <a:ext cx="21445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95360" y="43927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2. Запа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TextBox 8"/>
          <p:cNvGrpSpPr/>
          <p:nvPr/>
        </p:nvGrpSpPr>
        <p:grpSpPr>
          <a:xfrm>
            <a:off x="324000" y="5029200"/>
            <a:ext cx="3730320" cy="712800"/>
            <a:chOff x="324000" y="5029200"/>
            <a:chExt cx="3730320" cy="712800"/>
          </a:xfrm>
        </p:grpSpPr>
        <p:pic>
          <p:nvPicPr>
            <p:cNvPr id="368" name="TextBox 8" descr=""/>
            <p:cNvPicPr/>
            <p:nvPr/>
          </p:nvPicPr>
          <p:blipFill>
            <a:blip r:embed="rId6"/>
            <a:stretch/>
          </p:blipFill>
          <p:spPr>
            <a:xfrm>
              <a:off x="324000" y="5029200"/>
              <a:ext cx="37303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95360" y="5113440"/>
              <a:ext cx="34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. Консистен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TextBox 9"/>
          <p:cNvGrpSpPr/>
          <p:nvPr/>
        </p:nvGrpSpPr>
        <p:grpSpPr>
          <a:xfrm>
            <a:off x="171360" y="974880"/>
            <a:ext cx="3041640" cy="2158920"/>
            <a:chOff x="171360" y="974880"/>
            <a:chExt cx="3041640" cy="2158920"/>
          </a:xfrm>
        </p:grpSpPr>
        <p:pic>
          <p:nvPicPr>
            <p:cNvPr id="371" name="TextBox 9" descr=""/>
            <p:cNvPicPr/>
            <p:nvPr/>
          </p:nvPicPr>
          <p:blipFill>
            <a:blip r:embed="rId7"/>
            <a:stretch/>
          </p:blipFill>
          <p:spPr>
            <a:xfrm>
              <a:off x="171360" y="974880"/>
              <a:ext cx="3041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84040" y="1085760"/>
              <a:ext cx="2814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Закодированные  марки шампуней были предложены респондентам с целью выявить лучший по следующим критериям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TextBox 10"/>
          <p:cNvGrpSpPr/>
          <p:nvPr/>
        </p:nvGrpSpPr>
        <p:grpSpPr>
          <a:xfrm>
            <a:off x="6303960" y="841320"/>
            <a:ext cx="646200" cy="609480"/>
            <a:chOff x="6303960" y="841320"/>
            <a:chExt cx="646200" cy="609480"/>
          </a:xfrm>
        </p:grpSpPr>
        <p:pic>
          <p:nvPicPr>
            <p:cNvPr id="374" name="TextBox 10" descr=""/>
            <p:cNvPicPr/>
            <p:nvPr/>
          </p:nvPicPr>
          <p:blipFill>
            <a:blip r:embed="rId8"/>
            <a:stretch/>
          </p:blipFill>
          <p:spPr>
            <a:xfrm>
              <a:off x="6303960" y="841320"/>
              <a:ext cx="646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443640" y="907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TextBox 11"/>
          <p:cNvGrpSpPr/>
          <p:nvPr/>
        </p:nvGrpSpPr>
        <p:grpSpPr>
          <a:xfrm>
            <a:off x="7381800" y="2852640"/>
            <a:ext cx="646200" cy="615960"/>
            <a:chOff x="7381800" y="2852640"/>
            <a:chExt cx="646200" cy="615960"/>
          </a:xfrm>
        </p:grpSpPr>
        <p:pic>
          <p:nvPicPr>
            <p:cNvPr id="377" name="TextBox 11" descr=""/>
            <p:cNvPicPr/>
            <p:nvPr/>
          </p:nvPicPr>
          <p:blipFill>
            <a:blip r:embed="rId9"/>
            <a:stretch/>
          </p:blipFill>
          <p:spPr>
            <a:xfrm>
              <a:off x="7381800" y="2852640"/>
              <a:ext cx="646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524720" y="29242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Box 12"/>
          <p:cNvGrpSpPr/>
          <p:nvPr/>
        </p:nvGrpSpPr>
        <p:grpSpPr>
          <a:xfrm>
            <a:off x="8321760" y="4657680"/>
            <a:ext cx="646200" cy="609480"/>
            <a:chOff x="8321760" y="4657680"/>
            <a:chExt cx="646200" cy="609480"/>
          </a:xfrm>
        </p:grpSpPr>
        <p:pic>
          <p:nvPicPr>
            <p:cNvPr id="380" name="TextBox 12" descr=""/>
            <p:cNvPicPr/>
            <p:nvPr/>
          </p:nvPicPr>
          <p:blipFill>
            <a:blip r:embed="rId10"/>
            <a:stretch/>
          </p:blipFill>
          <p:spPr>
            <a:xfrm>
              <a:off x="8321760" y="4657680"/>
              <a:ext cx="646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459640" y="472428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3"/>
          <p:cNvSpPr/>
          <p:nvPr/>
        </p:nvSpPr>
        <p:spPr>
          <a:xfrm>
            <a:off x="8244000" y="6165720"/>
            <a:ext cx="576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655120" cy="64198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2"/>
          <p:cNvSpPr/>
          <p:nvPr/>
        </p:nvSpPr>
        <p:spPr>
          <a:xfrm>
            <a:off x="8244000" y="6165720"/>
            <a:ext cx="576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1628640"/>
            <a:ext cx="842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зучить историю шампу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знать состав шампу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ссчитать цену шампу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ределить критерии оценки эффективности шампу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вести эксперимент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вести опрос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делать вывод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68360" y="189000"/>
            <a:ext cx="7991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самый эффективный шампу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8317080" y="6165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6"/>
          <p:cNvSpPr/>
          <p:nvPr/>
        </p:nvSpPr>
        <p:spPr>
          <a:xfrm>
            <a:off x="8244000" y="6165720"/>
            <a:ext cx="576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79280" y="907920"/>
          <a:ext cx="8785440" cy="4950000"/>
        </p:xfrm>
        <a:graphic>
          <a:graphicData uri="http://schemas.openxmlformats.org/drawingml/2006/table">
            <a:tbl>
              <a:tblPr/>
              <a:tblGrid>
                <a:gridCol w="1224000"/>
                <a:gridCol w="784440"/>
                <a:gridCol w="1079280"/>
                <a:gridCol w="1170000"/>
                <a:gridCol w="1143000"/>
                <a:gridCol w="1170000"/>
                <a:gridCol w="889200"/>
                <a:gridCol w="715680"/>
                <a:gridCol w="609840"/>
              </a:tblGrid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терии оценки                                                  марка шампу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ость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ойчивость пены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спензирующая способность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ульгирующая способность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ющая способ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лептически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а, 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&amp;Shou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mol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отмы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uma K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плох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плох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i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плох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lear vita a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плох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arn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то рецептов крас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шастый ня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пол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шадиный шампу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плох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y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ыл 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Прямая соединительная линия 7"/>
          <p:cNvSpPr/>
          <p:nvPr/>
        </p:nvSpPr>
        <p:spPr>
          <a:xfrm>
            <a:off x="17928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7056360" cy="17305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В результате исследования были определены лучшие шампун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90" name="Picture 3" descr="C:\Documents and Settings\АннА\Рабочий стол\Новая папка\STO_RK_prostokvasha.jpg"/>
          <p:cNvPicPr/>
          <p:nvPr/>
        </p:nvPicPr>
        <p:blipFill>
          <a:blip r:embed="rId2"/>
          <a:stretch/>
        </p:blipFill>
        <p:spPr>
          <a:xfrm>
            <a:off x="3708360" y="1413000"/>
            <a:ext cx="1378080" cy="317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Documents and Settings\АннА\Рабочий стол\Новая папка\загруженное.jpg"/>
          <p:cNvPicPr/>
          <p:nvPr/>
        </p:nvPicPr>
        <p:blipFill>
          <a:blip r:embed="rId3"/>
          <a:stretch/>
        </p:blipFill>
        <p:spPr>
          <a:xfrm>
            <a:off x="6300720" y="2205000"/>
            <a:ext cx="2664000" cy="2747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Documents and Settings\АннА\Рабочий стол\Новая папка\45149-800x800.jpg"/>
          <p:cNvPicPr/>
          <p:nvPr/>
        </p:nvPicPr>
        <p:blipFill>
          <a:blip r:embed="rId4"/>
          <a:stretch/>
        </p:blipFill>
        <p:spPr>
          <a:xfrm>
            <a:off x="5724360" y="2133720"/>
            <a:ext cx="1551240" cy="28033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8"/>
          <p:cNvSpPr/>
          <p:nvPr/>
        </p:nvSpPr>
        <p:spPr>
          <a:xfrm>
            <a:off x="8244000" y="6165720"/>
            <a:ext cx="576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9" descr="C:\Users\ASUS\Desktop\Clear0013-1_enl.png"/>
          <p:cNvPicPr/>
          <p:nvPr/>
        </p:nvPicPr>
        <p:blipFill>
          <a:blip r:embed="rId5"/>
          <a:stretch/>
        </p:blipFill>
        <p:spPr>
          <a:xfrm>
            <a:off x="1908000" y="1916280"/>
            <a:ext cx="9352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5092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Объект исследования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Шампу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редмет исследования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став и свойства шампу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нализ, наблюдение, эксперимент, анкетировани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равне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8317080" y="6165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57160" y="1928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Гипотеза исследования: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ем дороже шампунь, тем он эффективне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8317080" y="6165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Documents and Settings\АннА\Рабочий стол\Новая папка\17070106.jpg"/>
          <p:cNvPicPr/>
          <p:nvPr/>
        </p:nvPicPr>
        <p:blipFill>
          <a:blip r:embed="rId1"/>
          <a:stretch/>
        </p:blipFill>
        <p:spPr>
          <a:xfrm>
            <a:off x="5940360" y="3645000"/>
            <a:ext cx="1332000" cy="2687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Documents and Settings\АннА\Рабочий стол\Новая папка\2717.jpg"/>
          <p:cNvPicPr/>
          <p:nvPr/>
        </p:nvPicPr>
        <p:blipFill>
          <a:blip r:embed="rId2"/>
          <a:stretch/>
        </p:blipFill>
        <p:spPr>
          <a:xfrm>
            <a:off x="5370480" y="692280"/>
            <a:ext cx="1127160" cy="249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АннА\Рабочий стол\Новая папка\45149-800x800.jpg"/>
          <p:cNvPicPr/>
          <p:nvPr/>
        </p:nvPicPr>
        <p:blipFill>
          <a:blip r:embed="rId3"/>
          <a:stretch/>
        </p:blipFill>
        <p:spPr>
          <a:xfrm>
            <a:off x="3059280" y="3645000"/>
            <a:ext cx="1481040" cy="2674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Documents and Settings\АннА\Рабочий стол\Новая папка\471d17ad184130baf5c3d5169220d9a8.jpeg"/>
          <p:cNvPicPr/>
          <p:nvPr/>
        </p:nvPicPr>
        <p:blipFill>
          <a:blip r:embed="rId4"/>
          <a:stretch/>
        </p:blipFill>
        <p:spPr>
          <a:xfrm>
            <a:off x="7308720" y="3357720"/>
            <a:ext cx="1079640" cy="294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C:\Documents and Settings\АннА\Рабочий стол\Новая папка\7465-500x500.jpg"/>
          <p:cNvPicPr/>
          <p:nvPr/>
        </p:nvPicPr>
        <p:blipFill>
          <a:blip r:embed="rId5"/>
          <a:stretch/>
        </p:blipFill>
        <p:spPr>
          <a:xfrm>
            <a:off x="4500720" y="3500280"/>
            <a:ext cx="1409400" cy="3013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C:\Documents and Settings\АннА\Рабочий стол\Новая папка\97971.jpg"/>
          <p:cNvPicPr/>
          <p:nvPr/>
        </p:nvPicPr>
        <p:blipFill>
          <a:blip r:embed="rId6"/>
          <a:stretch/>
        </p:blipFill>
        <p:spPr>
          <a:xfrm>
            <a:off x="4284720" y="765000"/>
            <a:ext cx="1224000" cy="2338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C:\Documents and Settings\АннА\Рабочий стол\Новая папка\image.jpeg"/>
          <p:cNvPicPr/>
          <p:nvPr/>
        </p:nvPicPr>
        <p:blipFill>
          <a:blip r:embed="rId7"/>
          <a:stretch/>
        </p:blipFill>
        <p:spPr>
          <a:xfrm>
            <a:off x="1835280" y="3481560"/>
            <a:ext cx="1296720" cy="2840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АннА\Рабочий стол\Новая папка\STO_RK_prostokvasha.jpg"/>
          <p:cNvPicPr/>
          <p:nvPr/>
        </p:nvPicPr>
        <p:blipFill>
          <a:blip r:embed="rId8"/>
          <a:stretch/>
        </p:blipFill>
        <p:spPr>
          <a:xfrm>
            <a:off x="2987640" y="620640"/>
            <a:ext cx="1339920" cy="2543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C:\Documents and Settings\АннА\Рабочий стол\Новая папка\ushastyy-nyan-shampun-200-ml.jpg"/>
          <p:cNvPicPr/>
          <p:nvPr/>
        </p:nvPicPr>
        <p:blipFill>
          <a:blip r:embed="rId9"/>
          <a:stretch/>
        </p:blipFill>
        <p:spPr>
          <a:xfrm>
            <a:off x="611280" y="3429000"/>
            <a:ext cx="1008000" cy="2840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АннА\Рабочий стол\Новая папка\загруженное.jpg"/>
          <p:cNvPicPr/>
          <p:nvPr/>
        </p:nvPicPr>
        <p:blipFill>
          <a:blip r:embed="rId10"/>
          <a:stretch/>
        </p:blipFill>
        <p:spPr>
          <a:xfrm>
            <a:off x="6948360" y="907920"/>
            <a:ext cx="2100240" cy="21020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2"/>
          <p:cNvSpPr/>
          <p:nvPr/>
        </p:nvSpPr>
        <p:spPr>
          <a:xfrm>
            <a:off x="8317080" y="6165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C:\Documents and Settings\АннА\Рабочий стол\Новая папка\534580-404-thickbox.jpg"/>
          <p:cNvPicPr/>
          <p:nvPr/>
        </p:nvPicPr>
        <p:blipFill>
          <a:blip r:embed="rId11"/>
          <a:stretch/>
        </p:blipFill>
        <p:spPr>
          <a:xfrm>
            <a:off x="6372360" y="765000"/>
            <a:ext cx="1225440" cy="23893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179280" y="69228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емые марки шампу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676728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остав шампу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60" name="TextBox 3"/>
          <p:cNvGrpSpPr/>
          <p:nvPr/>
        </p:nvGrpSpPr>
        <p:grpSpPr>
          <a:xfrm>
            <a:off x="-55440" y="798480"/>
            <a:ext cx="1731960" cy="835200"/>
            <a:chOff x="-55440" y="798480"/>
            <a:chExt cx="1731960" cy="835200"/>
          </a:xfrm>
        </p:grpSpPr>
        <p:pic>
          <p:nvPicPr>
            <p:cNvPr id="261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798480"/>
              <a:ext cx="17319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79280" y="90792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ambria"/>
                </a:rPr>
                <a:t>Вод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TextBox 4"/>
          <p:cNvGrpSpPr/>
          <p:nvPr/>
        </p:nvGrpSpPr>
        <p:grpSpPr>
          <a:xfrm>
            <a:off x="328680" y="4224240"/>
            <a:ext cx="3292560" cy="1259640"/>
            <a:chOff x="328680" y="4224240"/>
            <a:chExt cx="3292560" cy="1259640"/>
          </a:xfrm>
        </p:grpSpPr>
        <p:pic>
          <p:nvPicPr>
            <p:cNvPr id="264" name="TextBox 4" descr=""/>
            <p:cNvPicPr/>
            <p:nvPr/>
          </p:nvPicPr>
          <p:blipFill>
            <a:blip r:embed="rId2"/>
            <a:stretch/>
          </p:blipFill>
          <p:spPr>
            <a:xfrm>
              <a:off x="328680" y="4224240"/>
              <a:ext cx="32925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68360" y="4292640"/>
              <a:ext cx="30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Поверхностно-активные ве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TextBox 5"/>
          <p:cNvGrpSpPr/>
          <p:nvPr/>
        </p:nvGrpSpPr>
        <p:grpSpPr>
          <a:xfrm>
            <a:off x="36360" y="1994040"/>
            <a:ext cx="3078360" cy="1623600"/>
            <a:chOff x="36360" y="1994040"/>
            <a:chExt cx="3078360" cy="1623600"/>
          </a:xfrm>
        </p:grpSpPr>
        <p:pic>
          <p:nvPicPr>
            <p:cNvPr id="267" name="TextBox 5" descr=""/>
            <p:cNvPicPr/>
            <p:nvPr/>
          </p:nvPicPr>
          <p:blipFill>
            <a:blip r:embed="rId3"/>
            <a:stretch/>
          </p:blipFill>
          <p:spPr>
            <a:xfrm>
              <a:off x="36360" y="1994040"/>
              <a:ext cx="307836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79280" y="2060640"/>
              <a:ext cx="288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Детергенты среднего пенообраз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TextBox 6"/>
          <p:cNvGrpSpPr/>
          <p:nvPr/>
        </p:nvGrpSpPr>
        <p:grpSpPr>
          <a:xfrm>
            <a:off x="6735600" y="768240"/>
            <a:ext cx="1274760" cy="609840"/>
            <a:chOff x="6735600" y="768240"/>
            <a:chExt cx="1274760" cy="609840"/>
          </a:xfrm>
        </p:grpSpPr>
        <p:pic>
          <p:nvPicPr>
            <p:cNvPr id="270" name="TextBox 6" descr=""/>
            <p:cNvPicPr/>
            <p:nvPr/>
          </p:nvPicPr>
          <p:blipFill>
            <a:blip r:embed="rId4"/>
            <a:stretch/>
          </p:blipFill>
          <p:spPr>
            <a:xfrm>
              <a:off x="6735600" y="768240"/>
              <a:ext cx="1274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875640" y="836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Во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TextBox 7"/>
          <p:cNvGrpSpPr/>
          <p:nvPr/>
        </p:nvGrpSpPr>
        <p:grpSpPr>
          <a:xfrm>
            <a:off x="6303960" y="2133720"/>
            <a:ext cx="2425680" cy="1011240"/>
            <a:chOff x="6303960" y="2133720"/>
            <a:chExt cx="2425680" cy="1011240"/>
          </a:xfrm>
        </p:grpSpPr>
        <p:pic>
          <p:nvPicPr>
            <p:cNvPr id="273" name="TextBox 7" descr=""/>
            <p:cNvPicPr/>
            <p:nvPr/>
          </p:nvPicPr>
          <p:blipFill>
            <a:blip r:embed="rId5"/>
            <a:stretch/>
          </p:blipFill>
          <p:spPr>
            <a:xfrm>
              <a:off x="6303960" y="2133720"/>
              <a:ext cx="24256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443640" y="220500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Силиконовые мас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Box 8"/>
          <p:cNvGrpSpPr/>
          <p:nvPr/>
        </p:nvGrpSpPr>
        <p:grpSpPr>
          <a:xfrm>
            <a:off x="5224320" y="3938760"/>
            <a:ext cx="2713320" cy="974520"/>
            <a:chOff x="5224320" y="3938760"/>
            <a:chExt cx="2713320" cy="974520"/>
          </a:xfrm>
        </p:grpSpPr>
        <p:pic>
          <p:nvPicPr>
            <p:cNvPr id="276" name="TextBox 8" descr=""/>
            <p:cNvPicPr/>
            <p:nvPr/>
          </p:nvPicPr>
          <p:blipFill>
            <a:blip r:embed="rId6"/>
            <a:stretch/>
          </p:blipFill>
          <p:spPr>
            <a:xfrm>
              <a:off x="5224320" y="3938760"/>
              <a:ext cx="271332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364000" y="4005360"/>
              <a:ext cx="252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Смягчающие компон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9"/>
          <p:cNvSpPr/>
          <p:nvPr/>
        </p:nvSpPr>
        <p:spPr>
          <a:xfrm>
            <a:off x="179280" y="335772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camidopropyl Bet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camide 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611280" y="530064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monium Lauryl Sulf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dium Lauryl Sulf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5435640" y="494172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lyquatern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atern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6588000" y="314172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methic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yclomethic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6948360" y="1413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ea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lycol Distea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395280" y="1628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Прямая со стрелкой 16"/>
          <p:cNvCxnSpPr/>
          <p:nvPr/>
        </p:nvCxnSpPr>
        <p:spPr>
          <a:xfrm flipH="1">
            <a:off x="1691640" y="691920"/>
            <a:ext cx="648360" cy="216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5" name="Прямая со стрелкой 18"/>
          <p:cNvCxnSpPr/>
          <p:nvPr/>
        </p:nvCxnSpPr>
        <p:spPr>
          <a:xfrm flipH="1">
            <a:off x="2770920" y="836640"/>
            <a:ext cx="577080" cy="10087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6" name="Прямая со стрелкой 20"/>
          <p:cNvCxnSpPr/>
          <p:nvPr/>
        </p:nvCxnSpPr>
        <p:spPr>
          <a:xfrm flipH="1">
            <a:off x="2987280" y="907560"/>
            <a:ext cx="937440" cy="33138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7" name="Прямая со стрелкой 23"/>
          <p:cNvCxnSpPr/>
          <p:nvPr/>
        </p:nvCxnSpPr>
        <p:spPr>
          <a:xfrm>
            <a:off x="4716000" y="836640"/>
            <a:ext cx="1080360" cy="29534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8" name="Прямая со стрелкой 25"/>
          <p:cNvCxnSpPr/>
          <p:nvPr/>
        </p:nvCxnSpPr>
        <p:spPr>
          <a:xfrm>
            <a:off x="5219280" y="836640"/>
            <a:ext cx="1297800" cy="12247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9" name="Прямая со стрелкой 27"/>
          <p:cNvCxnSpPr/>
          <p:nvPr/>
        </p:nvCxnSpPr>
        <p:spPr>
          <a:xfrm>
            <a:off x="5867280" y="692280"/>
            <a:ext cx="866160" cy="2894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90" name="TextBox 31"/>
          <p:cNvSpPr/>
          <p:nvPr/>
        </p:nvSpPr>
        <p:spPr>
          <a:xfrm>
            <a:off x="8317080" y="6165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TextBox 22"/>
          <p:cNvGrpSpPr/>
          <p:nvPr/>
        </p:nvGrpSpPr>
        <p:grpSpPr>
          <a:xfrm>
            <a:off x="3638520" y="4870440"/>
            <a:ext cx="1494000" cy="981000"/>
            <a:chOff x="3638520" y="4870440"/>
            <a:chExt cx="1494000" cy="981000"/>
          </a:xfrm>
        </p:grpSpPr>
        <p:pic>
          <p:nvPicPr>
            <p:cNvPr id="292" name="TextBox 22" descr=""/>
            <p:cNvPicPr/>
            <p:nvPr/>
          </p:nvPicPr>
          <p:blipFill>
            <a:blip r:embed="rId7"/>
            <a:stretch/>
          </p:blipFill>
          <p:spPr>
            <a:xfrm>
              <a:off x="3638520" y="4870440"/>
              <a:ext cx="1494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780000" y="4941720"/>
              <a:ext cx="129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Sodium Cit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4" name="Прямая со стрелкой 29"/>
          <p:cNvCxnSpPr/>
          <p:nvPr/>
        </p:nvCxnSpPr>
        <p:spPr>
          <a:xfrm>
            <a:off x="4355640" y="907920"/>
            <a:ext cx="1080" cy="38901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95" name="TextBox 24"/>
          <p:cNvSpPr/>
          <p:nvPr/>
        </p:nvSpPr>
        <p:spPr>
          <a:xfrm>
            <a:off x="2700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e3611"/>
                </a:solidFill>
                <a:latin typeface="Arial"/>
              </a:rPr>
              <a:t>Propylene Glycol</a:t>
            </a:r>
            <a:r>
              <a:rPr b="0" lang="ru-RU" sz="1800" spc="-1" strike="noStrike">
                <a:solidFill>
                  <a:srgbClr val="9e3611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464328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e3611"/>
                </a:solidFill>
                <a:latin typeface="Arial"/>
              </a:rPr>
              <a:t>Tricl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332000" y="602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3611"/>
                </a:solidFill>
                <a:latin typeface="Arial"/>
              </a:rPr>
              <a:t>Вредные добав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0"/>
          <p:cNvSpPr/>
          <p:nvPr/>
        </p:nvSpPr>
        <p:spPr>
          <a:xfrm>
            <a:off x="1042920" y="5950080"/>
            <a:ext cx="2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e3611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ритерии оценки эффективности шампун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928520"/>
            <a:ext cx="65152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лот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енообразование и устойчивость пен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ровень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спензирующая способ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мульгирующая способ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оющая способ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рганолептические свой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е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8317080" y="6165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610704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пределение плотно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3" name="Picture 2" descr="C:\Users\ASUS\Desktop\Новая папка (2)\021120121092.jpg"/>
          <p:cNvPicPr/>
          <p:nvPr/>
        </p:nvPicPr>
        <p:blipFill>
          <a:blip r:embed="rId1"/>
          <a:stretch/>
        </p:blipFill>
        <p:spPr>
          <a:xfrm>
            <a:off x="5364000" y="1052640"/>
            <a:ext cx="3095640" cy="41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04" name="TextBox 4"/>
          <p:cNvSpPr/>
          <p:nvPr/>
        </p:nvSpPr>
        <p:spPr>
          <a:xfrm>
            <a:off x="539640" y="1349640"/>
            <a:ext cx="4032360" cy="2226960"/>
          </a:xfrm>
          <a:prstGeom prst="rect">
            <a:avLst/>
          </a:prstGeom>
          <a:solidFill>
            <a:srgbClr val="e9e5d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стакан со шкалой измерения заполняется 25 мл шампуня и взвешивается на электронных ве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250920" y="422100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ится расчет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1835280" y="479736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7"/>
          <p:cNvSpPr/>
          <p:nvPr/>
        </p:nvSpPr>
        <p:spPr>
          <a:xfrm>
            <a:off x="8317080" y="6165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9" name="Содержимое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302680" cy="58770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/>
          <p:cNvSpPr/>
          <p:nvPr/>
        </p:nvSpPr>
        <p:spPr>
          <a:xfrm>
            <a:off x="8317080" y="6165720"/>
            <a:ext cx="502920" cy="5086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1847">
                <a:moveTo>
                  <a:pt x="3600" y="0"/>
                </a:moveTo>
                <a:arcTo wR="3600" hR="3600" stAng="16200000" swAng="-5400000"/>
                <a:lnTo>
                  <a:pt x="0" y="18247"/>
                </a:lnTo>
                <a:arcTo wR="3600" hR="3600" stAng="10800000" swAng="-5400000"/>
                <a:lnTo>
                  <a:pt x="18000" y="21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7:15:27Z</dcterms:created>
  <dc:creator>User</dc:creator>
  <dc:description/>
  <dc:language>en-US</dc:language>
  <cp:lastModifiedBy>Химия_кабинет</cp:lastModifiedBy>
  <dcterms:modified xsi:type="dcterms:W3CDTF">2013-01-16T12:03:22Z</dcterms:modified>
  <cp:revision>126</cp:revision>
  <dc:subject/>
  <dc:title>Слайд 1</dc:title>
</cp:coreProperties>
</file>