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8F9-1977-4D36-9DE0-0740B4CD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4FA-702B-4191-A94B-EAEFDAC0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A28-E2A8-4547-9E73-3683505D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BA0-9C18-4A58-BC5A-6305D50A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564-CA6C-4BDE-A36E-88CFF964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7B1D-4F8C-4465-B287-813AC36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CBE-0E9C-48EC-AA0F-E6CE3134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0B30-88EB-4675-BAD9-6BAE795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6861-A64D-4A06-B28B-05C21D2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38D0-C4DB-4256-9629-EA43BE8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FB61-A594-45DB-89AA-DB050C0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1CC-5B53-4A76-BA00-DE9D0FF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C5B7-DD5F-4802-B7A8-908F130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A439-E21A-40C7-AD24-588ABFB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FC0B-2558-4F61-8BEE-ECD476AD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F09-8AD3-4457-BBF8-426F6DA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74F-B134-4B5E-8656-F121249D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C33-699F-4785-AC5B-18EFF46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05A-63E4-4941-B089-74D7C439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D4F-481E-4A9B-ADB8-647BDF6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9E7-4484-4AD3-9B38-688EE83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738-3439-4496-ACFA-8DE06F4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5B5-F1F7-404B-AD2F-6497A29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B45-1AFC-4B4A-88A0-38FE66B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4AC-181A-48AD-95A1-0BC19222F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9C3-6EEA-4C77-8219-30952CC4D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09320" y="-360"/>
            <a:ext cx="5334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Школа-интернат №26»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о – практическая 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Функционально-графический метод решения уравнений и неравенств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914400" y="1447920"/>
                <a:ext cx="39625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304920" y="141696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914400" y="2590920"/>
                <a:ext cx="48006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10"/>
          <p:cNvSpPr/>
          <p:nvPr/>
        </p:nvSpPr>
        <p:spPr>
          <a:xfrm>
            <a:off x="306720" y="28188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5800" y="4145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бласти значения квадратного трех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990720" y="5334120"/>
                <a:ext cx="3886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4"/>
          <p:cNvSpPr/>
          <p:nvPr/>
        </p:nvSpPr>
        <p:spPr>
          <a:xfrm>
            <a:off x="382680" y="540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306360" y="41140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-220968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7"/>
          <p:cNvSpPr/>
          <p:nvPr/>
        </p:nvSpPr>
        <p:spPr>
          <a:xfrm>
            <a:off x="45720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ценки области значений используют следующие при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33520" y="838080"/>
                <a:ext cx="28954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457200" y="1828800"/>
                <a:ext cx="4038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4495680" y="1676520"/>
                <a:ext cx="16765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мер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6249960" y="1980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 метод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6"/>
              <p:cNvSpPr txBox="1"/>
              <p:nvPr/>
            </p:nvSpPr>
            <p:spPr>
              <a:xfrm>
                <a:off x="8610480" y="205740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18"/>
          <p:cNvSpPr/>
          <p:nvPr/>
        </p:nvSpPr>
        <p:spPr>
          <a:xfrm>
            <a:off x="459360" y="25902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левая часть нераве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659040" y="259020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а быть меньше или равна пра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60800" y="2971080"/>
            <a:ext cx="54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неравенство равносильно системе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1"/>
              <p:cNvSpPr txBox="1"/>
              <p:nvPr/>
            </p:nvSpPr>
            <p:spPr>
              <a:xfrm>
                <a:off x="609480" y="3352680"/>
                <a:ext cx="2057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2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6"/>
              <p:cNvSpPr txBox="1"/>
              <p:nvPr/>
            </p:nvSpPr>
            <p:spPr>
              <a:xfrm>
                <a:off x="533520" y="4114800"/>
                <a:ext cx="1904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2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8"/>
              <p:cNvSpPr txBox="1"/>
              <p:nvPr/>
            </p:nvSpPr>
            <p:spPr>
              <a:xfrm>
                <a:off x="2743200" y="4419720"/>
                <a:ext cx="380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3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0"/>
              <p:cNvSpPr txBox="1"/>
              <p:nvPr/>
            </p:nvSpPr>
            <p:spPr>
              <a:xfrm>
                <a:off x="2819520" y="3429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3200400" y="3352680"/>
                <a:ext cx="114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3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4"/>
              <p:cNvSpPr txBox="1"/>
              <p:nvPr/>
            </p:nvSpPr>
            <p:spPr>
              <a:xfrm>
                <a:off x="3200400" y="3962520"/>
                <a:ext cx="7621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Rectangle 3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6"/>
              <p:cNvSpPr txBox="1"/>
              <p:nvPr/>
            </p:nvSpPr>
            <p:spPr>
              <a:xfrm>
                <a:off x="3200400" y="4572000"/>
                <a:ext cx="990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3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8"/>
              <p:cNvSpPr txBox="1"/>
              <p:nvPr/>
            </p:nvSpPr>
            <p:spPr>
              <a:xfrm>
                <a:off x="4724280" y="411480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4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0"/>
              <p:cNvSpPr txBox="1"/>
              <p:nvPr/>
            </p:nvSpPr>
            <p:spPr>
              <a:xfrm>
                <a:off x="5105520" y="4038480"/>
                <a:ext cx="1523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42"/>
          <p:cNvSpPr/>
          <p:nvPr/>
        </p:nvSpPr>
        <p:spPr>
          <a:xfrm>
            <a:off x="6017760" y="559332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(1;-1),(-1;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.Решение уравнений и неравенств с использованием свойства монотонности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6. Если 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строго монотонна, то уравнение в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с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меет не более одного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43000" y="2743200"/>
                <a:ext cx="1371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1066680" y="3200400"/>
                <a:ext cx="2667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1219320" y="3962520"/>
                <a:ext cx="1066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10"/>
          <p:cNvSpPr/>
          <p:nvPr/>
        </p:nvSpPr>
        <p:spPr>
          <a:xfrm>
            <a:off x="2211120" y="3961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2666880" y="3962520"/>
                <a:ext cx="914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13"/>
          <p:cNvSpPr/>
          <p:nvPr/>
        </p:nvSpPr>
        <p:spPr>
          <a:xfrm>
            <a:off x="3506760" y="3961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ываю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4"/>
              <p:cNvSpPr txBox="1"/>
              <p:nvPr/>
            </p:nvSpPr>
            <p:spPr>
              <a:xfrm>
                <a:off x="5181480" y="3809880"/>
                <a:ext cx="1905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4876920" y="4038480"/>
                <a:ext cx="3045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18"/>
          <p:cNvSpPr/>
          <p:nvPr/>
        </p:nvSpPr>
        <p:spPr>
          <a:xfrm>
            <a:off x="6935760" y="403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ывающ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1221480" y="44949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3352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0"/>
              <p:cNvSpPr txBox="1"/>
              <p:nvPr/>
            </p:nvSpPr>
            <p:spPr>
              <a:xfrm>
                <a:off x="2743200" y="4343400"/>
                <a:ext cx="1447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22"/>
          <p:cNvSpPr/>
          <p:nvPr/>
        </p:nvSpPr>
        <p:spPr>
          <a:xfrm>
            <a:off x="4344120" y="449496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тверждению 6 имеет хотя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295280" y="51048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 решение. Подбором выясня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-2286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5"/>
              <p:cNvSpPr txBox="1"/>
              <p:nvPr/>
            </p:nvSpPr>
            <p:spPr>
              <a:xfrm>
                <a:off x="4952880" y="5105520"/>
                <a:ext cx="762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27"/>
          <p:cNvSpPr/>
          <p:nvPr/>
        </p:nvSpPr>
        <p:spPr>
          <a:xfrm>
            <a:off x="1731960" y="59428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24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Решение уравнений и неравенств с использованием обла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пределения, области значения и монотонности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914400" y="1905120"/>
                <a:ext cx="3962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990720" y="2666880"/>
                <a:ext cx="14475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8"/>
              <p:cNvSpPr txBox="1"/>
              <p:nvPr/>
            </p:nvSpPr>
            <p:spPr>
              <a:xfrm>
                <a:off x="2438280" y="2743200"/>
                <a:ext cx="24386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Rectangle 11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0"/>
              <p:cNvSpPr txBox="1"/>
              <p:nvPr/>
            </p:nvSpPr>
            <p:spPr>
              <a:xfrm>
                <a:off x="5410080" y="2286000"/>
                <a:ext cx="13017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876920" y="3200400"/>
                <a:ext cx="53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Rectangle 14"/>
          <p:cNvSpPr/>
          <p:nvPr/>
        </p:nvSpPr>
        <p:spPr>
          <a:xfrm>
            <a:off x="1145880" y="41904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5"/>
              <p:cNvSpPr txBox="1"/>
              <p:nvPr/>
            </p:nvSpPr>
            <p:spPr>
              <a:xfrm>
                <a:off x="1219320" y="4724280"/>
                <a:ext cx="41907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17"/>
          <p:cNvSpPr/>
          <p:nvPr/>
        </p:nvSpPr>
        <p:spPr>
          <a:xfrm>
            <a:off x="2800440" y="59742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Заключение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90720" y="7621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над этой темой я пришла к выводу, что функциональный метод решения уравнений и неравенств имеет несколько преимуществ, против других способов решени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прощенное решения уравнений и нераве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коренное решения уравнений и нераве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я планирую рассмотреть более сложные примеры с применением функционального метода и собрать задания для сборника задач. С помощью этого метода можно выполнять задания по решению уравнений и неравенств более быстро, наглядно и вмест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одержание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114264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уть функциональн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именение функционального  метода при решении уравнений и неравен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пользование области значени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ешение уравнений и неравенств с использованием свойства монотонност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Решение уравнений и неравенств с использованием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я, области значения и монотонност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ешение функциональ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щие метод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5331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выделяется четыре общих идеи, общих метода, на которых основана вся линия школьного курса математики, и восприятие которых должно быть в поле внимания уч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етод разложения на мно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тод замены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перехода от равенства функций к равенству, связывающему значения арг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Функционально-граф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цели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ение функционально-графического метода решения уравнений и нераве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работка этого метода на примерах решения уравнений и нераве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бор заданий для сборника уравнений и неравен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Суть функционального метод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м следующие компоненты мет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Отыскание области определения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Отыскание области значений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Исследование функций на моното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Исследование функций на чё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Соотнесение свойств функций, входящих в уравнение или неравенство, с 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Построение графиков функций, входящих в уравнение или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Отыскание корней уравнения методом под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Применение функционального мето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и решении уравнен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дано уравнение                                                                 Так как             , то множество значений функции                 есть                      и наименьшее значение         есть еди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значений функции                        есть                        и наибольшее значение функции         есть      Значит, ни при каком значе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чения функци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могут быть равными – области значений функци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имеют общего эле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181480" y="1054080"/>
                <a:ext cx="2286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7467480" y="1143000"/>
                <a:ext cx="1676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4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2819520" y="1523880"/>
                <a:ext cx="990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2895480" y="1905120"/>
                <a:ext cx="16002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5334120" y="1905120"/>
                <a:ext cx="1752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20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5181480" y="2286000"/>
                <a:ext cx="76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22"/>
          <p:cNvSpPr/>
          <p:nvPr/>
        </p:nvSpPr>
        <p:spPr>
          <a:xfrm>
            <a:off x="9907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1"/>
              <p:cNvSpPr txBox="1"/>
              <p:nvPr/>
            </p:nvSpPr>
            <p:spPr>
              <a:xfrm>
                <a:off x="6553080" y="2895480"/>
                <a:ext cx="228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24"/>
          <p:cNvSpPr/>
          <p:nvPr/>
        </p:nvSpPr>
        <p:spPr>
          <a:xfrm>
            <a:off x="5257800" y="1981080"/>
            <a:ext cx="9144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23623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5"/>
              <p:cNvSpPr txBox="1"/>
              <p:nvPr/>
            </p:nvSpPr>
            <p:spPr>
              <a:xfrm>
                <a:off x="2362320" y="3352680"/>
                <a:ext cx="198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7"/>
              <p:cNvSpPr txBox="1"/>
              <p:nvPr/>
            </p:nvSpPr>
            <p:spPr>
              <a:xfrm>
                <a:off x="4495680" y="3657600"/>
                <a:ext cx="838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45720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6095880" y="3657600"/>
                <a:ext cx="609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применения функционального метода при решении уравнения, который предлагает Мордкович А.Г. в сборнике «Решаем урав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иду это уравнение относится к числу тех, которые решаются методом разложения на множители. Этот метод требует значительных усилий. Представив это уравнение в виде:                    и заметив, что функция           возрастает, а функция                    убывает, можно сделать вывод (по теореме 8), что уравнение имеет не больше одного корня. Подбором выясняем, что этот кор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666880" y="2209680"/>
                <a:ext cx="2362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3809880" y="3962520"/>
                <a:ext cx="1676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2438280" y="42670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629400" y="4267080"/>
                <a:ext cx="1523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7543800" y="5257800"/>
                <a:ext cx="762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1  Применение области определения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1066680" y="1905120"/>
                <a:ext cx="2210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19520" y="236232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4724280" y="2362320"/>
                <a:ext cx="7621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1600200" y="2819520"/>
                <a:ext cx="8380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2819520" y="3276720"/>
                <a:ext cx="1295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724280" y="3352680"/>
                <a:ext cx="762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4191120" y="2819520"/>
                <a:ext cx="53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2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4"/>
              <p:cNvSpPr txBox="1"/>
              <p:nvPr/>
            </p:nvSpPr>
            <p:spPr>
              <a:xfrm>
                <a:off x="5562720" y="289548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26"/>
          <p:cNvSpPr/>
          <p:nvPr/>
        </p:nvSpPr>
        <p:spPr>
          <a:xfrm>
            <a:off x="6247440" y="289476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6781680" y="350424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7"/>
              <p:cNvSpPr txBox="1"/>
              <p:nvPr/>
            </p:nvSpPr>
            <p:spPr>
              <a:xfrm>
                <a:off x="7696080" y="3505320"/>
                <a:ext cx="341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29"/>
          <p:cNvSpPr/>
          <p:nvPr/>
        </p:nvSpPr>
        <p:spPr>
          <a:xfrm>
            <a:off x="4286160" y="35424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0"/>
              <p:cNvSpPr txBox="1"/>
              <p:nvPr/>
            </p:nvSpPr>
            <p:spPr>
              <a:xfrm>
                <a:off x="1143000" y="4378320"/>
                <a:ext cx="3352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Rectangle 33"/>
          <p:cNvSpPr/>
          <p:nvPr/>
        </p:nvSpPr>
        <p:spPr>
          <a:xfrm>
            <a:off x="-11430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2"/>
              <p:cNvSpPr txBox="1"/>
              <p:nvPr/>
            </p:nvSpPr>
            <p:spPr>
              <a:xfrm>
                <a:off x="1523880" y="5427720"/>
                <a:ext cx="44960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m>
                      <m:mr>
                        <m:e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3</m:t>
                          </m:r>
                        </m:e>
                      </m:mr>
                    </m:m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35"/>
          <p:cNvSpPr/>
          <p:nvPr/>
        </p:nvSpPr>
        <p:spPr>
          <a:xfrm>
            <a:off x="6323760" y="58665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3681360" y="35424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7"/>
              <p:cNvSpPr txBox="1"/>
              <p:nvPr/>
            </p:nvSpPr>
            <p:spPr>
              <a:xfrm>
                <a:off x="7924680" y="6477120"/>
                <a:ext cx="341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39"/>
          <p:cNvSpPr/>
          <p:nvPr/>
        </p:nvSpPr>
        <p:spPr>
          <a:xfrm>
            <a:off x="6858000" y="64602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Использование области значений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9140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уравнения, решение которых основано на применении следующего утверж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уравне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наибольшее значени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овпадает с наименьшим значение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обозначим каждое из указанных значений буквой А – то уравн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равносильно системе более прост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440" y="2278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1143000" y="4495680"/>
                <a:ext cx="1219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30T14:10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