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8DF-6C2C-4B7F-AFC7-0E23AE73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AF5-6F3F-4BBF-9040-8F714F2F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A40-58EC-405F-A984-9BDA7C1C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6F2-BD5D-47A4-BFB6-07E9E34C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313-630B-4D12-AB9B-6E8FAC1D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ADE-3A73-47B0-906F-2E2CA773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166-7CD4-4DEF-9320-BEB7EF74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692-DACF-4CCE-8569-9BC6CD1A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3DE-53AA-41AC-A7C9-3913679E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9A3-CDAF-4DA6-BB71-0C679211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1441-E7FD-4EEA-B08D-8BB73DD3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0C0-8BDE-4DFD-BEC1-9F2AA92E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5289-910B-44DD-AFA3-0C4CF161F22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Полезные вредные автомоби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788000" y="4941720"/>
            <a:ext cx="4465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Автор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ченик 4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”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ласс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БОУ СОШ № 31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Локтионов Юрий Рома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уководитель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доренко Ольга Анатол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БОУ СОШ № 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4000" y="549360"/>
            <a:ext cx="856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Полезные вредные автомоби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6" descr="P1030327"/>
          <p:cNvPicPr/>
          <p:nvPr/>
        </p:nvPicPr>
        <p:blipFill>
          <a:blip r:embed="rId1"/>
          <a:stretch/>
        </p:blipFill>
        <p:spPr>
          <a:xfrm>
            <a:off x="179280" y="1557360"/>
            <a:ext cx="504036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340236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755640" y="1197000"/>
            <a:ext cx="7705800" cy="100800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Человек – живая система, часть биосфе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1403280" y="2421000"/>
            <a:ext cx="647640" cy="1512720"/>
          </a:xfrm>
          <a:prstGeom prst="downArrow">
            <a:avLst>
              <a:gd name="adj1" fmla="val 50000"/>
              <a:gd name="adj2" fmla="val 5839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4284720" y="2781360"/>
            <a:ext cx="503280" cy="2232000"/>
          </a:xfrm>
          <a:prstGeom prst="downArrow">
            <a:avLst>
              <a:gd name="adj1" fmla="val 50000"/>
              <a:gd name="adj2" fmla="val 11087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6804000" y="2421000"/>
            <a:ext cx="647640" cy="1512720"/>
          </a:xfrm>
          <a:prstGeom prst="downArrow">
            <a:avLst>
              <a:gd name="adj1" fmla="val 50000"/>
              <a:gd name="adj2" fmla="val 5839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250920" y="4149720"/>
            <a:ext cx="2808360" cy="719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дросфер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1"/>
          <p:cNvSpPr/>
          <p:nvPr/>
        </p:nvSpPr>
        <p:spPr>
          <a:xfrm>
            <a:off x="3059280" y="5300640"/>
            <a:ext cx="2808000" cy="719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тосфе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5940360" y="4149720"/>
            <a:ext cx="2808360" cy="7192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тмосфе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1763640" y="260280"/>
            <a:ext cx="5904000" cy="57636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редные автомоби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Диаграмма 1"/>
          <p:cNvGraphicFramePr/>
          <p:nvPr/>
        </p:nvGraphicFramePr>
        <p:xfrm>
          <a:off x="0" y="1197000"/>
          <a:ext cx="4500720" cy="485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450072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6"/>
          <p:cNvSpPr/>
          <p:nvPr/>
        </p:nvSpPr>
        <p:spPr>
          <a:xfrm>
            <a:off x="1042920" y="260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alibri"/>
              </a:rPr>
              <a:t>Результаты анкетиров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Диаграмма 1"/>
          <p:cNvGraphicFramePr/>
          <p:nvPr/>
        </p:nvGraphicFramePr>
        <p:xfrm>
          <a:off x="4692600" y="1197000"/>
          <a:ext cx="4451400" cy="489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Диаграмма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2600" y="1197000"/>
                    <a:ext cx="445140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Диаграмма 1"/>
          <p:cNvGraphicFramePr/>
          <p:nvPr/>
        </p:nvGraphicFramePr>
        <p:xfrm>
          <a:off x="0" y="1214280"/>
          <a:ext cx="4500720" cy="48564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7" name="Диаграмма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214280"/>
                    <a:ext cx="450072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Диаграмма 1"/>
          <p:cNvGraphicFramePr/>
          <p:nvPr/>
        </p:nvGraphicFramePr>
        <p:xfrm>
          <a:off x="0" y="1214280"/>
          <a:ext cx="4500720" cy="4856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99" name="Диаграмма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214280"/>
                    <a:ext cx="450072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endParaRPr b="0" lang="en-US" sz="3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475920"/>
            <a:ext cx="7570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Недостатки газового топли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250920" y="1268280"/>
          <a:ext cx="842472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8280"/>
                    <a:ext cx="842472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6" descr="C:\Documents and Settings\1\Рабочий стол\P1030332.JPG"/>
          <p:cNvPicPr/>
          <p:nvPr/>
        </p:nvPicPr>
        <p:blipFill>
          <a:blip r:embed="rId1"/>
          <a:stretch/>
        </p:blipFill>
        <p:spPr>
          <a:xfrm>
            <a:off x="-34504200" y="-1571760"/>
            <a:ext cx="3900240" cy="255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Documents and Settings\1\Рабочий стол\P1030332.JPG"/>
          <p:cNvPicPr/>
          <p:nvPr/>
        </p:nvPicPr>
        <p:blipFill>
          <a:blip r:embed="rId2"/>
          <a:stretch/>
        </p:blipFill>
        <p:spPr>
          <a:xfrm>
            <a:off x="-34504200" y="-1571760"/>
            <a:ext cx="3900240" cy="255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Documents and Settings\1\Рабочий стол\P1030332.JPG"/>
          <p:cNvPicPr/>
          <p:nvPr/>
        </p:nvPicPr>
        <p:blipFill>
          <a:blip r:embed="rId3"/>
          <a:stretch/>
        </p:blipFill>
        <p:spPr>
          <a:xfrm>
            <a:off x="324000" y="2997360"/>
            <a:ext cx="4319280" cy="32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P1030356"/>
          <p:cNvPicPr/>
          <p:nvPr/>
        </p:nvPicPr>
        <p:blipFill>
          <a:blip r:embed="rId4"/>
          <a:stretch/>
        </p:blipFill>
        <p:spPr>
          <a:xfrm>
            <a:off x="4788000" y="1989000"/>
            <a:ext cx="4105080" cy="32688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2"/>
          <p:cNvSpPr/>
          <p:nvPr/>
        </p:nvSpPr>
        <p:spPr>
          <a:xfrm>
            <a:off x="1258920" y="333360"/>
            <a:ext cx="6986520" cy="11527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олезные автомоби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82184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548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Выводы  и рекоменда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4176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154440" algn="just">
              <a:lnSpc>
                <a:spcPct val="11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результате исследования моя гипотеза, что современные люди не могут жить без  автомобиля, подтвердилас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54440" algn="just">
              <a:lnSpc>
                <a:spcPct val="11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втомобиль  - не только средство передвижения. Он помогает решать многие проблемы современного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54440" algn="just">
              <a:lnSpc>
                <a:spcPct val="11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Человек должен заботиться об автомоби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54440">
              <a:lnSpc>
                <a:spcPct val="11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воевременно проходить техническое обслуживание на СТО у квалифицированных специалистов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643280" y="2276640"/>
            <a:ext cx="42483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Книги под общей редакци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втомобили страны советов./  Под редакцией Шугурова  Л.М   – М.: ДОСААФ СССР. – 1983. – 128 с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Энциклопедия для детей. Техника. / Под   редакцией М.Д. Аксенова.-  М.: Аванта+, 2000. Т. 14. –   331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Энциклопедический словарь юного техника. / Под редакцией Хачатурова Т.С. – М.: «Педагогика». 1988.   27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- Отдельный 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Шергин В.С., Юрьев А.И.Детская энциклопедия: В 3 т. – М.: АСТ. – Т.1.- 2005. – 24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- Описание электронных документов (Интернет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Векипедия, свободная энциклопедия, “История автомобиля ” /Электронный ресурс/-Режим доступа: 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Calibri"/>
                <a:hlinkClick r:id="rId1"/>
              </a:rPr>
              <a:t>http://ru.wikipedia.org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История автомобилестроения /Электронный ресурс/-Режим доступа:   </a:t>
            </a:r>
            <a:r>
              <a:rPr b="0" i="1" lang="en-US" sz="1600" spc="-1" strike="noStrike">
                <a:solidFill>
                  <a:srgbClr val="ffffff"/>
                </a:solidFill>
                <a:latin typeface="Calibri"/>
              </a:rPr>
              <a:t>http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://</a:t>
            </a:r>
            <a:r>
              <a:rPr b="0" i="1" lang="en-US" sz="1600" spc="-1" strike="noStrike">
                <a:solidFill>
                  <a:srgbClr val="ffffff"/>
                </a:solidFill>
                <a:latin typeface="Calibri"/>
              </a:rPr>
              <a:t>www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i="1" lang="en-US" sz="1600" spc="-1" strike="noStrike">
                <a:solidFill>
                  <a:srgbClr val="ffffff"/>
                </a:solidFill>
                <a:latin typeface="Calibri"/>
              </a:rPr>
              <a:t>avtohistori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i="1" lang="en-US" sz="1600" spc="-1" strike="noStrike">
                <a:solidFill>
                  <a:srgbClr val="ffffff"/>
                </a:solidFill>
                <a:latin typeface="Calibri"/>
              </a:rPr>
              <a:t>ru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Цель исследо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03280" y="1773360"/>
            <a:ext cx="81374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84360" y="1285920"/>
            <a:ext cx="820872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Calibri"/>
              </a:rPr>
              <a:t>Выявить положительное и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трицательное </a:t>
            </a:r>
            <a:r>
              <a:rPr b="0" lang="ru-RU" sz="2800" spc="-1" strike="noStrike">
                <a:solidFill>
                  <a:srgbClr val="e5ffff"/>
                </a:solidFill>
                <a:latin typeface="Calibri"/>
              </a:rPr>
              <a:t> влияние автомобиля на окружающую среду и здоровь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684360" y="3357720"/>
            <a:ext cx="5543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c00"/>
                </a:solidFill>
                <a:uFillTx/>
                <a:latin typeface="Calibri"/>
              </a:rPr>
              <a:t>Задачи исследов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5712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анализировать теоретические материалы по т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7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ыдвинуть гипотез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7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овести экспери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57120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делать вывод о проделанной рабо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21844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Гипотез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50920" y="1341360"/>
            <a:ext cx="8569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едположим,  что автомобиль, для современного человека больше полезный, чем вредны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7280" y="3500280"/>
            <a:ext cx="85694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ата проведения: апрель 2013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сто проведения: МБОУ г. Мурманска  СОШ № 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личество испытуемых: 30 челов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908000" y="2276640"/>
            <a:ext cx="48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Анкетиров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6732720" y="3284640"/>
            <a:ext cx="2228760" cy="2519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820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c00"/>
                </a:solidFill>
                <a:uFillTx/>
                <a:latin typeface="Calibri"/>
              </a:rPr>
              <a:t>Объект исследования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ученики и родители шко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250920" y="2205000"/>
            <a:ext cx="8470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c00"/>
                </a:solidFill>
                <a:uFillTx/>
                <a:latin typeface="Calibri"/>
              </a:rPr>
              <a:t>Предмет исследования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обходимость автомобиля для современного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95280" y="4221000"/>
            <a:ext cx="813744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c00"/>
                </a:solidFill>
                <a:uFillTx/>
                <a:latin typeface="Calibri"/>
              </a:rPr>
              <a:t>Методы и способы исследов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бор матери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нке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бработка и анализ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лученных результа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Что такое автомобиль?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4" descr="C:\Documents and Settings\1\Рабочий стол\P1030341.JPG"/>
          <p:cNvPicPr/>
          <p:nvPr/>
        </p:nvPicPr>
        <p:blipFill>
          <a:blip r:embed="rId1"/>
          <a:stretch/>
        </p:blipFill>
        <p:spPr>
          <a:xfrm>
            <a:off x="1476360" y="2421000"/>
            <a:ext cx="6121440" cy="41734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68360" y="1197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мобиль – транспортное средство на колесном ходу с собственным двигател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История появления автомобиля</a:t>
            </a:r>
            <a:r>
              <a:rPr b="0" lang="ru-RU" sz="4400" spc="-1" strike="noStrike">
                <a:solidFill>
                  <a:srgbClr val="2b5481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f3f4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161645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ый автомобиль на паровом ходу построил Ф. Вербист в 1672 г. как игрушку для китайского императ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ервый русский автомобиль был построен  в 1896 г. в Петербург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н мог развивать скорость до 20 км/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2" descr="http://upload.wikimedia.org/wikipedia/commons/6/6f/Louis_Renault_with_his_first_car.jpg"/>
          <p:cNvPicPr/>
          <p:nvPr/>
        </p:nvPicPr>
        <p:blipFill>
          <a:blip r:embed="rId1"/>
          <a:stretch/>
        </p:blipFill>
        <p:spPr>
          <a:xfrm>
            <a:off x="4716360" y="1341360"/>
            <a:ext cx="404496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Основные части  автомоби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Содержимое 3" descr="Устройство авто.jpg"/>
          <p:cNvPicPr/>
          <p:nvPr/>
        </p:nvPicPr>
        <p:blipFill>
          <a:blip r:embed="rId1"/>
          <a:stretch/>
        </p:blipFill>
        <p:spPr>
          <a:xfrm>
            <a:off x="1476360" y="1413000"/>
            <a:ext cx="604836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11360"/>
            <a:ext cx="8218440" cy="93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Автомобиль – часть нашей современност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24000" y="1857240"/>
            <a:ext cx="8569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втомобили применяются в сельском хозяйстве, производстве, быт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http://www.gruzoviki.com/upload/photoads/big/56799_1.jpg"/>
          <p:cNvPicPr/>
          <p:nvPr/>
        </p:nvPicPr>
        <p:blipFill>
          <a:blip r:embed="rId1"/>
          <a:stretch/>
        </p:blipFill>
        <p:spPr>
          <a:xfrm>
            <a:off x="468360" y="2997360"/>
            <a:ext cx="3673440" cy="2850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img.autoweek.ru/images/catalog/gallery/ferrari/f50/ferrari-f50-1995-cabrio-1961632068_600.jpg"/>
          <p:cNvPicPr/>
          <p:nvPr/>
        </p:nvPicPr>
        <p:blipFill>
          <a:blip r:embed="rId2"/>
          <a:stretch/>
        </p:blipFill>
        <p:spPr>
          <a:xfrm>
            <a:off x="4643280" y="3068640"/>
            <a:ext cx="41054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40000" y="4076280"/>
            <a:ext cx="2592360" cy="23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2" descr="http://mkd-news.com/wp-content/uploads/2012/08/zagaduvanje2.jpg"/>
          <p:cNvPicPr/>
          <p:nvPr/>
        </p:nvPicPr>
        <p:blipFill>
          <a:blip r:embed="rId1"/>
          <a:stretch/>
        </p:blipFill>
        <p:spPr>
          <a:xfrm>
            <a:off x="2556000" y="1268280"/>
            <a:ext cx="3528720" cy="2232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5"/>
          <p:cNvSpPr/>
          <p:nvPr/>
        </p:nvSpPr>
        <p:spPr>
          <a:xfrm rot="1696800">
            <a:off x="2050920" y="3429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3348000" y="3573360"/>
            <a:ext cx="360360" cy="1584360"/>
          </a:xfrm>
          <a:prstGeom prst="downArrow">
            <a:avLst>
              <a:gd name="adj1" fmla="val 50000"/>
              <a:gd name="adj2" fmla="val 10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4932360" y="3573360"/>
            <a:ext cx="360360" cy="1584360"/>
          </a:xfrm>
          <a:prstGeom prst="downArrow">
            <a:avLst>
              <a:gd name="adj1" fmla="val 50000"/>
              <a:gd name="adj2" fmla="val 10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 rot="20365800">
            <a:off x="6156000" y="34999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>
            <a:off x="179280" y="4292640"/>
            <a:ext cx="2448000" cy="79200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глеводор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11"/>
          <p:cNvSpPr/>
          <p:nvPr/>
        </p:nvSpPr>
        <p:spPr>
          <a:xfrm>
            <a:off x="6300720" y="4365720"/>
            <a:ext cx="2448000" cy="79200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гарный г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1403280" y="5516640"/>
            <a:ext cx="230364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сиды аз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4356000" y="5516640"/>
            <a:ext cx="295272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ердые част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395280" y="476280"/>
            <a:ext cx="842472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Calibri"/>
              </a:rPr>
              <a:t>Составляющие выхлопных газ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20:47:01Z</dcterms:created>
  <dc:creator>Корепин О.В.</dc:creator>
  <dc:description/>
  <dc:language>en-US</dc:language>
  <cp:lastModifiedBy>1</cp:lastModifiedBy>
  <dcterms:modified xsi:type="dcterms:W3CDTF">2013-09-30T18:45:47Z</dcterms:modified>
  <cp:revision>76</cp:revision>
  <dc:subject/>
  <dc:title>Вредные полезные гаджеты</dc:title>
</cp:coreProperties>
</file>