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7F8-7F72-47D0-B1DB-C0B6916E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5C6-60E4-4785-98CC-0EB99C16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881-B6D9-426C-9670-395BC13B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227-EF6E-43BD-A660-1A94E7D5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2DE3-24B8-454E-946A-F57BF946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1F61-8A83-4993-B964-F92DF09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727-B4EE-434E-8634-72D1017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9AA8-37B8-42BE-BA0C-D9FEC9E1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4D51-19CD-40BC-85D6-E4B59D15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F652-B754-40D7-AABF-C04FD5E9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0679-81B9-495D-A96C-74E98AD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A5E-A0CF-479B-B28D-3433F1C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949-19F8-4A36-A50A-17BD079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1CFB-88E6-4692-9309-8BD9A98B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1A3B-8A07-45A5-9808-6D09845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692A-EFDE-4AA0-976A-B45C60F2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B570-0163-4E7A-8B92-DA954F5F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6BB-3AD5-42C3-B3CA-78C3C20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51C-EB39-4865-B8C3-BCAB419E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B89-F181-45FB-92C3-CE4F58A3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E0D-2803-4476-9E50-1D4F5D4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8DE-030B-4278-B706-DEDF9E0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BC9-B8CF-45D7-9412-CCD0E14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73E-6E35-4284-A161-C452452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F288-3494-41D9-9C96-2FAC25738B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1A00-EE06-49F3-A608-7C87D37498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d.adriver.ru/cgi-bin/click.cgi?sid=1&amp;bt=2&amp;ad=434501&amp;pid=1382454&amp;bid=2994318&amp;bn=2994318&amp;rnd=1810937862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280" y="1143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1ba5"/>
                </a:solidFill>
                <a:latin typeface="Times New Roman"/>
              </a:rPr>
              <a:t>Деньги и кредит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Мы живем в мире людей и… денег. И если тому, как обращаться с другими людьми, нас учат с раннего детства, то тому, как правильно обращаться с деньгами, приходится учиться самим, часто на собственных тяжелых ошиб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249240" y="5884560"/>
            <a:ext cx="24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ученица 10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Бондаренко Снеж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51ba5"/>
                </a:solidFill>
                <a:latin typeface="Times New Roman"/>
              </a:rPr>
              <a:t>Роль денег в нашей жизн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61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ь в современном мире невозможно представить без денег. Чего ни коснись - еда, лечение, одежда, развлечения,- все требует денег. Для кого-то они становятся мерилом счастья, для кого-то - жизненной необходим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т, кто живет одним днем, рискует остаться у разбитого корыта, как старуха из сказки про золотую рыбку. Наше здоровье и силы небезграничны, а потому нам необходимо иметь </a:t>
            </a:r>
            <a:r>
              <a:rPr b="1" i="1" lang="ru-RU" sz="1400" spc="-1" strike="noStrike">
                <a:solidFill>
                  <a:srgbClr val="990033"/>
                </a:solidFill>
                <a:latin typeface="Times New Roman"/>
              </a:rPr>
              <a:t>резер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оторый защитит нас в случае потери дохода, болезни и т.д. Это означает, что свое потребление надо ограничивать и часть дохода откладывать про запас на черный день. Но даже этого мало. Еще мы должны постоянно задумываться о </a:t>
            </a:r>
            <a:r>
              <a:rPr b="1" i="1" lang="ru-RU" sz="1400" spc="-1" strike="noStrike">
                <a:solidFill>
                  <a:srgbClr val="990033"/>
                </a:solidFill>
                <a:latin typeface="Times New Roman"/>
              </a:rPr>
              <a:t>дополнительных источниках дох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осознавая, что в любой момент можно лишиться работы, попав под сокращение или экономический кризис. А уж на стипендию или </a:t>
            </a:r>
            <a:r>
              <a:rPr b="1" i="1" lang="ru-RU" sz="1400" spc="-1" strike="noStrike">
                <a:solidFill>
                  <a:srgbClr val="990033"/>
                </a:solidFill>
                <a:latin typeface="Times New Roman"/>
              </a:rPr>
              <a:t>государственную пенс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едва ли стоит полаг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олнительный доход вам могут принести заблаговременно сделанные инвестиции. И здесь стоит задуматься о том, куда можно вложить хотя бы десятую часть своего ежемесячного дохода. Это может быть получение дополнительного образования, открытие собственного бизнеса или инвестиции в финансовые инструменты. Только при совокупности трех важнейших факторов, а именно: ума, энергии и потом уже денег,- инвестиции станут успешн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51ba5"/>
                </a:solidFill>
                <a:latin typeface="Times New Roman"/>
              </a:rPr>
              <a:t>Притча о Радже и его сыновья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75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ло у Раджи три сына, но по законам рода только один мог стать наследником. Старый Раджа был богат и перед смертью задумался, кому оставить своё богатство. Он решил испытать сыновей: велел выкопать три самых ценных чайных куста, дал каждому сыну по одному и отправил путешествовать. Первыми вернулись старший и средний сыновья, так как неразумно использовали запас чая. А младший сын вернулся последним, так как несколько листочков высушил, а куст посадил. А когда пришел к отцу, сказал ему, чтобы он оставил свое богатство другим сыновьям, поскольку сам может стать бога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тча показывает, что планированием можно заниматься, даже не имея большого состояния. Ведь Раджа дал своим сыновьям лишь по маленькому чайному кус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P1170666"/>
          <p:cNvPicPr/>
          <p:nvPr/>
        </p:nvPicPr>
        <p:blipFill>
          <a:blip r:embed="rId1"/>
          <a:stretch/>
        </p:blipFill>
        <p:spPr>
          <a:xfrm>
            <a:off x="5148360" y="1773360"/>
            <a:ext cx="3809880" cy="32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1ba5"/>
                </a:solidFill>
                <a:latin typeface="Times New Roman"/>
              </a:rPr>
              <a:t>Опрос среди сотрудников моей школы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20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кредит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2771280" y="206064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6012000" y="2060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59280" y="2924280"/>
          <a:ext cx="3809880" cy="28350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креди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отруд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154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1ba5"/>
                </a:solidFill>
                <a:latin typeface="Arial"/>
              </a:rPr>
              <a:t>Новогодний кредит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6826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кредита в размере 150 000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620640"/>
          <a:ext cx="6048720" cy="731880"/>
        </p:xfrm>
        <a:graphic>
          <a:graphicData uri="http://schemas.openxmlformats.org/drawingml/2006/table">
            <a:tbl>
              <a:tblPr/>
              <a:tblGrid>
                <a:gridCol w="3025800"/>
                <a:gridCol w="3022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енсионе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пен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0 руб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87280" y="1989000"/>
          <a:ext cx="6120000" cy="1879560"/>
        </p:xfrm>
        <a:graphic>
          <a:graphicData uri="http://schemas.openxmlformats.org/drawingml/2006/table">
            <a:tbl>
              <a:tblPr/>
              <a:tblGrid>
                <a:gridCol w="3060720"/>
                <a:gridCol w="305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 000 руб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креди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ь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ж раб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двадцати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ый плате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9,85 руб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выплаченная за 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 191 руб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101" descr="img-140117194931-001"/>
          <p:cNvPicPr/>
          <p:nvPr/>
        </p:nvPicPr>
        <p:blipFill>
          <a:blip r:embed="rId1"/>
          <a:stretch/>
        </p:blipFill>
        <p:spPr>
          <a:xfrm>
            <a:off x="2627280" y="3933720"/>
            <a:ext cx="3610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1ba5"/>
                </a:solidFill>
                <a:latin typeface="Times New Roman"/>
              </a:rPr>
              <a:t>В современном мире одним из способов решения финансовых вопросов стал </a:t>
            </a:r>
            <a:r>
              <a:rPr b="1" lang="ru-RU" sz="1400" spc="-1" strike="noStrike" u="sng">
                <a:solidFill>
                  <a:srgbClr val="351ba5"/>
                </a:solidFill>
                <a:uFillTx/>
                <a:latin typeface="Times New Roman"/>
              </a:rPr>
              <a:t>кредит</a:t>
            </a:r>
            <a:r>
              <a:rPr b="1" lang="ru-RU" sz="1400" spc="-1" strike="noStrike">
                <a:solidFill>
                  <a:srgbClr val="351ba5"/>
                </a:solidFill>
                <a:latin typeface="Times New Roman"/>
              </a:rPr>
              <a:t>. Он может выручить практически в любой ситуации. Нередко кредит можно оформить сразу в магазине и уже через полчаса стать обладателем автомобиля, бытовой техники, товаров для ремонта или даже путешествия в дальние страны.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552320" y="2707560"/>
            <a:ext cx="23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итель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853800" y="2707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вердраф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295600" y="270756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потеч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734520" y="2781000"/>
            <a:ext cx="137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пит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5440" y="2707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1619280" y="2133720"/>
            <a:ext cx="1008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2842920" y="220500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572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651640" y="2276640"/>
            <a:ext cx="5047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6443640" y="2133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КМДБ (550x350, JPG)"/>
          <p:cNvPicPr/>
          <p:nvPr/>
        </p:nvPicPr>
        <p:blipFill>
          <a:blip r:embed="rId1"/>
          <a:stretch/>
        </p:blipFill>
        <p:spPr>
          <a:xfrm>
            <a:off x="1476360" y="3284640"/>
            <a:ext cx="4896000" cy="311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998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998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51ba5"/>
                </a:solidFill>
                <a:latin typeface="Arial"/>
              </a:rPr>
              <a:t>Опрос молодой семь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Молодой семья приобрела квартиру в городе Армавире с использованием ипотечного кредита. Стоимость квартиры составляла  полтора миллиона рублей. Семья выплатила третью часть стоимости квартиры, то есть 33%, поэтому получила льготный ипотечный кредит под 13% сроком на пятнадцать лет. Так как семья стояла в очереди на получение жилья, но, не дождавшись, приобрела его, то государством была выплачена субсидия ( дотация молодой семье - компенсация в размере 321 000 рублей). Оставшаяся сумма выплачивается в размере 6 000 рублей ежемеся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Если бы эта семья снимала квартиру в аренду, то оплата составила  бы 12 000 рублей в меся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51ba5"/>
                </a:solidFill>
                <a:latin typeface="Times New Roman"/>
              </a:rPr>
              <a:t>Рефинансирова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712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вает такое, когда в силу других причин оплата нескольких кредитов начинает вызывать дискомфорт : места их погашения располагаются в разных местах, плюс к этому различные суммы и даты платежей, которые всегда нужно держать в голове, чтобы не уйти в просроч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ходом из ситуации может стать 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рефинансирование существующих кредитов в один общий кре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финансир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это в буквальном смысле перекредитование ипотеки, когда ныне действующий займ перекрывается следующим, с более выгодными условиями. При этом вы можете воспользоваться привлекательными ипотечными предложениями того же самого банка либо поменять одно финансовое учреждение на дру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гда стоит подумать о рефинансирован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кредит, который вы взяли, оказался для вас дискомфорт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вы берете один кредит, чтобы было чем гасить другой, и этот цикл, кажется, невозможно останов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у вас несколько кредитов с разными процентными ставками в разных банках (а значит, несколько дат и сумм платежей, о которых нужно помни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вы покупали автомобиль в кредит — рефинансировав автокредит, вы снимете обременение с машины и сможете распоряжаться ею по своему усмотр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2133720"/>
            <a:ext cx="763272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51ba5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5:48:31Z</dcterms:created>
  <dc:creator>XTreme</dc:creator>
  <dc:description/>
  <dc:language>en-US</dc:language>
  <cp:lastModifiedBy>МОБУСОШ №7</cp:lastModifiedBy>
  <dcterms:modified xsi:type="dcterms:W3CDTF">2014-01-28T10:21:11Z</dcterms:modified>
  <cp:revision>21</cp:revision>
  <dc:subject/>
  <dc:title>Деньги и кредит</dc:title>
</cp:coreProperties>
</file>