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156-7056-4B75-A4CE-095389E7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737-8B12-4535-9AF1-81CA47FE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071-ABC5-4C13-B1F5-8402D2CD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895-1F02-48DC-BE69-7130EEB7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6644-8F8A-435A-B416-4C372D73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4134-82EE-4722-BB09-1BBB063F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D33B-CDFA-4CA9-AFC1-EF0BE4E7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C2D5-3F45-4C9A-B12D-0386D337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C8D5-B313-49BD-AE5C-86D3F08C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21E0-E36D-4DEF-86B6-5F97D1BE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02E5-67A8-4B88-8534-4D0CB3A4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55E-C418-4576-A774-64B1A175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023E-1B6D-4717-93AC-739A7B5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E515-6407-45C4-BEFC-79B1A8C2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E950-D3BD-469E-8D40-C7C0817E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DE4A-71DB-45FA-A316-3AD4DB0F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3A8D-E1D5-4A4D-A514-30B1B08A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2F4-2B40-4023-9F28-0898574B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6A1-AE54-42FA-9321-1C3CCA9C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8B3-28A5-4FC4-8483-927B3FB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B3A-097C-451C-B71C-2096B682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AFF-01BE-42A3-AC80-0CADA154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976-D936-45CC-81F5-8132A05B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F2F-7C6B-4119-A7B0-6EA5E0C7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663F-BAB8-4EC7-9F81-68B0E0A82F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D3D1-AEB0-44E2-BAEA-B1B6C10F38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1856880"/>
            <a:ext cx="7993080" cy="1785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omic Sans MS"/>
              </a:rPr>
              <a:t>Счастливые и несчастливые числа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643200" y="3428640"/>
            <a:ext cx="52149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Автор: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Киселёв Григорий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учащийся 5-б класса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МБОУ г. Мурманска гимназии №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Научные руководители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Сиротина С.В.,  Милина Е.А.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ахтусова Е.И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учителя  нач. классов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МБОУ г. Мурманска гимназии №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Счастливое число 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428480"/>
            <a:ext cx="824400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емь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раз отмерь, один раз отреж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емер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с ложкой – один с сошко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емер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одного не ждут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ем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нянек дитя без глаз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ук от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ем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недуг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осле хлеба-соли –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емь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часов отдыхат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35800" y="1828800"/>
            <a:ext cx="4608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Счастливое число 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428480"/>
            <a:ext cx="824400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ыть на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едьмом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небе – высшая степень блаженств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емью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морями – далеко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ем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пядей во лбу – умный, мудры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емь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пятниц на неделе – непостоянство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о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едьмог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пота – до крайнего утомлени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335800" y="1828800"/>
            <a:ext cx="4608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Несчастливое число 1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85920" y="785520"/>
            <a:ext cx="6858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40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285920"/>
            <a:ext cx="7810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«чёртова дюжина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не делилось ни на одно число, кроме себя самог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Число 13 считает новый цикл и как бы нарушает равновеси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13 считается также числом смерт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13-го этажа, ни 13-го номер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самолетах американских авиакомпаний нет кресла № 13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не бывает 13-го номера и у автогонщиков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Интересные факты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85920" y="785520"/>
            <a:ext cx="6858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40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320" y="1285920"/>
            <a:ext cx="7810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Comic Sans MS"/>
              </a:rPr>
              <a:t>1982год – биатлонисты под номером 13; промахнулись 13 раз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Comic Sans MS"/>
              </a:rPr>
              <a:t>13 штрафных кругов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Comic Sans MS"/>
              </a:rPr>
              <a:t>13 место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Comic Sans MS"/>
              </a:rPr>
              <a:t>13 июля 1933года – «Челюскин» вышел из Ленинграда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Comic Sans MS"/>
              </a:rPr>
              <a:t>13 февраля затонул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Comic Sans MS"/>
              </a:rPr>
              <a:t>13 апреля – вывезли последних челюскинцев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357120" y="42876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Результаты исследования мнений учеников 4 а класса и взрослых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71680" y="1857240"/>
          <a:ext cx="7786440" cy="4797720"/>
        </p:xfrm>
        <a:graphic>
          <a:graphicData uri="http://schemas.openxmlformats.org/drawingml/2006/table">
            <a:tbl>
              <a:tblPr/>
              <a:tblGrid>
                <a:gridCol w="4752720"/>
                <a:gridCol w="684360"/>
                <a:gridCol w="636480"/>
                <a:gridCol w="857160"/>
                <a:gridCol w="855720"/>
              </a:tblGrid>
              <a:tr h="823320">
                <a:tc rowSpan="2">
                  <a:txBody>
                    <a:bodyPr lIns="0" rIns="0" tIns="0" bIns="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и (ученики 4а класс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рослые (родители, учит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итаете ли Вы число 13 несчастливым  числом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гласны ли Вы с мнением, что число 7 является счастливым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зошли  положительные случаи  с Вами 7 числ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зошли отрицательные случаи  с Вами 13 числ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итаете ли вы, что дата рождения 7 или  13 числа влияет на судьбу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итесь ли Вы пятницу, 13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и бы вы жить в гостинице на 13 этаже в 13 номере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957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1185.18501281738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4168800" cy="3627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5480" y="152280"/>
            <a:ext cx="807228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Результаты исследования мнений учеников 4 а класса и взрослы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715080" y="1643040"/>
            <a:ext cx="4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71840" y="578592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8f8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8fff"/>
                </a:solidFill>
                <a:latin typeface="Comic Sans MS"/>
              </a:rPr>
              <a:t>1 – ученики 4а класса - 21%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Comic Sans MS"/>
              </a:rPr>
              <a:t>2 – взрослые - 55%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6"/>
          <p:cNvSpPr/>
          <p:nvPr/>
        </p:nvSpPr>
        <p:spPr>
          <a:xfrm>
            <a:off x="428760" y="4287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Comic Sans MS"/>
              </a:rPr>
              <a:t>Результаты успеваемости учащихся 4а класса гимназии №2    г. Мурманска 7 и 13 числа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mic Sans MS"/>
              </a:rPr>
              <a:t>за 2011- 2012 учебный год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14280" y="2357280"/>
          <a:ext cx="7072560" cy="3035520"/>
        </p:xfrm>
        <a:graphic>
          <a:graphicData uri="http://schemas.openxmlformats.org/drawingml/2006/table">
            <a:tbl>
              <a:tblPr/>
              <a:tblGrid>
                <a:gridCol w="3378240"/>
                <a:gridCol w="901800"/>
                <a:gridCol w="853920"/>
                <a:gridCol w="970200"/>
                <a:gridCol w="968400"/>
              </a:tblGrid>
              <a:tr h="847800">
                <a:tc row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b3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b3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b3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b3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b3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b3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1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b3"/>
                          </a:solidFill>
                          <a:latin typeface="Times New Roman"/>
                          <a:ea typeface="Times New Roman"/>
                        </a:rPr>
                        <a:t>Успеваемость учеников 4а кла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b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b3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b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b3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96.296253204346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92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92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192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192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3857400" cy="14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omic Sans MS"/>
              </a:rPr>
              <a:t>Успеваемость 7 числ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43080" y="5357520"/>
            <a:ext cx="6238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9999ff"/>
                </a:solidFill>
                <a:latin typeface="Comic Sans MS"/>
              </a:rPr>
              <a:t>Количество  оценок «2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993366"/>
                </a:solidFill>
                <a:latin typeface="Comic Sans MS"/>
              </a:rPr>
              <a:t>Количество оценок «5»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3963960" cy="2857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4643280" y="2071800"/>
            <a:ext cx="4046760" cy="28573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5000760" y="357120"/>
            <a:ext cx="378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omic Sans MS"/>
              </a:rPr>
              <a:t>Успеваемость 13 числа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omic Sans MS"/>
              </a:rPr>
              <a:t>Статистические данные Мурманской областной клинической больницы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omic Sans MS"/>
              </a:rPr>
              <a:t>(в сравнении чисел 7 и 13)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omic Sans MS"/>
              </a:rPr>
              <a:t>за 6 месяцев 2011-2012 год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428840" y="2286000"/>
          <a:ext cx="7358040" cy="4084560"/>
        </p:xfrm>
        <a:graphic>
          <a:graphicData uri="http://schemas.openxmlformats.org/drawingml/2006/table">
            <a:tbl>
              <a:tblPr/>
              <a:tblGrid>
                <a:gridCol w="4000320"/>
                <a:gridCol w="1643040"/>
                <a:gridCol w="1714680"/>
              </a:tblGrid>
              <a:tr h="14634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питализированных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тяжелыми травмам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6 месяцев 2011-2012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 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omic Sans MS"/>
              </a:rPr>
              <a:t>Статистические данные Мурманской областной клинической больницы (в сравнении чисел 7 и 13) за 6 месяцев 2011-2012 год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85920" y="2209680"/>
          <a:ext cx="7429320" cy="4002120"/>
        </p:xfrm>
        <a:graphic>
          <a:graphicData uri="http://schemas.openxmlformats.org/drawingml/2006/table">
            <a:tbl>
              <a:tblPr/>
              <a:tblGrid>
                <a:gridCol w="3643200"/>
                <a:gridCol w="1928880"/>
                <a:gridCol w="1857240"/>
              </a:tblGrid>
              <a:tr h="12016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смерте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6 месяцев 2011-2012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 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2204640"/>
            <a:ext cx="687060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Comic Sans MS"/>
              </a:rPr>
              <a:t>Гипотеза</a:t>
            </a:r>
            <a:r>
              <a:rPr b="0" i="1" lang="ru-RU" sz="40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числа 7 и 13 мистические, сверхъестественные, имеют таинственное значение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mic Sans MS"/>
              </a:rPr>
              <a:t>Статистические данные Мурманской областной клинической больницы (в сравнении чисел 7 и 13) за 6 месяцев 2011-2012 год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285920" y="2000160"/>
            <a:ext cx="5214960" cy="3500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4"/>
          <p:cNvSpPr/>
          <p:nvPr/>
        </p:nvSpPr>
        <p:spPr>
          <a:xfrm>
            <a:off x="2286000" y="564372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8fff"/>
                </a:solidFill>
                <a:latin typeface="Comic Sans MS"/>
              </a:rPr>
              <a:t>1- число травм и смертей 7 чис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Comic Sans MS"/>
              </a:rPr>
              <a:t>2- число травм и смертей 13 чис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67867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Comic Sans MS"/>
              </a:rPr>
              <a:t>Статистические данные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Comic Sans MS"/>
              </a:rPr>
              <a:t>УМВД России по Мурманской области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Comic Sans MS"/>
              </a:rPr>
              <a:t>(количество преступлений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71760" y="2428920"/>
          <a:ext cx="6905520" cy="3935520"/>
        </p:xfrm>
        <a:graphic>
          <a:graphicData uri="http://schemas.openxmlformats.org/drawingml/2006/table">
            <a:tbl>
              <a:tblPr/>
              <a:tblGrid>
                <a:gridCol w="2301840"/>
                <a:gridCol w="2301840"/>
                <a:gridCol w="2301840"/>
              </a:tblGrid>
              <a:tr h="492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 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68706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omic Sans MS"/>
              </a:rPr>
              <a:t>Статистические данные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Comic Sans MS"/>
              </a:rPr>
              <a:t>УМВД России по Мурманской област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689120" y="1500120"/>
            <a:ext cx="4311720" cy="3830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2214720" y="5789160"/>
            <a:ext cx="58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ff"/>
                </a:solidFill>
                <a:latin typeface="Comic Sans MS"/>
                <a:ea typeface="Times New Roman"/>
              </a:rPr>
              <a:t>1 – совершено преступлений 7 числа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66"/>
                </a:solidFill>
                <a:latin typeface="Comic Sans MS"/>
                <a:ea typeface="Times New Roman"/>
              </a:rPr>
              <a:t>2 – совершено преступлений 13 числа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71680" y="785880"/>
            <a:ext cx="7143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mic Sans MS"/>
              </a:rPr>
              <a:t>«13 человек за столом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mic Sans MS"/>
              </a:rPr>
              <a:t>может быть несчастливым числом,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ru-RU" sz="4000" spc="-1" strike="noStrike">
                <a:solidFill>
                  <a:srgbClr val="ffff00"/>
                </a:solidFill>
                <a:latin typeface="Comic Sans MS"/>
              </a:rPr>
              <a:t>если вы приготовили    только 12 котлет».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mic Sans MS"/>
              </a:rPr>
              <a:t>                  </a:t>
            </a:r>
            <a:r>
              <a:rPr b="0" lang="ru-RU" sz="4000" spc="-1" strike="noStrike">
                <a:solidFill>
                  <a:srgbClr val="ffff00"/>
                </a:solidFill>
                <a:latin typeface="Comic Sans MS"/>
              </a:rPr>
              <a:t>Гручо Маркс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152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280" y="571320"/>
            <a:ext cx="7993080" cy="1214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ru-RU" sz="5400" spc="-1" strike="noStrike">
                <a:solidFill>
                  <a:srgbClr val="ffff00"/>
                </a:solidFill>
                <a:latin typeface="Comic Sans MS"/>
              </a:rPr>
              <a:t>Литература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85880" y="2071800"/>
            <a:ext cx="785808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1. Депман  И. Я. Мир чисел: рассказы о математике – Л.: Детская литература, 1982 г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2. Дорохов А. О правде и выдумках. «Детская литература». Москва, 1977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3. Что? Зачем? Почему? Большая книга вопросов и ответов – М.: «Эксмо», 2006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4. И.Я Депман, Н.Я Виленкин «За страницами учебника математики», 1987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mic Sans MS"/>
              </a:rPr>
              <a:t>5. М.И. Шахнович   „Приметы в свете науки”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mic Sans MS"/>
              </a:rPr>
              <a:t>Степанова М.Г. „ Числовые суеверия”.Самара,1978  г.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mic Sans MS"/>
              </a:rPr>
              <a:t>6. Энциклопедический словарь юного математика.-М.: Просвещение,1993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7. Детская энциклопедия – М.: «Росмен», 2002 г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12600"/>
            <a:ext cx="7467480" cy="219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i="1" lang="ru-RU" sz="3600" spc="-1" strike="noStrike">
                <a:solidFill>
                  <a:srgbClr val="ffff00"/>
                </a:solidFill>
                <a:latin typeface="Comic Sans MS"/>
              </a:rPr>
              <a:t>Цель исследования</a:t>
            </a:r>
            <a:r>
              <a:rPr b="0" i="1" lang="ru-RU" sz="3600" spc="-1" strike="noStrike">
                <a:solidFill>
                  <a:srgbClr val="ffff00"/>
                </a:solidFill>
                <a:latin typeface="Comic Sans MS"/>
              </a:rPr>
              <a:t>: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4880" y="2492280"/>
            <a:ext cx="719424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Выяснить, правда ли, что число 13 является «страшным», а с числом 7 связаны только хорошие события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Задачи исследован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зучение литературы с целью получения информации о числах 7 и 1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нкетирование учащихся 4а класса с целью выявления положительных и отрицательных событий, связанных с числами 7 и 1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нализ успеваемости учащихся 7 и 13 чисел каждого месяца учебного года 2011 –201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нализ статистических данных УМВД России по Мурманской области, Мурманской областной клинической больниц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Методы исследовани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нализ литературы, анкетировани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татистический   опрос,  статистическая обработка полученных  данных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нализ,    сравнение и обобщение полученных результато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Объект исследован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татистические данные о датах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7 и 13 в различных областях жизнедеятельност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Счастливое число 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43120" y="785520"/>
            <a:ext cx="5500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40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28840" y="1428480"/>
            <a:ext cx="6953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У мусульман 7 небес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Рим и Киев были построены на 7 холмах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Существует 7 чудес свет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7 цветов радуг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7 нот на нотном стане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7 дней в недел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человек познаёт мир через 7 отверстий в голове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Comic Sans MS"/>
              </a:rPr>
              <a:t>7 смертных грехов…и т. д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Счастливое число 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643120" y="785520"/>
            <a:ext cx="5500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40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28440" y="142848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Comic Sans MS"/>
              </a:rPr>
              <a:t>«Семиричность» мира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ff"/>
                </a:solidFill>
                <a:latin typeface="Comic Sans MS"/>
              </a:rPr>
              <a:t>7  * 1 = 7 лет – младенчество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ff"/>
                </a:solidFill>
                <a:latin typeface="Comic Sans MS"/>
              </a:rPr>
              <a:t>7  * 2 = 14 лет – отрочество;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ccff"/>
              </a:buClr>
              <a:buFont typeface="Comic Sans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ff"/>
                </a:solidFill>
                <a:latin typeface="Comic Sans MS"/>
              </a:rPr>
              <a:t>* 3 = 21 год – юношество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ff"/>
                </a:solidFill>
                <a:latin typeface="Comic Sans MS"/>
              </a:rPr>
              <a:t>7 * 4 = 28 лет – молодость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ff"/>
                </a:solidFill>
                <a:latin typeface="Comic Sans MS"/>
              </a:rPr>
              <a:t>7 * 5 = 35 лет – зрелость и т. д.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Счастливое число 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828800"/>
            <a:ext cx="82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иняя Борода –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емь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же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емь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путешествий Синбад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Белоснежка –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емь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гномов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Коза –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емеро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козля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Храбрый портняжка – убил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емерых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мух одним ударом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Царевна – жила в тереме у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еми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богатыре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35800" y="1828800"/>
            <a:ext cx="46080" cy="145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9:47:21Z</dcterms:created>
  <dc:creator>777</dc:creator>
  <dc:description/>
  <dc:language>en-US</dc:language>
  <cp:lastModifiedBy>каб6гим2</cp:lastModifiedBy>
  <dcterms:modified xsi:type="dcterms:W3CDTF">2014-01-29T07:27:28Z</dcterms:modified>
  <cp:revision>108</cp:revision>
  <dc:subject/>
  <dc:title>ЗАЩИТА ПЕДАГОГИЧЕСКОЙ КОНЦЕПЦИИ </dc:title>
</cp:coreProperties>
</file>