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34B-98DC-45BB-AD2B-F6B1FBD3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ED1-3EBE-4B3E-A8F9-0794183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866-F5C1-4420-A214-FD438112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6FB-8E3B-41CC-A698-EA4AD0D7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8BB-6EFB-4AEF-A85E-A1B8A94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3E1-E898-4F99-A160-8A437FE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326-0CB1-4909-8C15-00C1B5D0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0BC-CBD2-4020-89F0-0783DCA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A30-54F2-4B30-BCC2-D864D626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F38-6C27-45BA-A68E-EAE1CEC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08E-D872-43FE-B5A2-B5938EB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706-F90C-4135-88A7-21F0DA6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1E3-CDFD-4570-8AB7-F25ED33DF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rikolnye-smeshnye.ru/ris/citaty/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14392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Тема: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лияние  горького  шоколада Российских   производителе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  организм  человека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9680" y="4714560"/>
            <a:ext cx="82868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чик: Косенко Анастасия,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7" descr="C:\Documents and Settings\User\Рабочий стол\Развитие 13-14 год\Олимпиады\Косенко Анастасия\Готовые фото\Обнаружение белков.jpg"/>
          <p:cNvPicPr/>
          <p:nvPr/>
        </p:nvPicPr>
        <p:blipFill>
          <a:blip r:embed="rId1"/>
          <a:stretch/>
        </p:blipFill>
        <p:spPr>
          <a:xfrm>
            <a:off x="0" y="0"/>
            <a:ext cx="3071880" cy="463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C:\Documents and Settings\User\Рабочий стол\Развитие 13-14 год\Олимпиады\Косенко Анастасия\Готовые фото\Обнаружение  жиров (шоколад).jpg"/>
          <p:cNvPicPr/>
          <p:nvPr/>
        </p:nvPicPr>
        <p:blipFill>
          <a:blip r:embed="rId2"/>
          <a:stretch/>
        </p:blipFill>
        <p:spPr>
          <a:xfrm>
            <a:off x="3000240" y="0"/>
            <a:ext cx="3071880" cy="4643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C:\Documents and Settings\User\Рабочий стол\Развитие 13-14 год\Олимпиады\Косенко Анастасия\Готовые фото\Обнаружение углеводов.jpg"/>
          <p:cNvPicPr/>
          <p:nvPr/>
        </p:nvPicPr>
        <p:blipFill>
          <a:blip r:embed="rId3"/>
          <a:stretch/>
        </p:blipFill>
        <p:spPr>
          <a:xfrm>
            <a:off x="6072120" y="0"/>
            <a:ext cx="3071880" cy="4622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0" y="47930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проведения анкетирования нами проводились следующие опы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лева напра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 - Обнаружение амино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наружение непредельных жи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 - Обнаружение угле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9" descr="C:\Documents and Settings\User\Рабочий стол\Развитие 13-14 год\Олимпиады\Косенко Анастасия\Готовые фото\Опыты и шоколад.jpg"/>
          <p:cNvPicPr/>
          <p:nvPr/>
        </p:nvPicPr>
        <p:blipFill>
          <a:blip r:embed="rId1"/>
          <a:srcRect l="0" t="0" r="0" b="3295"/>
          <a:stretch/>
        </p:blipFill>
        <p:spPr>
          <a:xfrm>
            <a:off x="295200" y="642960"/>
            <a:ext cx="4032360" cy="5643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C:\Documents and Settings\User\Рабочий стол\Развитие 13-14 год\Олимпиады\Косенко Анастасия\Готовые фото\Анализ вкусовых качеств шоколада.JPG"/>
          <p:cNvPicPr/>
          <p:nvPr/>
        </p:nvPicPr>
        <p:blipFill>
          <a:blip r:embed="rId2"/>
          <a:stretch/>
        </p:blipFill>
        <p:spPr>
          <a:xfrm>
            <a:off x="4643280" y="642960"/>
            <a:ext cx="4286520" cy="2649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C:\Documents and Settings\User\Рабочий стол\Развитие 13-14 год\Олимпиады\Косенко Анастасия\Готовые фото\Фильтрация смеси шоколада с водой.JPG"/>
          <p:cNvPicPr/>
          <p:nvPr/>
        </p:nvPicPr>
        <p:blipFill>
          <a:blip r:embed="rId3"/>
          <a:srcRect l="0" t="27187" r="0" b="13241"/>
          <a:stretch/>
        </p:blipFill>
        <p:spPr>
          <a:xfrm>
            <a:off x="4643280" y="3929040"/>
            <a:ext cx="432288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5293440" y="335772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со вкусом шокола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293480" y="62866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и опы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5223600" y="621504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может быть и та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1886760" y="0"/>
            <a:ext cx="54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ikolnye-smeshnye.ru/ris/citaty/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82868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зучить влияние шоколад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 здоровье челове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rikolnye-smeshnye.ru/ris/citaty/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6760" y="142884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 Провести литературный обзор по теоретическим вопросам темы исслед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 Провести химический анализ состава тёмного шокола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Познакомить с результатами  исследований учащихся школ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Дать рекомендации о пользе и вреде тёмного шоколада (изготовление буклет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prikolnye-smeshnye.ru/ris/citaty/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9680" y="85680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Объект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шего исследования является шокол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Предмет исследования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анализ состава тёмного шокол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. Теоретический (изучение ранее  опубликованных материалов в научно - популярной литератур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. Эмпирический (социологический опрос, сравнение, обобщение, систематизация, вывод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Практическая значимост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лючается в том, что результаты наших исследований могут быть использованы на внеклассных занятиях, по теме: рациональное питание школь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00040" y="-119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oilsoap.ru/photos/fullsize/Ml9kNTk2Mi5qcGc%3D/f6dd95c089265e171672a7c735b416b4"/>
          <p:cNvPicPr/>
          <p:nvPr/>
        </p:nvPicPr>
        <p:blipFill>
          <a:blip r:embed="rId1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content.foto.mail.ru/mail/ursum81/_answers/i-12885.jpg"/>
          <p:cNvPicPr/>
          <p:nvPr/>
        </p:nvPicPr>
        <p:blipFill>
          <a:blip r:embed="rId2"/>
          <a:srcRect l="0" t="5417" r="0" b="0"/>
          <a:stretch/>
        </p:blipFill>
        <p:spPr>
          <a:xfrm>
            <a:off x="0" y="0"/>
            <a:ext cx="5072040" cy="358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cs417229.vk.me/v417229349/7c75/Q3vDnMaJW3s.jpg"/>
          <p:cNvPicPr/>
          <p:nvPr/>
        </p:nvPicPr>
        <p:blipFill>
          <a:blip r:embed="rId3"/>
          <a:srcRect l="0" t="0" r="0" b="8109"/>
          <a:stretch/>
        </p:blipFill>
        <p:spPr>
          <a:xfrm>
            <a:off x="0" y="3622680"/>
            <a:ext cx="5072040" cy="32353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http://herbologia.ru/storage/.thumbs/51fef92fe9d71a132d710028cc40eaa8_500_0_0.jpg"/>
          <p:cNvPicPr/>
          <p:nvPr/>
        </p:nvPicPr>
        <p:blipFill>
          <a:blip r:embed="rId4"/>
          <a:stretch/>
        </p:blipFill>
        <p:spPr>
          <a:xfrm>
            <a:off x="5143680" y="0"/>
            <a:ext cx="40003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хема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6967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360"/>
            <a:ext cx="914400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 - Изготовители горького шоколада и содержание какао в образ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4200" y="571680"/>
          <a:ext cx="8715600" cy="6073560"/>
        </p:xfrm>
        <a:graphic>
          <a:graphicData uri="http://schemas.openxmlformats.org/drawingml/2006/table">
            <a:tbl>
              <a:tblPr/>
              <a:tblGrid>
                <a:gridCol w="1000080"/>
                <a:gridCol w="4345200"/>
                <a:gridCol w="1908000"/>
                <a:gridCol w="1462320"/>
              </a:tblGrid>
              <a:tr h="81576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но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о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8542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Одинцовская кондитерская фабрика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 (А.Корку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 9125-003-51938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85392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Оркла Брендс Россия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Ульяновск (кондитерская фабрика «СладКо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52821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912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Нестле Россия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Москва (Россия – щедрая душ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 9125-011-43902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8260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 «Кондитерский комб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ёрский сувенир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ас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52821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876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Кондитерский концер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аевский» г. 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 9125-013-59727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912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Кондитерская фаб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рность качеству» г. Москва (Априор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52821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2. - Физико-химические показатели для горького шокол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2920" y="428760"/>
          <a:ext cx="8858160" cy="1117440"/>
        </p:xfrm>
        <a:graphic>
          <a:graphicData uri="http://schemas.openxmlformats.org/drawingml/2006/table">
            <a:tbl>
              <a:tblPr/>
              <a:tblGrid>
                <a:gridCol w="928800"/>
                <a:gridCol w="5914800"/>
                <a:gridCol w="2014560"/>
              </a:tblGrid>
              <a:tr h="3866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колад гор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54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доля общего сухого остатка какао, % 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54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доля масла какао, % 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2"/>
          <p:cNvSpPr/>
          <p:nvPr/>
        </p:nvSpPr>
        <p:spPr>
          <a:xfrm>
            <a:off x="0" y="1573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3. - Массовая доля общего сухого остат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е какао и общая масса какао-проду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42920" y="2143080"/>
          <a:ext cx="8858160" cy="4049640"/>
        </p:xfrm>
        <a:graphic>
          <a:graphicData uri="http://schemas.openxmlformats.org/drawingml/2006/table">
            <a:tbl>
              <a:tblPr/>
              <a:tblGrid>
                <a:gridCol w="1003320"/>
                <a:gridCol w="2925720"/>
                <a:gridCol w="714240"/>
                <a:gridCol w="857520"/>
                <a:gridCol w="928440"/>
                <a:gridCol w="928800"/>
                <a:gridCol w="785880"/>
                <a:gridCol w="714240"/>
              </a:tblGrid>
              <a:tr h="280080">
                <a:tc gridSpan="2" rowSpan="2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образца горького шоколада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ГОС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(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ГОС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(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(ГОС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9800">
                <a:tc gridSpan="2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доля общего сухого остатка какао, % 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280080">
                <a:tc gridSpan="2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доля масла какао, % 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каз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gridSpan="2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акао на упаков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839520">
                <a:tc gridSpan="2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масса какао-продуктов (какао тёртое, масло какао, какао-порошок, эквивалент масло какао – пальмовое масл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245160">
                <a:tc gridSpan="8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Образцы горького шокол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Одинцовская кондитерская фабрика», Московская обл. (А.Коркунов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Оркла Брендс Россия»  г. Ульяновск (кондитерская фабрика «СладКо»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Нестле Россия»  г. Москва (Россия – щедрая душ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 «Кондитерский комбинат – Озёрский сувенир»   Московская область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H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Кондитерский концерн Бабаевский»  г. 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Кондитерская фабрика «Верность качеству»  г. Москва (Априор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4. - Химический состав горького шокол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4200" y="428760"/>
          <a:ext cx="8786880" cy="6429240"/>
        </p:xfrm>
        <a:graphic>
          <a:graphicData uri="http://schemas.openxmlformats.org/drawingml/2006/table">
            <a:tbl>
              <a:tblPr/>
              <a:tblGrid>
                <a:gridCol w="993960"/>
                <a:gridCol w="2506680"/>
                <a:gridCol w="857160"/>
                <a:gridCol w="928800"/>
                <a:gridCol w="928440"/>
                <a:gridCol w="928800"/>
                <a:gridCol w="785880"/>
                <a:gridCol w="857160"/>
              </a:tblGrid>
              <a:tr h="245160">
                <a:tc gridSpan="2" rowSpan="2"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образца горького шоколада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Г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(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Г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(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(Г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о тёрт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как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вивалент масло какао: пальмовое ма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о-порош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04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тизатор: натуральный «Вани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тизатор: идентичный  натуральному «Вани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тизатор: идентичный  натуральному «Р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ь: Е 322 (лецитин соев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12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: Е 492 (Сорбитан тристеар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ый ж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ный минд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gridSpan="2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 gridSpan="8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Образцы горького шокол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Одинцовская кондитерская фабрика»,   Московская обл. (А.Коркунов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84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Оркла Брендс Россия»  г. Ульяновск (кондитерская фабрика «СладКо»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Нестле Россия»   г. Москва (Россия – щедрая душ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84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 «Кондитерский комбинат – Озёрский сувенир»  Московская область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H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Кондитерский концерн Бабаевский»  г. 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Кондитерская фабрика «Верность качеству»  г. Москва (Априор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06:51:31Z</dcterms:created>
  <dc:creator>Natali</dc:creator>
  <dc:description/>
  <dc:language>en-US</dc:language>
  <cp:lastModifiedBy>Admin</cp:lastModifiedBy>
  <dcterms:modified xsi:type="dcterms:W3CDTF">2015-01-05T08:39:59Z</dcterms:modified>
  <cp:revision>16</cp:revision>
  <dc:subject/>
  <dc:title>Слайд 1</dc:title>
</cp:coreProperties>
</file>