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4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7243-15E7-4FCA-89A7-4C13AA6B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481-6257-4D96-BFFF-7A055BCA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F5B3-148B-4CB3-9439-79A5D375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248-99AC-44A6-827B-72E9B6C5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437A-3754-4EDC-861C-29C686CD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DF10-6A51-4DEB-895E-466C3517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A45-1BFA-4207-967C-7BFD8914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0326-A5B9-48F2-BDC8-6137AF8C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60E1-C3A9-4292-B7FE-0F573771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C693-1E3B-454C-B940-BEABDAE0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FE76-8987-4E04-A382-1B4A82AD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50EA-69D0-4C6F-AA14-2EBC8B38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7FA9-5A99-4AF8-A51C-95CD3EF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04C6-A862-40A6-A657-C8ADD23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E8DF-15F1-4005-8431-40A1D93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C0AC-5A23-4D84-B611-0139CBE8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1D68-6C9F-4862-AD40-2B64D0AC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1DD81-2DBB-41B5-80C5-7CCE726F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E66E-1C36-496D-BB7B-88130BE3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EA6E8-7807-4B11-8B70-09642802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1E04-4755-4475-AD4B-2574CF82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E030D-047F-4C5F-8720-5698E2DB2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B200-75AA-4977-A658-A4D52261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2CDF0-1DD2-4581-8BE4-48A5669D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4890B-EAFF-44FC-ADD1-4691B97E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7FE92-8F93-46B3-8A00-017DBD1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DE775-FE36-44A5-B6F4-66F25F19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6BE48-1D43-4FF8-B072-E959D6D4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685D9-250F-47C9-ABB9-F63C9859B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78D5-91F5-416A-90EC-D9AA792F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B341-2D45-4305-9631-1EB5229E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6883C-20AC-4EF2-B65B-C810F553C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F9184-0F5C-4993-ADC7-2EFBE370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65C-6E07-4D12-AAAB-5332460F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8EF82-3770-4299-BE7D-7E0D3302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FC6A-464E-48F5-A000-EB2588BD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F3EA0-FACC-4458-81F8-379B3C4DD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458D0-0618-41F8-8F77-56743315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37AE-E600-4F4C-9C00-955C7B3F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AFCF-15EC-4FFD-B38A-DA73ACF7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040B-2FEA-4119-8B3F-FA104E23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328A7-832F-4887-AC9F-529EA673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D0A7F-1E50-4540-A97B-6F927CDD3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0F69-663D-4198-BE09-21935506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D2E6-8362-4B43-BF5B-DE824ED6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75B-03FC-4A4D-9A03-E272350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B0A-00B3-4821-A549-027BF0B2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2FF6-D8CF-4F52-B08E-458999B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4808C-958A-4665-B61D-6E9B463AF3C6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Проект Военные артеф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202F75-A829-4EA2-81A6-A6E9FEF51A5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E936E-6D0A-49E8-86EF-05F1C9671D96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Проект Военные артеф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018FCC-CD87-455E-942C-BD748862C24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28C914-5D2D-4851-9C58-F4605A801167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Проект Военные артеф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925664-E94D-43E5-9DE1-9ED7F635A6B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296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AEE10D-6C03-4AC2-BC58-9BC05DB96F9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Проект Военные артеф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473E97-6A27-403B-9D4A-D9071C6269D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world.guns.ru%2Fuserfiles%2Fimages%2Frifle%2F3%2F1288253558.jpg&amp;iorient=&amp;ih=&amp;icolor=&amp;site=&amp;text=&#1074;&#1080;&#1085;&#1090;&#1086;&#1074;&#1082;&#1072;%20&#1084;&#1086;&#1089;&#1080;&#1085;&#1072;&amp;iw=&amp;wp=&amp;pos=0&amp;recent=&amp;type=&amp;isize=&amp;rpt=simage&amp;itype=&amp;nojs=1" TargetMode="External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fp=0&amp;img_url=http%3A%2F%2Fcs12468.vk.me%2Fu41541063%2Fvideo%2Fl_94e4986b.jpg&amp;iorient=&amp;ih=&amp;icolor=&amp;site=&amp;text=&#1074;&#1086;&#1077;&#1085;&#1085;&#1072;&#1103;%20&#1072;&#1088;&#1093;&#1077;&#1086;&#1083;&#1086;&#1075;&#1080;&#1103;%20&#1085;&#1072;&#1093;&#1086;&#1076;&#1082;&#1080;&amp;iw=&amp;wp=&amp;pos=12&amp;recent=&amp;type=&amp;isize=&amp;rpt=simage&amp;itype=&amp;nojs=1" TargetMode="External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img_url=http%3A%2F%2Fwww.samara-clad.ru%2F_fr%2F4%2F6108759.jpg&amp;p=1&amp;text=&#1072;&#1088;&#1093;&#1077;&#1086;&#1083;&#1086;&#1075;&#1080;&#1103;&amp;noreask=1&amp;pos=56&amp;lr=213&amp;rpt=simage&amp;nojs=1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0&amp;img_url=http%3A%2F%2Fwww.ebscohost.com%2Fproduct-icon%2Ficon_georef.png&amp;text=&#1072;&#1088;&#1093;&#1077;&#1086;&#1083;&#1086;&#1075;&#1080;&#1103;&amp;noreask=1&amp;pos=14&amp;lr=213&amp;rpt=simage&amp;noj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yandex.ru/yandsearch?source=wiz&amp;fp=0&amp;img_url=http%3A%2F%2Fwww.calend.ru%2Fimg%2Fcontent_images%2Fi0%2F208_or.jpg&amp;text=&#1072;&#1088;&#1093;&#1077;&#1086;&#1083;&#1086;&#1075;&#1080;&#1103;&amp;noreask=1&amp;pos=12&amp;lr=213&amp;rpt=simage&amp;noj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yandex.ru/yandsearch?source=wiz&amp;fp=0&amp;img_url=http%3A%2F%2Farchaeology.kiev.ua%2Fimaginator%2Fnew%2F4ee8cfe9d7c4a_120202.jpg&amp;text=&#1072;&#1088;&#1093;&#1077;&#1086;&#1083;&#1086;&#1075;&#1080;&#1103;&amp;noreask=1&amp;pos=27&amp;lr=213&amp;rpt=simage&amp;noj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img_url=http%3A%2F%2Fimg.nr2.ru%2Fpict%2Farts1%2F30%2F66%2F306692.jpg&amp;p=1&amp;text=&#1072;&#1088;&#1093;&#1077;&#1086;&#1083;&#1086;&#1075;&#1080;&#1103;&amp;noreask=1&amp;pos=49&amp;lr=213&amp;rpt=simage&amp;nojs=1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yandex.ru/yandsearch?source=wiz&amp;fp=1&amp;img_url=http%3A%2F%2Fwww.turoboz.ru%2Fcmsdb%2Farticle_images%2Fimages%2F1%2834%29.jpg&amp;p=1&amp;text=&#1072;&#1088;&#1093;&#1077;&#1086;&#1083;&#1086;&#1075;&#1080;&#1103;&amp;noreask=1&amp;pos=51&amp;lr=213&amp;rpt=simage&amp;nojs=1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yandex.ru/yandsearch?source=wiz&amp;fp=1&amp;img_url=http%3A%2F%2Fnews.nationalgeographic.com%2Fnews%2F2008%2F01%2Fphotogalleries%2Ffayoum-pictures%2Fimages%2Fprimary%2F2_FAYOUM_461.jpg&amp;p=1&amp;text=&#1072;&#1088;&#1093;&#1077;&#1086;&#1083;&#1086;&#1075;&#1080;&#1103;&amp;noreask=1&amp;pos=34&amp;lr=213&amp;rpt=simage&amp;nojs=1" TargetMode="External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fp=1&amp;img_url=http%3A%2F%2Fcs9749.vk.me%2Fg17459315%2Fb_a03da7d4.jpg&amp;p=1&amp;text=&#1072;&#1088;&#1093;&#1077;&#1086;&#1083;&#1086;&#1075;&#1080;&#1103;&amp;noreask=1&amp;pos=47&amp;lr=213&amp;rpt=simage&amp;nojs=1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yandex.ru/yandsearch?source=wiz&amp;fp=1&amp;img_url=http%3A%2F%2Fimg2.labirint.ru%2Fbooks%2F358656%2Fsmall.jpg&amp;p=1&amp;text=&#1072;&#1088;&#1093;&#1077;&#1086;&#1083;&#1086;&#1075;&#1080;&#1103;&amp;noreask=1&amp;pos=55&amp;lr=213&amp;rpt=simage&amp;nojs=1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s.yandex.ru/yandsearch?source=wiz&amp;fp=1&amp;img_url=http%3A%2F%2Fimages2.wikia.nocookie.net%2F__cb20120108200107%2Fwow%2Fru%2Fimages%2F7%2F75%2FArchaeology-journal.jpg&amp;p=1&amp;text=&#1072;&#1088;&#1093;&#1077;&#1086;&#1083;&#1086;&#1075;&#1080;&#1103;&amp;noreask=1&amp;pos=48&amp;lr=213&amp;rpt=simage&amp;nojs=1" TargetMode="External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hyperlink" Target="http://images.yandex.ru/yandsearch?fp=0&amp;img_url=http%3A%2F%2Fwww.museum.ru%2FimgB.asp%3F42891&amp;iorient=&amp;ih=&amp;icolor=&amp;site=&amp;text=&#1074;&#1086;&#1077;&#1085;&#1085;&#1072;&#1103;%20&#1072;&#1088;&#1093;&#1077;&#1086;&#1083;&#1086;&#1075;&#1080;&#1103;%20&#1085;&#1072;&#1093;&#1086;&#1076;&#1082;&#1080;&amp;iw=&amp;wp=&amp;pos=10&amp;recent=&amp;type=&amp;isize=&amp;rpt=simage&amp;itype=&amp;nojs=1" TargetMode="External"/><Relationship Id="rId9" Type="http://schemas.openxmlformats.org/officeDocument/2006/relationships/hyperlink" Target="http://images.yandex.ru/yandsearch?fp=0&amp;img_url=http%3A%2F%2Fwww.museum.ru%2FimgB.asp%3F42891&amp;iorient=&amp;ih=&amp;icolor=&amp;site=&amp;text=&#1074;&#1086;&#1077;&#1085;&#1085;&#1072;&#1103;%20&#1072;&#1088;&#1093;&#1077;&#1086;&#1083;&#1086;&#1075;&#1080;&#1103;%20&#1085;&#1072;&#1093;&#1086;&#1076;&#1082;&#1080;&amp;iw=&amp;wp=&amp;pos=10&amp;recent=&amp;type=&amp;isize=&amp;rpt=simage&amp;itype=&amp;nojs=1" TargetMode="External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33200" y="19080"/>
            <a:ext cx="8913960" cy="166356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3267000" y="1981080"/>
            <a:ext cx="5853240" cy="11764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D:\Общие документы\Фотки\Photos 2012\Саша\Школа\IMG_4789.JPG"/>
          <p:cNvPicPr/>
          <p:nvPr/>
        </p:nvPicPr>
        <p:blipFill>
          <a:blip r:embed="rId3"/>
          <a:stretch/>
        </p:blipFill>
        <p:spPr>
          <a:xfrm>
            <a:off x="539640" y="2276640"/>
            <a:ext cx="2538360" cy="3384360"/>
          </a:xfrm>
          <a:prstGeom prst="rect">
            <a:avLst/>
          </a:prstGeom>
          <a:ln w="0">
            <a:noFill/>
          </a:ln>
        </p:spPr>
      </p:pic>
      <p:sp>
        <p:nvSpPr>
          <p:cNvPr id="198" name="TextBox 5"/>
          <p:cNvSpPr/>
          <p:nvPr/>
        </p:nvSpPr>
        <p:spPr>
          <a:xfrm>
            <a:off x="3605400" y="4005360"/>
            <a:ext cx="554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проекта: Галкин Александ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ник  3 «А»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итель проекта: Лозовая Т.Ю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ГБОУ  лицея  № 15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3384720" cy="1728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следование образцов моделей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удий, патронов, техники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йн 19-20 веков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1693800" y="549360"/>
            <a:ext cx="41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7" descr="D:\Общие документы\Фотки\Photos 2011\Бородино\IMG_2411.JPG"/>
          <p:cNvPicPr/>
          <p:nvPr/>
        </p:nvPicPr>
        <p:blipFill>
          <a:blip r:embed="rId1"/>
          <a:stretch/>
        </p:blipFill>
        <p:spPr>
          <a:xfrm>
            <a:off x="4297320" y="1195560"/>
            <a:ext cx="4287960" cy="352872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8" descr="D:\Саша\школа\Проект\1.jpg"/>
          <p:cNvPicPr/>
          <p:nvPr/>
        </p:nvPicPr>
        <p:blipFill>
          <a:blip r:embed="rId2"/>
          <a:stretch/>
        </p:blipFill>
        <p:spPr>
          <a:xfrm>
            <a:off x="324000" y="4941720"/>
            <a:ext cx="1657080" cy="16909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9" descr="D:\Саша\школа\Проект\i (3).jpg"/>
          <p:cNvPicPr/>
          <p:nvPr/>
        </p:nvPicPr>
        <p:blipFill>
          <a:blip r:embed="rId3"/>
          <a:stretch/>
        </p:blipFill>
        <p:spPr>
          <a:xfrm>
            <a:off x="2556000" y="4797360"/>
            <a:ext cx="1655640" cy="17827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0" descr="D:\Саша\школа\Проект\i (1).jpg"/>
          <p:cNvPicPr/>
          <p:nvPr/>
        </p:nvPicPr>
        <p:blipFill>
          <a:blip r:embed="rId4"/>
          <a:stretch/>
        </p:blipFill>
        <p:spPr>
          <a:xfrm>
            <a:off x="4788000" y="4869000"/>
            <a:ext cx="2020680" cy="170496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1" descr="D:\Саша\школа\Проект\i (2).jpg"/>
          <p:cNvPicPr/>
          <p:nvPr/>
        </p:nvPicPr>
        <p:blipFill>
          <a:blip r:embed="rId5"/>
          <a:stretch/>
        </p:blipFill>
        <p:spPr>
          <a:xfrm>
            <a:off x="7372440" y="4941720"/>
            <a:ext cx="17715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3744720" cy="230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существление раскопок на местности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ва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сковская област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еяславль-Залесски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овка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Вскрытие</a:t>
            </a: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 фиксация в полевых условиях.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оиск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и извлечение артефакт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Прямоугольник 5"/>
          <p:cNvSpPr/>
          <p:nvPr/>
        </p:nvSpPr>
        <p:spPr>
          <a:xfrm>
            <a:off x="1693800" y="549360"/>
            <a:ext cx="41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12" descr="D:\Саша\школа\Проект\IMAG0155.jpg"/>
          <p:cNvPicPr/>
          <p:nvPr/>
        </p:nvPicPr>
        <p:blipFill>
          <a:blip r:embed="rId1"/>
          <a:stretch/>
        </p:blipFill>
        <p:spPr>
          <a:xfrm>
            <a:off x="3995640" y="1341360"/>
            <a:ext cx="2579760" cy="45496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13" descr="D:\Саша\школа\Проект\IMAG0157.jpg"/>
          <p:cNvPicPr/>
          <p:nvPr/>
        </p:nvPicPr>
        <p:blipFill>
          <a:blip r:embed="rId2"/>
          <a:stretch/>
        </p:blipFill>
        <p:spPr>
          <a:xfrm>
            <a:off x="6588000" y="2224080"/>
            <a:ext cx="25560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3744720" cy="1727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2" marL="912960" indent="144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льз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144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трон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144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к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144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ет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2" marL="912960" indent="1440">
              <a:lnSpc>
                <a:spcPct val="100000"/>
              </a:lnSpc>
              <a:buClr>
                <a:srgbClr val="000000"/>
              </a:buClr>
              <a:buSzPct val="70000"/>
              <a:buFont typeface="Times New Roman"/>
              <a:buAutoNum type="arabicPeriod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яжки. 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r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Прямоугольник 5"/>
          <p:cNvSpPr/>
          <p:nvPr/>
        </p:nvSpPr>
        <p:spPr>
          <a:xfrm>
            <a:off x="416880" y="3333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ИСТЕМАТИЗАЦИЯ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6" descr="D:\Саша\школа\Проект\IMAG0261.jpg"/>
          <p:cNvPicPr/>
          <p:nvPr/>
        </p:nvPicPr>
        <p:blipFill>
          <a:blip r:embed="rId1"/>
          <a:stretch/>
        </p:blipFill>
        <p:spPr>
          <a:xfrm>
            <a:off x="3851280" y="1197000"/>
            <a:ext cx="4879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3744720" cy="216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1649160" y="54936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Рисунок 4" descr="43163456_Georgiy_Semenovich_SHpagin_1"/>
          <p:cNvPicPr/>
          <p:nvPr/>
        </p:nvPicPr>
        <p:blipFill>
          <a:blip r:embed="rId1"/>
          <a:stretch/>
        </p:blipFill>
        <p:spPr>
          <a:xfrm>
            <a:off x="504720" y="1938240"/>
            <a:ext cx="4054680" cy="293076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оугольник 5"/>
          <p:cNvSpPr/>
          <p:nvPr/>
        </p:nvSpPr>
        <p:spPr>
          <a:xfrm>
            <a:off x="1458000" y="1268280"/>
            <a:ext cx="49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е гильзы от автомата «ППШ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6" descr="F:\Саша\школа\Проект\ппш.jpg"/>
          <p:cNvPicPr/>
          <p:nvPr/>
        </p:nvPicPr>
        <p:blipFill>
          <a:blip r:embed="rId2"/>
          <a:stretch/>
        </p:blipFill>
        <p:spPr>
          <a:xfrm>
            <a:off x="5135400" y="2565360"/>
            <a:ext cx="1114560" cy="2232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F:\Саша\школа\Проект\ппш2.jpg"/>
          <p:cNvPicPr/>
          <p:nvPr/>
        </p:nvPicPr>
        <p:blipFill>
          <a:blip r:embed="rId3"/>
          <a:stretch/>
        </p:blipFill>
        <p:spPr>
          <a:xfrm>
            <a:off x="6848640" y="2565360"/>
            <a:ext cx="1036440" cy="22129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7" descr="i?id=168801340-42-72&amp;n=21"/>
          <p:cNvPicPr/>
          <p:nvPr/>
        </p:nvPicPr>
        <p:blipFill>
          <a:blip r:embed="rId4"/>
          <a:stretch/>
        </p:blipFill>
        <p:spPr>
          <a:xfrm>
            <a:off x="7143840" y="5445000"/>
            <a:ext cx="200016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324000" y="3860280"/>
            <a:ext cx="3744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1649160" y="54936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http://im3-tub-ru.yandex.net/i?id=229712253-3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133720"/>
            <a:ext cx="4210200" cy="33066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5"/>
          <p:cNvSpPr/>
          <p:nvPr/>
        </p:nvSpPr>
        <p:spPr>
          <a:xfrm>
            <a:off x="1837800" y="1413000"/>
            <a:ext cx="46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атрон от винтовки Мос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F:\Саша\школа\Проект\мосина.jpg"/>
          <p:cNvPicPr/>
          <p:nvPr/>
        </p:nvPicPr>
        <p:blipFill>
          <a:blip r:embed="rId3"/>
          <a:stretch/>
        </p:blipFill>
        <p:spPr>
          <a:xfrm>
            <a:off x="5568840" y="2028960"/>
            <a:ext cx="947880" cy="340020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i?id=168801340-42-72&amp;n=21"/>
          <p:cNvPicPr/>
          <p:nvPr/>
        </p:nvPicPr>
        <p:blipFill>
          <a:blip r:embed="rId4"/>
          <a:stretch/>
        </p:blipFill>
        <p:spPr>
          <a:xfrm>
            <a:off x="7143840" y="5589720"/>
            <a:ext cx="2000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62080" y="1773000"/>
            <a:ext cx="3744720" cy="2160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1649160" y="549360"/>
            <a:ext cx="56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НАЛИЗ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5"/>
          <p:cNvSpPr/>
          <p:nvPr/>
        </p:nvSpPr>
        <p:spPr>
          <a:xfrm>
            <a:off x="651600" y="1477800"/>
            <a:ext cx="298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винцовая пу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дположитель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трового руж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F:\Саша\школа\Проект\ветрянное ружье.jpg"/>
          <p:cNvPicPr/>
          <p:nvPr/>
        </p:nvPicPr>
        <p:blipFill>
          <a:blip r:embed="rId1"/>
          <a:stretch/>
        </p:blipFill>
        <p:spPr>
          <a:xfrm>
            <a:off x="1352520" y="2924280"/>
            <a:ext cx="1584360" cy="18478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F:\Саша\школа\Проект\охотничий.jpg"/>
          <p:cNvPicPr/>
          <p:nvPr/>
        </p:nvPicPr>
        <p:blipFill>
          <a:blip r:embed="rId2"/>
          <a:stretch/>
        </p:blipFill>
        <p:spPr>
          <a:xfrm>
            <a:off x="6062760" y="2205000"/>
            <a:ext cx="1081080" cy="301320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10"/>
          <p:cNvSpPr/>
          <p:nvPr/>
        </p:nvSpPr>
        <p:spPr>
          <a:xfrm>
            <a:off x="4228200" y="1616040"/>
            <a:ext cx="46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Гильза от Охотничьего руж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13" descr="Mosin Nagant series of rifles.jpg"/>
          <p:cNvPicPr/>
          <p:nvPr/>
        </p:nvPicPr>
        <p:blipFill>
          <a:blip r:embed="rId3"/>
          <a:stretch/>
        </p:blipFill>
        <p:spPr>
          <a:xfrm>
            <a:off x="3363840" y="4367160"/>
            <a:ext cx="2210040" cy="24447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7" descr="i?id=168801340-42-72&amp;n=21"/>
          <p:cNvPicPr/>
          <p:nvPr/>
        </p:nvPicPr>
        <p:blipFill>
          <a:blip r:embed="rId4"/>
          <a:stretch/>
        </p:blipFill>
        <p:spPr>
          <a:xfrm>
            <a:off x="7143840" y="5589720"/>
            <a:ext cx="20001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250560" y="1052640"/>
            <a:ext cx="4249800" cy="2303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Военная археология новое, но очень важное направление в археологии, способное дать много новых знаний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оенные события 19—20 веков до конца не изучены, о некоторых имеется мало документальных свидетельств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Многие войны, погибшие во время войн 19-20 веков, до сих пор не найдены, информации не достаточно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Археологические раскопки помогают найти подтверждение фактов и событий, установленных историей, но мало изученны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Археологические раскопки дают новые знания о неизвестных фактах и событиях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Найденные мною предметы помогли мне идентифицировать орудия, применявшиеся во время Великой Отечественной войны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Данные военные артефакты положили начало моей археологической коллекции. 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Прямоугольник 5"/>
          <p:cNvSpPr/>
          <p:nvPr/>
        </p:nvSpPr>
        <p:spPr>
          <a:xfrm>
            <a:off x="1695240" y="549360"/>
            <a:ext cx="24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http://im3-tub-ru.yandex.net/i?id=761638784-7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1125360"/>
            <a:ext cx="3648240" cy="2735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im7-tub-ru.yandex.net/i?id=388934872-58-72&amp;n=21"/>
          <p:cNvPicPr/>
          <p:nvPr/>
        </p:nvPicPr>
        <p:blipFill>
          <a:blip r:embed="rId3"/>
          <a:stretch/>
        </p:blipFill>
        <p:spPr>
          <a:xfrm>
            <a:off x="4788000" y="3932280"/>
            <a:ext cx="35766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50920" y="1197000"/>
            <a:ext cx="7418160" cy="2160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Моя коллекция – это начало важной работы, которую я продолжу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Я надеюсь добавить свой вклад в истори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1" marL="8002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Прямоугольник 5"/>
          <p:cNvSpPr/>
          <p:nvPr/>
        </p:nvSpPr>
        <p:spPr>
          <a:xfrm>
            <a:off x="1706040" y="54936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http://im3-tub-ru.yandex.net/i?id=438342570-08-72&amp;n=21"/>
          <p:cNvPicPr/>
          <p:nvPr/>
        </p:nvPicPr>
        <p:blipFill>
          <a:blip r:embed="rId1"/>
          <a:stretch/>
        </p:blipFill>
        <p:spPr>
          <a:xfrm>
            <a:off x="468360" y="3716280"/>
            <a:ext cx="4024440" cy="2695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http://im6-tub-ru.yandex.net/i?id=500078327-06-72&amp;n=21"/>
          <p:cNvPicPr/>
          <p:nvPr/>
        </p:nvPicPr>
        <p:blipFill>
          <a:blip r:embed="rId2"/>
          <a:stretch/>
        </p:blipFill>
        <p:spPr>
          <a:xfrm>
            <a:off x="4572000" y="3716280"/>
            <a:ext cx="43527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280" y="1844280"/>
            <a:ext cx="8209080" cy="3745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ольшая советская энциклопедия, 3-е издание.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Википедия, свободная энциклопедия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Лубченков Ю.Н., Война 1812 года, Белый город, 2008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Хмельницкий Д. Правда Виктора Суворова. Восстанавливая историю Второй мировой. — М.: Яуза-прес, 2007. — Т. 2. — С. 182. — 317 с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Анатолий Митяев. Письмо с фронта. Рассказы о Великой Отечественной войне.   – М.: Белый город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.Функен,Л.Функен Энциклопедия вооружения и военного костюма. Первая мировая война 1914-1918, АСТ, 2002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Легендарные самолеты. От истоков до наших дней. Журнал. Россия. ООО Де Агостини. Выпуск с 1 по 24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.И. Сизова, Р.Ф. Селимонова. Учусь создавать проект. – М.: Росткнига., 1 класс, 2 класс часть 1.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343080" indent="-343080">
              <a:spcBef>
                <a:spcPts val="4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Подзаголовок 2"/>
          <p:cNvSpPr/>
          <p:nvPr/>
        </p:nvSpPr>
        <p:spPr>
          <a:xfrm>
            <a:off x="1116000" y="1052640"/>
            <a:ext cx="636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БЛИОГРАФ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1" descr=""/>
          <p:cNvPicPr/>
          <p:nvPr/>
        </p:nvPicPr>
        <p:blipFill>
          <a:blip r:embed="rId1"/>
          <a:stretch/>
        </p:blipFill>
        <p:spPr>
          <a:xfrm>
            <a:off x="195120" y="828720"/>
            <a:ext cx="8369280" cy="190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05264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коллекции военных артефа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250560" y="2997000"/>
            <a:ext cx="7853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 ПРОЕКТА: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литературу о военных действиях 19-20 ве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карты прохождения, дислокации войск, бое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осить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чевидцев, участников, их потомков, экспертов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накомиться на месте с военными событиями 19-20 веков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брать информацию и военные артефак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тизировать военные артефакты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1" name="Picture 7" descr="http://im3-tub-ru.yandex.net/i?id=318374685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052640"/>
            <a:ext cx="41418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5694480" cy="3449880"/>
          </a:xfrm>
          <a:prstGeom prst="rect">
            <a:avLst/>
          </a:prstGeom>
          <a:ln w="0">
            <a:noFill/>
          </a:ln>
        </p:spPr>
      </p:pic>
      <p:sp>
        <p:nvSpPr>
          <p:cNvPr id="203" name="Подзаголовок 2"/>
          <p:cNvSpPr/>
          <p:nvPr/>
        </p:nvSpPr>
        <p:spPr>
          <a:xfrm>
            <a:off x="1187280" y="836640"/>
            <a:ext cx="71298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ХЕ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7" descr="http://upload.wikimedia.org/wikipedia/commons/3/30/Dolina-Pano-3.jpg?uselang=ru"/>
          <p:cNvPicPr/>
          <p:nvPr/>
        </p:nvPicPr>
        <p:blipFill>
          <a:blip r:embed="rId2"/>
          <a:stretch/>
        </p:blipFill>
        <p:spPr>
          <a:xfrm>
            <a:off x="5859360" y="1700280"/>
            <a:ext cx="24577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68000" y="2060640"/>
            <a:ext cx="3095640" cy="37447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щественные источники – «артефакты» - это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материальные предметы, созданные или видоизмененные человеком: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тройки, оружие, украшения, посуда, произведения искусства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Подзаголовок 2"/>
          <p:cNvSpPr/>
          <p:nvPr/>
        </p:nvSpPr>
        <p:spPr>
          <a:xfrm>
            <a:off x="1116000" y="1052640"/>
            <a:ext cx="636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АРТЕФАК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http://im4-tub-ru.yandex.net/i?id=195933010-1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413000"/>
            <a:ext cx="2881080" cy="1800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http://im6-tub-ru.yandex.net/i?id=196258176-29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3500280"/>
            <a:ext cx="2097000" cy="1873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http://im7-tub-ru.yandex.net/i?id=665172474-04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11640" y="3500280"/>
            <a:ext cx="21286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250560" y="1844280"/>
            <a:ext cx="3816360" cy="37450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АЯ АРХЕОЛОГИЯ - часть общей археологии, изучающая вещественные памятники старого военного дела, т.е. старые крепости, вооружение, осадные машины, обследование полей сражений и прочее.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1" name="Подзаголовок 2"/>
          <p:cNvSpPr/>
          <p:nvPr/>
        </p:nvSpPr>
        <p:spPr>
          <a:xfrm>
            <a:off x="1116000" y="1052640"/>
            <a:ext cx="63691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АЯ АРХЕ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D:\Саша\школа\Проект\380903-92b7f-378965-w200-hq-u3d0b9.jpg"/>
          <p:cNvPicPr/>
          <p:nvPr/>
        </p:nvPicPr>
        <p:blipFill>
          <a:blip r:embed="rId1"/>
          <a:stretch/>
        </p:blipFill>
        <p:spPr>
          <a:xfrm>
            <a:off x="4013280" y="2205000"/>
            <a:ext cx="500688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468360" y="692280"/>
            <a:ext cx="3363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блема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иск скрытых под землей предметов, связ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войнами 19-20 ве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исследо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чие неисследованных мест, пропавших без вести во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5" descr="D:\Саша\школа\Проект\7110537.jpg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6" descr="D:\Саша\школа\Проект\i.jpg"/>
          <p:cNvPicPr/>
          <p:nvPr/>
        </p:nvPicPr>
        <p:blipFill>
          <a:blip r:embed="rId2"/>
          <a:stretch/>
        </p:blipFill>
        <p:spPr>
          <a:xfrm>
            <a:off x="4500720" y="3902040"/>
            <a:ext cx="4103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1410480" y="903240"/>
            <a:ext cx="683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ТОДИКА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9280" y="1557000"/>
            <a:ext cx="3390840" cy="2227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Методика исследования — это совокупность методов, приемов, специальных заданий. Метод (от греч. metodos — путь, способ исследования) — средство получения нового знания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Picture 5" descr="http://im3-tub-ru.yandex.net/i?id=476067236-3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407664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http://im0-tub-ru.yandex.net/i?id=183448802-70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48360" y="4433760"/>
            <a:ext cx="3403440" cy="2279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1" descr="http://im0-tub-ru.yandex.net/i?id=276146301-08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54640" y="1773360"/>
            <a:ext cx="3644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03280" y="5157720"/>
            <a:ext cx="6369120" cy="4809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2" name="Picture 5" descr="http://im2-tub-ru.yandex.net/i?id=161651656-3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4653000"/>
            <a:ext cx="1368360" cy="193680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"/>
          <p:cNvSpPr/>
          <p:nvPr/>
        </p:nvSpPr>
        <p:spPr>
          <a:xfrm>
            <a:off x="1777680" y="54936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179280" y="1413000"/>
            <a:ext cx="42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А ПО ПРОЕКТ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чественная война 1812 г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ая мировая война 1914-1918 г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ая мировая война, Великая отечественная 1941-1945 г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енных действий, боев, дорог прохождения войск, мест дислокации вой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ЬЮ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ос очевидцев, участников, их потомков, людей живущих на территории военных событий, экспертов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http://im4-tub-ru.yandex.net/i?id=191995171-18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4360" y="5300640"/>
            <a:ext cx="1276200" cy="1557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http://im0-tub-ru.yandex.net/i?id=402423325-15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59640" y="4076640"/>
            <a:ext cx="2322360" cy="187344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8" descr="http://album.foto.ru/photos/pr0/141148/478978.jpg"/>
          <p:cNvPicPr/>
          <p:nvPr/>
        </p:nvPicPr>
        <p:blipFill>
          <a:blip r:embed="rId7"/>
          <a:stretch/>
        </p:blipFill>
        <p:spPr>
          <a:xfrm>
            <a:off x="5867280" y="1125360"/>
            <a:ext cx="2955960" cy="282924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1">
            <a:hlinkClick r:id="rId8"/>
          </p:cNvPr>
          <p:cNvSpPr/>
          <p:nvPr/>
        </p:nvSpPr>
        <p:spPr>
          <a:xfrm>
            <a:off x="130320" y="-685800"/>
            <a:ext cx="10094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3" descr="http://im2-tub-ru.yandex.net/i?id=268619907-58-72&amp;n=21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4140360" y="2492280"/>
            <a:ext cx="144144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39280" y="2060280"/>
            <a:ext cx="374508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следование мест сражений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Бородинское пол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1" name="Рисунок 4" descr="D:\Общие документы\Фотки\Photos 2011\Бородино\IMG_2464.JPG"/>
          <p:cNvPicPr/>
          <p:nvPr/>
        </p:nvPicPr>
        <p:blipFill>
          <a:blip r:embed="rId1"/>
          <a:stretch/>
        </p:blipFill>
        <p:spPr>
          <a:xfrm>
            <a:off x="4643280" y="1268280"/>
            <a:ext cx="3938760" cy="324036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5"/>
          <p:cNvSpPr/>
          <p:nvPr/>
        </p:nvSpPr>
        <p:spPr>
          <a:xfrm>
            <a:off x="1777680" y="549360"/>
            <a:ext cx="50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6" descr="D:\Общие документы\Фотки\Photos 2011\Бородино\IMG_2466.JPG"/>
          <p:cNvPicPr/>
          <p:nvPr/>
        </p:nvPicPr>
        <p:blipFill>
          <a:blip r:embed="rId2"/>
          <a:stretch/>
        </p:blipFill>
        <p:spPr>
          <a:xfrm>
            <a:off x="468360" y="3500280"/>
            <a:ext cx="3895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0T09:56:05Z</dcterms:created>
  <dc:creator>Полина Пономарева</dc:creator>
  <dc:description/>
  <dc:language>en-US</dc:language>
  <cp:lastModifiedBy>Таня</cp:lastModifiedBy>
  <dcterms:modified xsi:type="dcterms:W3CDTF">2015-02-25T15:42:17Z</dcterms:modified>
  <cp:revision>45</cp:revision>
  <dc:subject/>
  <dc:title>Русский народный промысел – СКАНЬ</dc:title>
</cp:coreProperties>
</file>